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90EEA-28EF-48AB-A007-2CB5132B0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498E7-A896-4986-9FEF-F509EAF01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1AEE7-B104-4676-834B-04916F5F9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1AC21-76BF-458D-9D64-304E9A14B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9B61C-3024-4692-B4F5-A942E39FA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FFFAC-51BB-4E0A-B9F7-E9DD32F31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AF2F2-C92E-47D5-A42E-E04FAF555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CDC5B-F850-4525-958B-AAA2D11B8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A4D8B-76EB-4904-BC35-9229EBB7D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22269-43D7-467D-885D-FE4EA2611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14C65-4EC4-4A13-A375-21E709ECC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C1043-B8BB-4B7B-8795-1E94B7302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3D0A7-99BF-4029-AFAB-2096075098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906768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6768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8T13:26:36Z</dcterms:created>
  <dc:creator>KPC</dc:creator>
  <dc:description/>
  <dc:language>en-US</dc:language>
  <cp:lastModifiedBy>KPC</cp:lastModifiedBy>
  <dcterms:modified xsi:type="dcterms:W3CDTF">2009-02-18T13:33:07Z</dcterms:modified>
  <cp:revision>1</cp:revision>
  <dc:subject/>
  <dc:title>PowerPoint Presentation</dc:title>
</cp:coreProperties>
</file>