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9388475" cy="7099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3AC89-4FF4-454C-A2EA-13ABEA4DE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0EB65-4157-4276-A9AC-3D8685001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1E390-4E0E-4A29-B20F-FB5362B67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72B14-8C2E-424D-9495-6B29CCA58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76B81-91A2-46E1-B175-E69906549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86419-4E6B-44A5-88ED-246C7718C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4C3B8-3DC8-486B-931B-60AAA7135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914F5-1F0F-4504-8FDF-766E66B9F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64262-3B4D-4BBC-B6C5-CEC82DEB4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7A147-AABB-46EB-B55B-2BD632BB6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098ED-2D84-4A5E-8C95-534E3063F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AEA1D-167E-4603-9379-B52485BBA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07D73-014C-4CCB-A13D-DC20C0EBA2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680" y="6497640"/>
            <a:ext cx="532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g. 46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276720" y="2158920"/>
            <a:ext cx="27432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NITOR 441 HEA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L CHECK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 power available in wall outlet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 power plug inserted in wall outlet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as there been a power interruption?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Display window shows 88.88)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as Circulation Fan stopped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 there fuel in tank?  Is tank valve open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as Fuel Constant Level Valve Set Le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ised and lowered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 ON/OFF switch ON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 operation mode on Manual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 set temperature in High position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 Fusible Link Valve "open"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89560" y="5073480"/>
            <a:ext cx="571572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E:  Air Damper in the following Flow Charts refers to the round disk that is installed over the flue pipe air intake flang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re are different ones for the standard installation and installations with flue pipe extensions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"/>
          <p:cNvSpPr/>
          <p:nvPr/>
        </p:nvSpPr>
        <p:spPr>
          <a:xfrm>
            <a:off x="471960" y="176040"/>
            <a:ext cx="39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304920" y="579600"/>
            <a:ext cx="685800" cy="2188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lame failu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1092240" y="252360"/>
            <a:ext cx="1015920" cy="8650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the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.2VDC on IC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in 6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1635480" y="111744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29" name=""/>
          <p:cNvCxnSpPr>
            <a:stCxn id="626" idx="3"/>
            <a:endCxn id="627" idx="1"/>
          </p:cNvCxnSpPr>
          <p:nvPr/>
        </p:nvCxnSpPr>
        <p:spPr>
          <a:xfrm flipV="1">
            <a:off x="990720" y="685080"/>
            <a:ext cx="10224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630" name=""/>
          <p:cNvSpPr/>
          <p:nvPr/>
        </p:nvSpPr>
        <p:spPr>
          <a:xfrm>
            <a:off x="121680" y="6497640"/>
            <a:ext cx="532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g. 53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981080" y="47160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2" name=""/>
          <p:cNvCxnSpPr>
            <a:stCxn id="627" idx="1"/>
            <a:endCxn id="626" idx="3"/>
          </p:cNvCxnSpPr>
          <p:nvPr/>
        </p:nvCxnSpPr>
        <p:spPr>
          <a:xfrm flipH="1">
            <a:off x="990360" y="685440"/>
            <a:ext cx="10224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633" name=""/>
          <p:cNvSpPr/>
          <p:nvPr/>
        </p:nvSpPr>
        <p:spPr>
          <a:xfrm>
            <a:off x="2459160" y="255600"/>
            <a:ext cx="1015920" cy="8650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the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re than 1.3VD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t TP6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3002400" y="112068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3373560" y="47484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3855960" y="255600"/>
            <a:ext cx="1015920" cy="8650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the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0VDC on IC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in 7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4399200" y="112068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4745160" y="47484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3855960" y="1592280"/>
            <a:ext cx="1015920" cy="8650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the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0.2VDC or les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n Q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or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4399200" y="245736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4745160" y="181116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5789520" y="1352520"/>
            <a:ext cx="175284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microprocessor IC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5789520" y="1617840"/>
            <a:ext cx="1752840" cy="1965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resistor R33, R3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5789520" y="587520"/>
            <a:ext cx="1752840" cy="1965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comparator IC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5788080" y="4411800"/>
            <a:ext cx="1752480" cy="1965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transform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5788080" y="4705200"/>
            <a:ext cx="175248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capacitor C14 - C1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789520" y="4992840"/>
            <a:ext cx="1752840" cy="1965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resistor R10, R22 - R2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5789520" y="5791320"/>
            <a:ext cx="1752840" cy="1965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resistor R18 - 21, R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5788080" y="3182760"/>
            <a:ext cx="175248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resistor R2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5788080" y="3460680"/>
            <a:ext cx="175248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diode D1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5788080" y="3738600"/>
            <a:ext cx="175248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capacitor C2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5788080" y="4016520"/>
            <a:ext cx="1752480" cy="1965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transistor Q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53" name=""/>
          <p:cNvCxnSpPr>
            <a:stCxn id="649" idx="1"/>
            <a:endCxn id="651" idx="1"/>
          </p:cNvCxnSpPr>
          <p:nvPr/>
        </p:nvCxnSpPr>
        <p:spPr>
          <a:xfrm flipH="1" flipV="1" rot="10800000">
            <a:off x="5787720" y="3280320"/>
            <a:ext cx="2160" cy="55620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54" name=""/>
          <p:cNvCxnSpPr>
            <a:stCxn id="651" idx="1"/>
            <a:endCxn id="652" idx="1"/>
          </p:cNvCxnSpPr>
          <p:nvPr/>
        </p:nvCxnSpPr>
        <p:spPr>
          <a:xfrm flipH="1" flipV="1" rot="10800000">
            <a:off x="5787720" y="3836880"/>
            <a:ext cx="2160" cy="27828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55" name=""/>
          <p:cNvCxnSpPr>
            <a:stCxn id="639" idx="2"/>
            <a:endCxn id="650" idx="1"/>
          </p:cNvCxnSpPr>
          <p:nvPr/>
        </p:nvCxnSpPr>
        <p:spPr>
          <a:xfrm flipH="1" rot="16200000">
            <a:off x="4524840" y="2295720"/>
            <a:ext cx="1102680" cy="14248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656" name=""/>
          <p:cNvSpPr/>
          <p:nvPr/>
        </p:nvSpPr>
        <p:spPr>
          <a:xfrm>
            <a:off x="5789520" y="1882800"/>
            <a:ext cx="1752840" cy="2840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orrect installation o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lame sensor ro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5789520" y="2236680"/>
            <a:ext cx="1752840" cy="28440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wiring for flam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nsor and grou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58" name=""/>
          <p:cNvCxnSpPr>
            <a:stCxn id="636" idx="3"/>
            <a:endCxn id="644" idx="1"/>
          </p:cNvCxnSpPr>
          <p:nvPr/>
        </p:nvCxnSpPr>
        <p:spPr>
          <a:xfrm flipV="1">
            <a:off x="4871520" y="685080"/>
            <a:ext cx="918360" cy="39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59" name=""/>
          <p:cNvCxnSpPr>
            <a:stCxn id="639" idx="3"/>
            <a:endCxn id="656" idx="1"/>
          </p:cNvCxnSpPr>
          <p:nvPr/>
        </p:nvCxnSpPr>
        <p:spPr>
          <a:xfrm>
            <a:off x="4871520" y="2025360"/>
            <a:ext cx="9183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60" name=""/>
          <p:cNvCxnSpPr>
            <a:stCxn id="642" idx="1"/>
            <a:endCxn id="643" idx="1"/>
          </p:cNvCxnSpPr>
          <p:nvPr/>
        </p:nvCxnSpPr>
        <p:spPr>
          <a:xfrm flipH="1" flipV="1" rot="10800000">
            <a:off x="5788440" y="1449720"/>
            <a:ext cx="2520" cy="26604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61" name=""/>
          <p:cNvCxnSpPr>
            <a:stCxn id="643" idx="1"/>
            <a:endCxn id="657" idx="1"/>
          </p:cNvCxnSpPr>
          <p:nvPr/>
        </p:nvCxnSpPr>
        <p:spPr>
          <a:xfrm flipH="1" flipV="1" rot="10800000">
            <a:off x="5788440" y="1715040"/>
            <a:ext cx="2520" cy="66420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62" name=""/>
          <p:cNvCxnSpPr>
            <a:stCxn id="636" idx="2"/>
            <a:endCxn id="639" idx="0"/>
          </p:cNvCxnSpPr>
          <p:nvPr/>
        </p:nvCxnSpPr>
        <p:spPr>
          <a:xfrm>
            <a:off x="4363560" y="1120680"/>
            <a:ext cx="1080" cy="472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663" name=""/>
          <p:cNvSpPr/>
          <p:nvPr/>
        </p:nvSpPr>
        <p:spPr>
          <a:xfrm>
            <a:off x="7763040" y="2289240"/>
            <a:ext cx="1144440" cy="1792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rect wir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772400" y="1935000"/>
            <a:ext cx="1144440" cy="17964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rect install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65" name=""/>
          <p:cNvCxnSpPr>
            <a:stCxn id="633" idx="2"/>
            <a:endCxn id="646" idx="1"/>
          </p:cNvCxnSpPr>
          <p:nvPr/>
        </p:nvCxnSpPr>
        <p:spPr>
          <a:xfrm flipH="1" rot="16200000">
            <a:off x="2535840" y="1551240"/>
            <a:ext cx="3683880" cy="2821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66" name=""/>
          <p:cNvCxnSpPr>
            <a:stCxn id="645" idx="1"/>
            <a:endCxn id="647" idx="1"/>
          </p:cNvCxnSpPr>
          <p:nvPr/>
        </p:nvCxnSpPr>
        <p:spPr>
          <a:xfrm flipH="1" flipV="1" rot="10800000">
            <a:off x="5787720" y="4510080"/>
            <a:ext cx="2160" cy="58140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667" name=""/>
          <p:cNvSpPr/>
          <p:nvPr/>
        </p:nvSpPr>
        <p:spPr>
          <a:xfrm>
            <a:off x="7772400" y="4419720"/>
            <a:ext cx="1144440" cy="1792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transform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68" name=""/>
          <p:cNvCxnSpPr>
            <a:stCxn id="627" idx="2"/>
            <a:endCxn id="648" idx="1"/>
          </p:cNvCxnSpPr>
          <p:nvPr/>
        </p:nvCxnSpPr>
        <p:spPr>
          <a:xfrm flipH="1" rot="16200000">
            <a:off x="1307880" y="1408680"/>
            <a:ext cx="4772880" cy="41900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69" name=""/>
          <p:cNvCxnSpPr>
            <a:stCxn id="656" idx="3"/>
            <a:endCxn id="664" idx="1"/>
          </p:cNvCxnSpPr>
          <p:nvPr/>
        </p:nvCxnSpPr>
        <p:spPr>
          <a:xfrm>
            <a:off x="7542000" y="2025360"/>
            <a:ext cx="230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70" name=""/>
          <p:cNvCxnSpPr>
            <a:stCxn id="657" idx="3"/>
            <a:endCxn id="663" idx="1"/>
          </p:cNvCxnSpPr>
          <p:nvPr/>
        </p:nvCxnSpPr>
        <p:spPr>
          <a:xfrm>
            <a:off x="7542000" y="2379240"/>
            <a:ext cx="2214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71" name=""/>
          <p:cNvCxnSpPr>
            <a:stCxn id="645" idx="3"/>
            <a:endCxn id="667" idx="1"/>
          </p:cNvCxnSpPr>
          <p:nvPr/>
        </p:nvCxnSpPr>
        <p:spPr>
          <a:xfrm>
            <a:off x="7540560" y="4509720"/>
            <a:ext cx="2325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72" name=""/>
          <p:cNvCxnSpPr>
            <a:stCxn id="627" idx="3"/>
            <a:endCxn id="633" idx="1"/>
          </p:cNvCxnSpPr>
          <p:nvPr/>
        </p:nvCxnSpPr>
        <p:spPr>
          <a:xfrm>
            <a:off x="2107800" y="685440"/>
            <a:ext cx="35136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73" name=""/>
          <p:cNvCxnSpPr>
            <a:stCxn id="633" idx="3"/>
            <a:endCxn id="636" idx="1"/>
          </p:cNvCxnSpPr>
          <p:nvPr/>
        </p:nvCxnSpPr>
        <p:spPr>
          <a:xfrm>
            <a:off x="3475080" y="688680"/>
            <a:ext cx="3816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"/>
          <p:cNvSpPr/>
          <p:nvPr/>
        </p:nvSpPr>
        <p:spPr>
          <a:xfrm>
            <a:off x="471960" y="176040"/>
            <a:ext cx="39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121680" y="6497640"/>
            <a:ext cx="532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g. 53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2276640" y="685800"/>
            <a:ext cx="4419360" cy="28954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LAME ROD BYPASS CIRCU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r testing purposes:  a flame detector rod bypass circuit can be made up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isting of 2 insulated alligator clips, 2 - 6" pieces of insulated copper wire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 - 1/4 watt 400 Volt diode, and 1 - 1/4 watt 100K resistor.  These compone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re to be soldered together in sequence as shown in the diagram below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note component sequence &amp; polarity.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nce the bypass circuit is made, turn the unit on.  Immediately after the prepur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heat cycle, when the mode light comes on, disconnect the wires from the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 and N pins on the PCB and replace with the bypass circuit.  The unit should then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tinue functioning as though it had a good flame inside the burn chamber,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nd service tests such as fuel flow can be check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e: WARNING, after all tests are completed, replace original flame rod wires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s it is a vital safety issu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7" name=""/>
          <p:cNvGrpSpPr/>
          <p:nvPr/>
        </p:nvGrpSpPr>
        <p:grpSpPr>
          <a:xfrm>
            <a:off x="2505240" y="4114800"/>
            <a:ext cx="3774960" cy="906480"/>
            <a:chOff x="2505240" y="4114800"/>
            <a:chExt cx="3774960" cy="906480"/>
          </a:xfrm>
        </p:grpSpPr>
        <p:sp>
          <p:nvSpPr>
            <p:cNvPr id="678" name=""/>
            <p:cNvSpPr/>
            <p:nvPr/>
          </p:nvSpPr>
          <p:spPr>
            <a:xfrm>
              <a:off x="2505240" y="4259160"/>
              <a:ext cx="457200" cy="457200"/>
            </a:xfrm>
            <a:prstGeom prst="flowChartConnector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5823000" y="4259160"/>
              <a:ext cx="457200" cy="457200"/>
            </a:xfrm>
            <a:prstGeom prst="flowChartConnector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943520" y="437184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 flipH="1">
              <a:off x="4790880" y="437184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 flipH="1">
              <a:off x="5095800" y="4487760"/>
              <a:ext cx="76320" cy="112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4334040" y="437184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 flipH="1">
              <a:off x="4257720" y="4371840"/>
              <a:ext cx="76320" cy="11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4638600" y="437184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 flipH="1">
              <a:off x="4485960" y="437184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 rot="5400000">
              <a:off x="3588840" y="4373640"/>
              <a:ext cx="273240" cy="22860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3840120" y="4351320"/>
              <a:ext cx="1800" cy="27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89" name=""/>
            <p:cNvCxnSpPr>
              <a:stCxn id="678" idx="6"/>
              <a:endCxn id="687" idx="3"/>
            </p:cNvCxnSpPr>
            <p:nvPr/>
          </p:nvCxnSpPr>
          <p:spPr>
            <a:xfrm flipV="1">
              <a:off x="2962080" y="4485960"/>
              <a:ext cx="64836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690" name=""/>
            <p:cNvCxnSpPr>
              <a:stCxn id="687" idx="0"/>
              <a:endCxn id="684" idx="0"/>
            </p:cNvCxnSpPr>
            <p:nvPr/>
          </p:nvCxnSpPr>
          <p:spPr>
            <a:xfrm>
              <a:off x="3838680" y="4485960"/>
              <a:ext cx="4197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691" name=""/>
            <p:cNvCxnSpPr>
              <a:stCxn id="682" idx="0"/>
              <a:endCxn id="679" idx="2"/>
            </p:cNvCxnSpPr>
            <p:nvPr/>
          </p:nvCxnSpPr>
          <p:spPr>
            <a:xfrm>
              <a:off x="5172120" y="4487400"/>
              <a:ext cx="6516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692" name=""/>
            <p:cNvSpPr/>
            <p:nvPr/>
          </p:nvSpPr>
          <p:spPr>
            <a:xfrm>
              <a:off x="3423240" y="4114800"/>
              <a:ext cx="5356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N400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4428720" y="4114800"/>
              <a:ext cx="4183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00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4029120" y="4792680"/>
              <a:ext cx="533520" cy="228600"/>
            </a:xfrm>
            <a:prstGeom prst="flowChart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lip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5" name=""/>
            <p:cNvCxnSpPr>
              <a:endCxn id="679" idx="3"/>
            </p:cNvCxnSpPr>
            <p:nvPr/>
          </p:nvCxnSpPr>
          <p:spPr>
            <a:xfrm flipV="1">
              <a:off x="4562640" y="4649760"/>
              <a:ext cx="1327680" cy="29556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6" name=""/>
            <p:cNvCxnSpPr>
              <a:stCxn id="694" idx="1"/>
              <a:endCxn id="678" idx="5"/>
            </p:cNvCxnSpPr>
            <p:nvPr/>
          </p:nvCxnSpPr>
          <p:spPr>
            <a:xfrm rot="10800000">
              <a:off x="2894760" y="4649040"/>
              <a:ext cx="1134360" cy="25776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697" name=""/>
          <p:cNvGrpSpPr/>
          <p:nvPr/>
        </p:nvGrpSpPr>
        <p:grpSpPr>
          <a:xfrm>
            <a:off x="6505560" y="4487760"/>
            <a:ext cx="504360" cy="550800"/>
            <a:chOff x="6505560" y="4487760"/>
            <a:chExt cx="504360" cy="550800"/>
          </a:xfrm>
        </p:grpSpPr>
        <p:sp>
          <p:nvSpPr>
            <p:cNvPr id="698" name=""/>
            <p:cNvSpPr/>
            <p:nvPr/>
          </p:nvSpPr>
          <p:spPr>
            <a:xfrm>
              <a:off x="6629040" y="48862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6705360" y="4962240"/>
              <a:ext cx="228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6781680" y="5038560"/>
              <a:ext cx="75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 flipV="1">
              <a:off x="6819840" y="4487760"/>
              <a:ext cx="0" cy="38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6505560" y="4487760"/>
              <a:ext cx="314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"/>
          <p:cNvSpPr/>
          <p:nvPr/>
        </p:nvSpPr>
        <p:spPr>
          <a:xfrm>
            <a:off x="471960" y="360360"/>
            <a:ext cx="39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55160" y="6497640"/>
            <a:ext cx="464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g. 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338040" y="804960"/>
            <a:ext cx="981000" cy="5191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ange of bur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:  High--Low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improp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1447920" y="598320"/>
            <a:ext cx="685800" cy="9399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 10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sistor to Q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ins on PC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nd then se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eratu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om Low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o Hig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992320" y="85392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679840" y="143028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286000" y="662040"/>
            <a:ext cx="836640" cy="8110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eratu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spla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rmal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4191120" y="85392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3800880" y="144612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3276720" y="635040"/>
            <a:ext cx="1015920" cy="8650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solenoi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ump able 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ange fuel flow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ate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5143680" y="72720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4975560" y="144612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4451400" y="635040"/>
            <a:ext cx="1015920" cy="8650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circul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n motor able 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ange speed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5797440" y="3390840"/>
            <a:ext cx="175284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microprocessor IC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5797440" y="3683160"/>
            <a:ext cx="1752840" cy="1965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inverter array IC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5797440" y="4267080"/>
            <a:ext cx="175284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microprocessor IC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5797440" y="3975120"/>
            <a:ext cx="175284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circulation fan mot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5799240" y="4559400"/>
            <a:ext cx="175248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photo-coupler IC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5797440" y="3100320"/>
            <a:ext cx="175284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photo-triac IC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5797440" y="387360"/>
            <a:ext cx="175284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microprocessor IC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5797440" y="677880"/>
            <a:ext cx="175284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inverter array IC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5797440" y="969840"/>
            <a:ext cx="175284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photo-triac IC8, IC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5797440" y="1262160"/>
            <a:ext cx="175284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triac Q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6" name=""/>
          <p:cNvCxnSpPr>
            <a:stCxn id="722" idx="1"/>
            <a:endCxn id="724" idx="1"/>
          </p:cNvCxnSpPr>
          <p:nvPr/>
        </p:nvCxnSpPr>
        <p:spPr>
          <a:xfrm flipH="1" flipV="1" rot="10800000">
            <a:off x="5796360" y="484560"/>
            <a:ext cx="2520" cy="5835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27" name=""/>
          <p:cNvCxnSpPr>
            <a:stCxn id="724" idx="1"/>
            <a:endCxn id="725" idx="1"/>
          </p:cNvCxnSpPr>
          <p:nvPr/>
        </p:nvCxnSpPr>
        <p:spPr>
          <a:xfrm flipH="1" flipV="1" rot="10800000">
            <a:off x="5796360" y="1067400"/>
            <a:ext cx="2520" cy="29268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728" name=""/>
          <p:cNvSpPr/>
          <p:nvPr/>
        </p:nvSpPr>
        <p:spPr>
          <a:xfrm>
            <a:off x="5797440" y="2428920"/>
            <a:ext cx="1752840" cy="2840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resistor f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bustion Blow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9" name=""/>
          <p:cNvCxnSpPr>
            <a:stCxn id="716" idx="1"/>
            <a:endCxn id="717" idx="1"/>
          </p:cNvCxnSpPr>
          <p:nvPr/>
        </p:nvCxnSpPr>
        <p:spPr>
          <a:xfrm flipH="1" flipV="1" rot="10800000">
            <a:off x="5796360" y="3488400"/>
            <a:ext cx="2520" cy="29268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730" name=""/>
          <p:cNvSpPr/>
          <p:nvPr/>
        </p:nvSpPr>
        <p:spPr>
          <a:xfrm>
            <a:off x="7781760" y="5149800"/>
            <a:ext cx="1144800" cy="1792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solenoid pum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31" name=""/>
          <p:cNvCxnSpPr>
            <a:stCxn id="732" idx="3"/>
            <a:endCxn id="730" idx="1"/>
          </p:cNvCxnSpPr>
          <p:nvPr/>
        </p:nvCxnSpPr>
        <p:spPr>
          <a:xfrm>
            <a:off x="7549920" y="5239800"/>
            <a:ext cx="232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733" name=""/>
          <p:cNvSpPr/>
          <p:nvPr/>
        </p:nvSpPr>
        <p:spPr>
          <a:xfrm>
            <a:off x="5797440" y="1554120"/>
            <a:ext cx="175284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resistor R1, R51, R5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5797440" y="1844640"/>
            <a:ext cx="175284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capacitor C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5797440" y="2136600"/>
            <a:ext cx="175284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Combustion Blow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5797440" y="2808360"/>
            <a:ext cx="175284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Damper Solenoi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37" name=""/>
          <p:cNvCxnSpPr>
            <a:stCxn id="733" idx="1"/>
            <a:endCxn id="735" idx="1"/>
          </p:cNvCxnSpPr>
          <p:nvPr/>
        </p:nvCxnSpPr>
        <p:spPr>
          <a:xfrm flipH="1" flipV="1" rot="10800000">
            <a:off x="5796360" y="1652400"/>
            <a:ext cx="2520" cy="58320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738" name=""/>
          <p:cNvSpPr/>
          <p:nvPr/>
        </p:nvSpPr>
        <p:spPr>
          <a:xfrm>
            <a:off x="7756560" y="2082960"/>
            <a:ext cx="1144440" cy="30456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bustion blow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7772400" y="2754360"/>
            <a:ext cx="1144440" cy="3049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amper solenoi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0" name=""/>
          <p:cNvCxnSpPr>
            <a:stCxn id="736" idx="1"/>
            <a:endCxn id="728" idx="1"/>
          </p:cNvCxnSpPr>
          <p:nvPr/>
        </p:nvCxnSpPr>
        <p:spPr>
          <a:xfrm flipH="1" rot="10800000">
            <a:off x="5796360" y="2571120"/>
            <a:ext cx="2520" cy="3355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41" name=""/>
          <p:cNvCxnSpPr>
            <a:stCxn id="728" idx="1"/>
            <a:endCxn id="734" idx="1"/>
          </p:cNvCxnSpPr>
          <p:nvPr/>
        </p:nvCxnSpPr>
        <p:spPr>
          <a:xfrm flipH="1" rot="10800000">
            <a:off x="5796360" y="1942560"/>
            <a:ext cx="2520" cy="62928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42" name=""/>
          <p:cNvCxnSpPr>
            <a:stCxn id="733" idx="1"/>
            <a:endCxn id="723" idx="1"/>
          </p:cNvCxnSpPr>
          <p:nvPr/>
        </p:nvCxnSpPr>
        <p:spPr>
          <a:xfrm flipH="1" rot="10800000">
            <a:off x="5796360" y="775440"/>
            <a:ext cx="2520" cy="8773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743" name=""/>
          <p:cNvSpPr/>
          <p:nvPr/>
        </p:nvSpPr>
        <p:spPr>
          <a:xfrm>
            <a:off x="7781760" y="3921120"/>
            <a:ext cx="1144800" cy="3049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circul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n mot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4" name=""/>
          <p:cNvCxnSpPr>
            <a:stCxn id="715" idx="2"/>
            <a:endCxn id="716" idx="1"/>
          </p:cNvCxnSpPr>
          <p:nvPr/>
        </p:nvCxnSpPr>
        <p:spPr>
          <a:xfrm flipH="1" rot="16200000">
            <a:off x="4383720" y="2075400"/>
            <a:ext cx="1990080" cy="8388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45" name=""/>
          <p:cNvCxnSpPr>
            <a:stCxn id="721" idx="1"/>
            <a:endCxn id="719" idx="1"/>
          </p:cNvCxnSpPr>
          <p:nvPr/>
        </p:nvCxnSpPr>
        <p:spPr>
          <a:xfrm flipH="1" flipV="1" rot="10800000">
            <a:off x="5796360" y="3197880"/>
            <a:ext cx="2520" cy="8751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746" name=""/>
          <p:cNvSpPr/>
          <p:nvPr/>
        </p:nvSpPr>
        <p:spPr>
          <a:xfrm>
            <a:off x="5799240" y="4849920"/>
            <a:ext cx="175248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inverter array IC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5797440" y="5141880"/>
            <a:ext cx="175284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solenoid pum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7" name=""/>
          <p:cNvCxnSpPr>
            <a:stCxn id="732" idx="1"/>
            <a:endCxn id="718" idx="1"/>
          </p:cNvCxnSpPr>
          <p:nvPr/>
        </p:nvCxnSpPr>
        <p:spPr>
          <a:xfrm flipH="1" rot="10800000">
            <a:off x="5796360" y="4365000"/>
            <a:ext cx="2520" cy="8751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48" name=""/>
          <p:cNvCxnSpPr>
            <a:stCxn id="712" idx="2"/>
            <a:endCxn id="720" idx="1"/>
          </p:cNvCxnSpPr>
          <p:nvPr/>
        </p:nvCxnSpPr>
        <p:spPr>
          <a:xfrm flipH="1" rot="16200000">
            <a:off x="3213000" y="2071080"/>
            <a:ext cx="3158280" cy="20152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49" name=""/>
          <p:cNvCxnSpPr>
            <a:stCxn id="746" idx="1"/>
            <a:endCxn id="720" idx="1"/>
          </p:cNvCxnSpPr>
          <p:nvPr/>
        </p:nvCxnSpPr>
        <p:spPr>
          <a:xfrm flipH="1" rot="10800000">
            <a:off x="5798880" y="4656960"/>
            <a:ext cx="2160" cy="29124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750" name=""/>
          <p:cNvSpPr/>
          <p:nvPr/>
        </p:nvSpPr>
        <p:spPr>
          <a:xfrm>
            <a:off x="2992320" y="531828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2679840" y="589428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2286000" y="5126040"/>
            <a:ext cx="836640" cy="8110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re approx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.8VDC a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P4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5799240" y="5433840"/>
            <a:ext cx="175248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microprocessor IC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4" name=""/>
          <p:cNvCxnSpPr>
            <a:stCxn id="753" idx="1"/>
            <a:endCxn id="752" idx="3"/>
          </p:cNvCxnSpPr>
          <p:nvPr/>
        </p:nvCxnSpPr>
        <p:spPr>
          <a:xfrm flipH="1">
            <a:off x="3121920" y="5532120"/>
            <a:ext cx="2677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755" name=""/>
          <p:cNvSpPr/>
          <p:nvPr/>
        </p:nvSpPr>
        <p:spPr>
          <a:xfrm>
            <a:off x="5799240" y="5726160"/>
            <a:ext cx="175248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resistor R12, R1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5799240" y="6018120"/>
            <a:ext cx="175248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capacitor C1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7" name=""/>
          <p:cNvCxnSpPr>
            <a:stCxn id="755" idx="1"/>
            <a:endCxn id="756" idx="1"/>
          </p:cNvCxnSpPr>
          <p:nvPr/>
        </p:nvCxnSpPr>
        <p:spPr>
          <a:xfrm flipH="1" flipV="1" rot="10800000">
            <a:off x="5798880" y="5824080"/>
            <a:ext cx="2160" cy="29304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58" name=""/>
          <p:cNvCxnSpPr>
            <a:stCxn id="752" idx="2"/>
            <a:endCxn id="756" idx="1"/>
          </p:cNvCxnSpPr>
          <p:nvPr/>
        </p:nvCxnSpPr>
        <p:spPr>
          <a:xfrm flipH="1" rot="16200000">
            <a:off x="4161240" y="4479480"/>
            <a:ext cx="180360" cy="3094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59" name=""/>
          <p:cNvCxnSpPr>
            <a:stCxn id="709" idx="2"/>
            <a:endCxn id="752" idx="0"/>
          </p:cNvCxnSpPr>
          <p:nvPr/>
        </p:nvCxnSpPr>
        <p:spPr>
          <a:xfrm>
            <a:off x="2704680" y="1472760"/>
            <a:ext cx="1080" cy="3653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60" name=""/>
          <p:cNvCxnSpPr>
            <a:stCxn id="719" idx="3"/>
            <a:endCxn id="743" idx="1"/>
          </p:cNvCxnSpPr>
          <p:nvPr/>
        </p:nvCxnSpPr>
        <p:spPr>
          <a:xfrm>
            <a:off x="7549920" y="4073040"/>
            <a:ext cx="232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61" name=""/>
          <p:cNvCxnSpPr>
            <a:stCxn id="735" idx="3"/>
            <a:endCxn id="738" idx="1"/>
          </p:cNvCxnSpPr>
          <p:nvPr/>
        </p:nvCxnSpPr>
        <p:spPr>
          <a:xfrm>
            <a:off x="7549920" y="2234880"/>
            <a:ext cx="207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62" name=""/>
          <p:cNvCxnSpPr>
            <a:stCxn id="736" idx="3"/>
            <a:endCxn id="739" idx="1"/>
          </p:cNvCxnSpPr>
          <p:nvPr/>
        </p:nvCxnSpPr>
        <p:spPr>
          <a:xfrm>
            <a:off x="7549920" y="2906280"/>
            <a:ext cx="2228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763" name=""/>
          <p:cNvSpPr/>
          <p:nvPr/>
        </p:nvSpPr>
        <p:spPr>
          <a:xfrm>
            <a:off x="7756560" y="2419200"/>
            <a:ext cx="1144440" cy="3049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resistor f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bustion Blow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4" name=""/>
          <p:cNvCxnSpPr>
            <a:stCxn id="728" idx="3"/>
            <a:endCxn id="763" idx="1"/>
          </p:cNvCxnSpPr>
          <p:nvPr/>
        </p:nvCxnSpPr>
        <p:spPr>
          <a:xfrm>
            <a:off x="7549920" y="2571480"/>
            <a:ext cx="207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65" name=""/>
          <p:cNvCxnSpPr>
            <a:stCxn id="712" idx="3"/>
            <a:endCxn id="715" idx="1"/>
          </p:cNvCxnSpPr>
          <p:nvPr/>
        </p:nvCxnSpPr>
        <p:spPr>
          <a:xfrm>
            <a:off x="4292280" y="1068120"/>
            <a:ext cx="159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66" name=""/>
          <p:cNvCxnSpPr>
            <a:stCxn id="709" idx="3"/>
            <a:endCxn id="712" idx="1"/>
          </p:cNvCxnSpPr>
          <p:nvPr/>
        </p:nvCxnSpPr>
        <p:spPr>
          <a:xfrm>
            <a:off x="3122640" y="1068120"/>
            <a:ext cx="1548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67" name=""/>
          <p:cNvCxnSpPr>
            <a:stCxn id="706" idx="3"/>
            <a:endCxn id="709" idx="1"/>
          </p:cNvCxnSpPr>
          <p:nvPr/>
        </p:nvCxnSpPr>
        <p:spPr>
          <a:xfrm>
            <a:off x="2133360" y="1068120"/>
            <a:ext cx="153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68" name=""/>
          <p:cNvCxnSpPr>
            <a:stCxn id="705" idx="3"/>
            <a:endCxn id="706" idx="1"/>
          </p:cNvCxnSpPr>
          <p:nvPr/>
        </p:nvCxnSpPr>
        <p:spPr>
          <a:xfrm>
            <a:off x="1319040" y="1064880"/>
            <a:ext cx="12924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69" name=""/>
          <p:cNvCxnSpPr>
            <a:stCxn id="715" idx="3"/>
            <a:endCxn id="724" idx="1"/>
          </p:cNvCxnSpPr>
          <p:nvPr/>
        </p:nvCxnSpPr>
        <p:spPr>
          <a:xfrm>
            <a:off x="5466960" y="1068120"/>
            <a:ext cx="3308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986120" y="107784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3640" y="160020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759120" y="126540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92840" y="217980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948200" y="83988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8480" y="121932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214280" y="988920"/>
            <a:ext cx="914400" cy="6098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RU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amp lit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286000" y="282600"/>
            <a:ext cx="1523880" cy="202392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Igniter red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eck visuall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rough th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bustion Chamb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iewing window or feel igni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ver after 3.5 minut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purge preheat. 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hould  be warm 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touch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119480" y="685800"/>
            <a:ext cx="914400" cy="6094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there flame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119480" y="1373040"/>
            <a:ext cx="914400" cy="8654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bus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lower mot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perate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013360" y="176040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3800" y="221472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" name=""/>
          <p:cNvCxnSpPr>
            <a:endCxn id="50" idx="1"/>
          </p:cNvCxnSpPr>
          <p:nvPr/>
        </p:nvCxnSpPr>
        <p:spPr>
          <a:xfrm>
            <a:off x="985320" y="1293480"/>
            <a:ext cx="229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7" name=""/>
          <p:cNvCxnSpPr>
            <a:stCxn id="50" idx="3"/>
            <a:endCxn id="51" idx="1"/>
          </p:cNvCxnSpPr>
          <p:nvPr/>
        </p:nvCxnSpPr>
        <p:spPr>
          <a:xfrm>
            <a:off x="2128320" y="1293840"/>
            <a:ext cx="1580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8" name=""/>
          <p:cNvCxnSpPr>
            <a:stCxn id="51" idx="3"/>
            <a:endCxn id="52" idx="1"/>
          </p:cNvCxnSpPr>
          <p:nvPr/>
        </p:nvCxnSpPr>
        <p:spPr>
          <a:xfrm flipV="1">
            <a:off x="3809880" y="990360"/>
            <a:ext cx="310320" cy="305280"/>
          </a:xfrm>
          <a:prstGeom prst="bentConnector3">
            <a:avLst>
              <a:gd name="adj1" fmla="val 4970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9" name=""/>
          <p:cNvSpPr/>
          <p:nvPr/>
        </p:nvSpPr>
        <p:spPr>
          <a:xfrm>
            <a:off x="513720" y="781200"/>
            <a:ext cx="30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119480" y="2363760"/>
            <a:ext cx="914400" cy="6094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wir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rect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948200" y="250524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573800" y="294012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04920" y="1182600"/>
            <a:ext cx="685800" cy="21924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 Igni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703840" y="343080"/>
            <a:ext cx="1752480" cy="1951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Circuit Boa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773840" y="233280"/>
            <a:ext cx="1143000" cy="3049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or chec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rcuit Boa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6" name=""/>
          <p:cNvCxnSpPr>
            <a:stCxn id="52" idx="3"/>
            <a:endCxn id="67" idx="1"/>
          </p:cNvCxnSpPr>
          <p:nvPr/>
        </p:nvCxnSpPr>
        <p:spPr>
          <a:xfrm flipV="1">
            <a:off x="5033520" y="754920"/>
            <a:ext cx="670680" cy="235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8" name=""/>
          <p:cNvCxnSpPr>
            <a:stCxn id="64" idx="3"/>
            <a:endCxn id="65" idx="1"/>
          </p:cNvCxnSpPr>
          <p:nvPr/>
        </p:nvCxnSpPr>
        <p:spPr>
          <a:xfrm flipV="1">
            <a:off x="7456320" y="385560"/>
            <a:ext cx="317880" cy="56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9" name=""/>
          <p:cNvCxnSpPr>
            <a:stCxn id="52" idx="2"/>
            <a:endCxn id="53" idx="0"/>
          </p:cNvCxnSpPr>
          <p:nvPr/>
        </p:nvCxnSpPr>
        <p:spPr>
          <a:xfrm>
            <a:off x="4576320" y="1295280"/>
            <a:ext cx="1080" cy="784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0" name=""/>
          <p:cNvCxnSpPr>
            <a:stCxn id="53" idx="2"/>
            <a:endCxn id="60" idx="0"/>
          </p:cNvCxnSpPr>
          <p:nvPr/>
        </p:nvCxnSpPr>
        <p:spPr>
          <a:xfrm>
            <a:off x="4576320" y="2238480"/>
            <a:ext cx="1080" cy="126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67" name=""/>
          <p:cNvSpPr/>
          <p:nvPr/>
        </p:nvSpPr>
        <p:spPr>
          <a:xfrm>
            <a:off x="5703840" y="625320"/>
            <a:ext cx="1752480" cy="2588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orrect wiring of Flame Sensor 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ou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773840" y="604800"/>
            <a:ext cx="1143000" cy="21420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rect wiring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703840" y="969840"/>
            <a:ext cx="1752480" cy="2764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lame Sensor Rod touching burn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rts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773840" y="885960"/>
            <a:ext cx="1143000" cy="21564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rect or chan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" name=""/>
          <p:cNvCxnSpPr>
            <a:stCxn id="67" idx="3"/>
            <a:endCxn id="71" idx="1"/>
          </p:cNvCxnSpPr>
          <p:nvPr/>
        </p:nvCxnSpPr>
        <p:spPr>
          <a:xfrm flipV="1">
            <a:off x="7456320" y="712080"/>
            <a:ext cx="317880" cy="43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5" name=""/>
          <p:cNvCxnSpPr>
            <a:stCxn id="72" idx="3"/>
            <a:endCxn id="73" idx="1"/>
          </p:cNvCxnSpPr>
          <p:nvPr/>
        </p:nvCxnSpPr>
        <p:spPr>
          <a:xfrm flipV="1">
            <a:off x="7456320" y="993240"/>
            <a:ext cx="317880" cy="1152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6" name=""/>
          <p:cNvCxnSpPr>
            <a:stCxn id="64" idx="1"/>
            <a:endCxn id="72" idx="1"/>
          </p:cNvCxnSpPr>
          <p:nvPr/>
        </p:nvCxnSpPr>
        <p:spPr>
          <a:xfrm flipH="1" flipV="1" rot="10800000">
            <a:off x="5702760" y="441000"/>
            <a:ext cx="2520" cy="66744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77" name=""/>
          <p:cNvSpPr/>
          <p:nvPr/>
        </p:nvSpPr>
        <p:spPr>
          <a:xfrm>
            <a:off x="5703840" y="1316160"/>
            <a:ext cx="1752480" cy="1965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Air Pressure Sens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773840" y="1170000"/>
            <a:ext cx="1144800" cy="3049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ure Switc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" name=""/>
          <p:cNvCxnSpPr>
            <a:stCxn id="77" idx="3"/>
            <a:endCxn id="78" idx="1"/>
          </p:cNvCxnSpPr>
          <p:nvPr/>
        </p:nvCxnSpPr>
        <p:spPr>
          <a:xfrm flipV="1">
            <a:off x="7456320" y="1321920"/>
            <a:ext cx="317880" cy="92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80" name=""/>
          <p:cNvSpPr/>
          <p:nvPr/>
        </p:nvSpPr>
        <p:spPr>
          <a:xfrm>
            <a:off x="5703840" y="1593720"/>
            <a:ext cx="1752480" cy="223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Solenoid Pum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73840" y="1541520"/>
            <a:ext cx="1144800" cy="1936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Solenoid Pum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703840" y="1895400"/>
            <a:ext cx="1752480" cy="24120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as Constant Level Valve safet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ripped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773840" y="1803240"/>
            <a:ext cx="1144800" cy="3049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set the fue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tant Level Valv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80" idx="3"/>
            <a:endCxn id="81" idx="1"/>
          </p:cNvCxnSpPr>
          <p:nvPr/>
        </p:nvCxnSpPr>
        <p:spPr>
          <a:xfrm flipV="1">
            <a:off x="7456320" y="1637640"/>
            <a:ext cx="317880" cy="687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5" name=""/>
          <p:cNvCxnSpPr>
            <a:stCxn id="82" idx="3"/>
            <a:endCxn id="83" idx="1"/>
          </p:cNvCxnSpPr>
          <p:nvPr/>
        </p:nvCxnSpPr>
        <p:spPr>
          <a:xfrm flipV="1">
            <a:off x="7456320" y="1955160"/>
            <a:ext cx="317880" cy="60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6" name=""/>
          <p:cNvCxnSpPr>
            <a:stCxn id="77" idx="1"/>
            <a:endCxn id="82" idx="1"/>
          </p:cNvCxnSpPr>
          <p:nvPr/>
        </p:nvCxnSpPr>
        <p:spPr>
          <a:xfrm flipH="1" flipV="1" rot="10800000">
            <a:off x="5702760" y="1413360"/>
            <a:ext cx="2520" cy="60228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7" name=""/>
          <p:cNvCxnSpPr>
            <a:stCxn id="53" idx="3"/>
            <a:endCxn id="80" idx="1"/>
          </p:cNvCxnSpPr>
          <p:nvPr/>
        </p:nvCxnSpPr>
        <p:spPr>
          <a:xfrm flipV="1">
            <a:off x="5033520" y="1706040"/>
            <a:ext cx="670680" cy="100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88" name=""/>
          <p:cNvSpPr/>
          <p:nvPr/>
        </p:nvSpPr>
        <p:spPr>
          <a:xfrm>
            <a:off x="5703840" y="2319480"/>
            <a:ext cx="1752480" cy="1951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Combustion Blower Mot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773840" y="2174760"/>
            <a:ext cx="1143000" cy="3049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Combus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lower Mot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8" idx="3"/>
            <a:endCxn id="89" idx="1"/>
          </p:cNvCxnSpPr>
          <p:nvPr/>
        </p:nvCxnSpPr>
        <p:spPr>
          <a:xfrm flipV="1">
            <a:off x="7456320" y="2326680"/>
            <a:ext cx="317880" cy="9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91" name=""/>
          <p:cNvSpPr/>
          <p:nvPr/>
        </p:nvSpPr>
        <p:spPr>
          <a:xfrm>
            <a:off x="5703840" y="2602080"/>
            <a:ext cx="1752480" cy="1299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Circuit Boa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773840" y="2548080"/>
            <a:ext cx="1143000" cy="30456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or chec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rcuit Boa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703840" y="2916360"/>
            <a:ext cx="1752480" cy="137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orrect wir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773840" y="2919240"/>
            <a:ext cx="1143000" cy="15264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rect wir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1" idx="3"/>
            <a:endCxn id="92" idx="1"/>
          </p:cNvCxnSpPr>
          <p:nvPr/>
        </p:nvCxnSpPr>
        <p:spPr>
          <a:xfrm>
            <a:off x="7456320" y="2666520"/>
            <a:ext cx="317880" cy="342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6" name=""/>
          <p:cNvCxnSpPr>
            <a:stCxn id="93" idx="3"/>
            <a:endCxn id="94" idx="1"/>
          </p:cNvCxnSpPr>
          <p:nvPr/>
        </p:nvCxnSpPr>
        <p:spPr>
          <a:xfrm>
            <a:off x="7456320" y="2986200"/>
            <a:ext cx="317880" cy="10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7" name=""/>
          <p:cNvCxnSpPr>
            <a:stCxn id="88" idx="1"/>
            <a:endCxn id="91" idx="1"/>
          </p:cNvCxnSpPr>
          <p:nvPr/>
        </p:nvCxnSpPr>
        <p:spPr>
          <a:xfrm flipH="1" flipV="1" rot="10800000">
            <a:off x="5702760" y="2417400"/>
            <a:ext cx="2520" cy="24984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98" name=""/>
          <p:cNvSpPr/>
          <p:nvPr/>
        </p:nvSpPr>
        <p:spPr>
          <a:xfrm>
            <a:off x="5703840" y="3886200"/>
            <a:ext cx="1752480" cy="1587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Igni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773840" y="3800520"/>
            <a:ext cx="1144800" cy="1792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Igni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98" idx="3"/>
            <a:endCxn id="99" idx="1"/>
          </p:cNvCxnSpPr>
          <p:nvPr/>
        </p:nvCxnSpPr>
        <p:spPr>
          <a:xfrm flipV="1">
            <a:off x="7456320" y="3890160"/>
            <a:ext cx="317880" cy="75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01" name=""/>
          <p:cNvSpPr/>
          <p:nvPr/>
        </p:nvSpPr>
        <p:spPr>
          <a:xfrm>
            <a:off x="5703840" y="4267080"/>
            <a:ext cx="1752480" cy="1526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Circuit Boa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773840" y="4048200"/>
            <a:ext cx="1144800" cy="30456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or chec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rcuit Boa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703840" y="4557600"/>
            <a:ext cx="1752480" cy="14940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orrect wir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3840" y="4419720"/>
            <a:ext cx="1144800" cy="1522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rect wir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5" name=""/>
          <p:cNvCxnSpPr>
            <a:stCxn id="101" idx="3"/>
            <a:endCxn id="102" idx="1"/>
          </p:cNvCxnSpPr>
          <p:nvPr/>
        </p:nvCxnSpPr>
        <p:spPr>
          <a:xfrm flipV="1">
            <a:off x="7456320" y="4199760"/>
            <a:ext cx="317880" cy="143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6" name=""/>
          <p:cNvCxnSpPr>
            <a:stCxn id="103" idx="3"/>
            <a:endCxn id="104" idx="1"/>
          </p:cNvCxnSpPr>
          <p:nvPr/>
        </p:nvCxnSpPr>
        <p:spPr>
          <a:xfrm flipV="1">
            <a:off x="7456320" y="4495320"/>
            <a:ext cx="317880" cy="137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7" name=""/>
          <p:cNvCxnSpPr>
            <a:stCxn id="91" idx="1"/>
            <a:endCxn id="60" idx="3"/>
          </p:cNvCxnSpPr>
          <p:nvPr/>
        </p:nvCxnSpPr>
        <p:spPr>
          <a:xfrm flipV="1" rot="10800000">
            <a:off x="5033160" y="2665800"/>
            <a:ext cx="67068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8" name=""/>
          <p:cNvCxnSpPr>
            <a:stCxn id="93" idx="1"/>
            <a:endCxn id="60" idx="2"/>
          </p:cNvCxnSpPr>
          <p:nvPr/>
        </p:nvCxnSpPr>
        <p:spPr>
          <a:xfrm rot="10800000">
            <a:off x="4575960" y="2972520"/>
            <a:ext cx="1127880" cy="13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09" name=""/>
          <p:cNvSpPr/>
          <p:nvPr/>
        </p:nvSpPr>
        <p:spPr>
          <a:xfrm>
            <a:off x="2286000" y="2417760"/>
            <a:ext cx="1523880" cy="72540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. Push ON/OFF Switch O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. Remove Igniter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. Disconnect wiring for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lenoid Pump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. Push ON/OFF Switch ON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357720" y="339408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202200" y="383364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590920" y="3305160"/>
            <a:ext cx="914400" cy="6094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Igniter red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703840" y="3171960"/>
            <a:ext cx="1752480" cy="2714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ot adhering to combus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amber interi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773840" y="3139920"/>
            <a:ext cx="1144800" cy="3049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ean gently wi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ush, etc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703840" y="3516480"/>
            <a:ext cx="1752480" cy="1792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Solenoid Pum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773840" y="3511440"/>
            <a:ext cx="1144800" cy="2224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Solenoid Pum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7" name=""/>
          <p:cNvCxnSpPr>
            <a:stCxn id="115" idx="1"/>
            <a:endCxn id="113" idx="1"/>
          </p:cNvCxnSpPr>
          <p:nvPr/>
        </p:nvCxnSpPr>
        <p:spPr>
          <a:xfrm flipH="1" rot="10800000">
            <a:off x="5702760" y="3307680"/>
            <a:ext cx="2520" cy="2991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8" name=""/>
          <p:cNvCxnSpPr>
            <a:stCxn id="113" idx="3"/>
            <a:endCxn id="114" idx="1"/>
          </p:cNvCxnSpPr>
          <p:nvPr/>
        </p:nvCxnSpPr>
        <p:spPr>
          <a:xfrm flipV="1">
            <a:off x="7456320" y="3292200"/>
            <a:ext cx="317880" cy="16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stCxn id="115" idx="3"/>
            <a:endCxn id="116" idx="1"/>
          </p:cNvCxnSpPr>
          <p:nvPr/>
        </p:nvCxnSpPr>
        <p:spPr>
          <a:xfrm>
            <a:off x="7456320" y="3606840"/>
            <a:ext cx="317880" cy="16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0" name=""/>
          <p:cNvCxnSpPr>
            <a:stCxn id="112" idx="0"/>
            <a:endCxn id="109" idx="2"/>
          </p:cNvCxnSpPr>
          <p:nvPr/>
        </p:nvCxnSpPr>
        <p:spPr>
          <a:xfrm flipV="1">
            <a:off x="3047760" y="3142800"/>
            <a:ext cx="1080" cy="162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1" name=""/>
          <p:cNvSpPr/>
          <p:nvPr/>
        </p:nvSpPr>
        <p:spPr>
          <a:xfrm>
            <a:off x="3292560" y="4094280"/>
            <a:ext cx="1015920" cy="8650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there 110V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t "B" pins 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rcuit Board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12" idx="3"/>
            <a:endCxn id="115" idx="1"/>
          </p:cNvCxnSpPr>
          <p:nvPr/>
        </p:nvCxnSpPr>
        <p:spPr>
          <a:xfrm flipV="1">
            <a:off x="3504960" y="3606120"/>
            <a:ext cx="219924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>
            <a:stCxn id="98" idx="1"/>
            <a:endCxn id="121" idx="3"/>
          </p:cNvCxnSpPr>
          <p:nvPr/>
        </p:nvCxnSpPr>
        <p:spPr>
          <a:xfrm flipV="1" rot="10800000">
            <a:off x="4308480" y="3965040"/>
            <a:ext cx="1395720" cy="563040"/>
          </a:xfrm>
          <a:prstGeom prst="bentConnector3">
            <a:avLst>
              <a:gd name="adj1" fmla="val 68498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4262400" y="435276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949920" y="489276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09" idx="0"/>
            <a:endCxn id="51" idx="2"/>
          </p:cNvCxnSpPr>
          <p:nvPr/>
        </p:nvCxnSpPr>
        <p:spPr>
          <a:xfrm flipV="1">
            <a:off x="3047760" y="2305800"/>
            <a:ext cx="1080" cy="111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>
            <a:stCxn id="121" idx="0"/>
            <a:endCxn id="112" idx="2"/>
          </p:cNvCxnSpPr>
          <p:nvPr/>
        </p:nvCxnSpPr>
        <p:spPr>
          <a:xfrm flipV="1" rot="16200000">
            <a:off x="3333960" y="3627360"/>
            <a:ext cx="180360" cy="753120"/>
          </a:xfrm>
          <a:prstGeom prst="bentConnector3">
            <a:avLst>
              <a:gd name="adj1" fmla="val 494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5703840" y="4822920"/>
            <a:ext cx="1752480" cy="1522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there 110V at "B" plug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73840" y="4640400"/>
            <a:ext cx="1144800" cy="30456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Igniter rela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n PCB.  Replace boa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0" name=""/>
          <p:cNvCxnSpPr>
            <a:stCxn id="128" idx="3"/>
            <a:endCxn id="129" idx="1"/>
          </p:cNvCxnSpPr>
          <p:nvPr/>
        </p:nvCxnSpPr>
        <p:spPr>
          <a:xfrm flipV="1">
            <a:off x="7456320" y="4791960"/>
            <a:ext cx="317880" cy="106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1" name=""/>
          <p:cNvCxnSpPr>
            <a:stCxn id="128" idx="1"/>
            <a:endCxn id="101" idx="1"/>
          </p:cNvCxnSpPr>
          <p:nvPr/>
        </p:nvCxnSpPr>
        <p:spPr>
          <a:xfrm flipH="1" rot="10800000">
            <a:off x="5702760" y="4342680"/>
            <a:ext cx="2520" cy="55620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2" name=""/>
          <p:cNvCxnSpPr>
            <a:stCxn id="103" idx="1"/>
            <a:endCxn id="101" idx="1"/>
          </p:cNvCxnSpPr>
          <p:nvPr/>
        </p:nvCxnSpPr>
        <p:spPr>
          <a:xfrm flipH="1" rot="10800000">
            <a:off x="5702760" y="4342680"/>
            <a:ext cx="2520" cy="28944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3" name=""/>
          <p:cNvCxnSpPr>
            <a:stCxn id="121" idx="2"/>
            <a:endCxn id="128" idx="1"/>
          </p:cNvCxnSpPr>
          <p:nvPr/>
        </p:nvCxnSpPr>
        <p:spPr>
          <a:xfrm flipH="1" flipV="1" rot="5400000">
            <a:off x="4720680" y="3976920"/>
            <a:ext cx="61200" cy="1904040"/>
          </a:xfrm>
          <a:prstGeom prst="bentConnector4">
            <a:avLst>
              <a:gd name="adj1" fmla="val -220710"/>
              <a:gd name="adj2" fmla="val 6336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34" name=""/>
          <p:cNvSpPr/>
          <p:nvPr/>
        </p:nvSpPr>
        <p:spPr>
          <a:xfrm>
            <a:off x="5703840" y="5791320"/>
            <a:ext cx="1752480" cy="1522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Circuit Boa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703840" y="6014880"/>
            <a:ext cx="1752480" cy="14940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vious Fuse op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03840" y="6276960"/>
            <a:ext cx="1752480" cy="1522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hort circuit of lead w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703840" y="5308560"/>
            <a:ext cx="1752480" cy="1522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Circuit Boa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703840" y="5537160"/>
            <a:ext cx="1752480" cy="14940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on Auto operation mode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986120" y="387828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3640" y="444492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214280" y="3789360"/>
            <a:ext cx="914400" cy="6094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Display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indow lit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981080" y="4937040"/>
            <a:ext cx="6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Norm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674360" y="5457960"/>
            <a:ext cx="429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Op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14280" y="4848120"/>
            <a:ext cx="914400" cy="6098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eck Fu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F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06720" y="6033960"/>
            <a:ext cx="609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Norm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30080" y="6359400"/>
            <a:ext cx="429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Op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30400" y="5638680"/>
            <a:ext cx="1082520" cy="7905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ange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use; plug in pow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8" name=""/>
          <p:cNvCxnSpPr>
            <a:stCxn id="141" idx="3"/>
            <a:endCxn id="137" idx="1"/>
          </p:cNvCxnSpPr>
          <p:nvPr/>
        </p:nvCxnSpPr>
        <p:spPr>
          <a:xfrm>
            <a:off x="2128320" y="4093920"/>
            <a:ext cx="3575880" cy="1291320"/>
          </a:xfrm>
          <a:prstGeom prst="bentConnector3">
            <a:avLst>
              <a:gd name="adj1" fmla="val 16784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9" name=""/>
          <p:cNvCxnSpPr>
            <a:stCxn id="138" idx="1"/>
            <a:endCxn id="137" idx="1"/>
          </p:cNvCxnSpPr>
          <p:nvPr/>
        </p:nvCxnSpPr>
        <p:spPr>
          <a:xfrm flipH="1" rot="10800000">
            <a:off x="5702760" y="5384160"/>
            <a:ext cx="2520" cy="2275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50" name=""/>
          <p:cNvCxnSpPr>
            <a:stCxn id="147" idx="3"/>
            <a:endCxn id="135" idx="1"/>
          </p:cNvCxnSpPr>
          <p:nvPr/>
        </p:nvCxnSpPr>
        <p:spPr>
          <a:xfrm>
            <a:off x="2212560" y="6033600"/>
            <a:ext cx="3491640" cy="56520"/>
          </a:xfrm>
          <a:prstGeom prst="bentConnector3">
            <a:avLst>
              <a:gd name="adj1" fmla="val 4996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51" name=""/>
          <p:cNvSpPr/>
          <p:nvPr/>
        </p:nvSpPr>
        <p:spPr>
          <a:xfrm>
            <a:off x="5703840" y="6497640"/>
            <a:ext cx="1752480" cy="1522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Circuit Boa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2" name=""/>
          <p:cNvCxnSpPr>
            <a:stCxn id="147" idx="2"/>
            <a:endCxn id="151" idx="1"/>
          </p:cNvCxnSpPr>
          <p:nvPr/>
        </p:nvCxnSpPr>
        <p:spPr>
          <a:xfrm flipH="1" rot="16200000">
            <a:off x="3614400" y="4485240"/>
            <a:ext cx="145440" cy="4033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53" name=""/>
          <p:cNvSpPr/>
          <p:nvPr/>
        </p:nvSpPr>
        <p:spPr>
          <a:xfrm>
            <a:off x="7773840" y="6497640"/>
            <a:ext cx="1144800" cy="3049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or chec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rcuit Boa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773840" y="5011560"/>
            <a:ext cx="1144800" cy="3049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or chec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rcuit Boa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773840" y="5630760"/>
            <a:ext cx="1144800" cy="3049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or chec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rcuit Boa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773840" y="5384880"/>
            <a:ext cx="1144800" cy="1792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ut in Manual mod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773840" y="6004080"/>
            <a:ext cx="1144800" cy="1792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ave in new Fu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8" name=""/>
          <p:cNvCxnSpPr>
            <a:stCxn id="137" idx="3"/>
            <a:endCxn id="154" idx="1"/>
          </p:cNvCxnSpPr>
          <p:nvPr/>
        </p:nvCxnSpPr>
        <p:spPr>
          <a:xfrm flipV="1">
            <a:off x="7456320" y="5163480"/>
            <a:ext cx="317880" cy="2214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59" name=""/>
          <p:cNvCxnSpPr>
            <a:stCxn id="138" idx="3"/>
            <a:endCxn id="156" idx="1"/>
          </p:cNvCxnSpPr>
          <p:nvPr/>
        </p:nvCxnSpPr>
        <p:spPr>
          <a:xfrm flipV="1">
            <a:off x="7456320" y="5474520"/>
            <a:ext cx="317880" cy="137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0" name=""/>
          <p:cNvCxnSpPr>
            <a:stCxn id="134" idx="3"/>
            <a:endCxn id="155" idx="1"/>
          </p:cNvCxnSpPr>
          <p:nvPr/>
        </p:nvCxnSpPr>
        <p:spPr>
          <a:xfrm flipV="1">
            <a:off x="7456320" y="5782680"/>
            <a:ext cx="317880" cy="846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1" name=""/>
          <p:cNvCxnSpPr>
            <a:stCxn id="135" idx="3"/>
            <a:endCxn id="157" idx="1"/>
          </p:cNvCxnSpPr>
          <p:nvPr/>
        </p:nvCxnSpPr>
        <p:spPr>
          <a:xfrm>
            <a:off x="7456320" y="6089400"/>
            <a:ext cx="317880" cy="54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2" name=""/>
          <p:cNvCxnSpPr>
            <a:stCxn id="151" idx="3"/>
            <a:endCxn id="153" idx="1"/>
          </p:cNvCxnSpPr>
          <p:nvPr/>
        </p:nvCxnSpPr>
        <p:spPr>
          <a:xfrm>
            <a:off x="7456320" y="6573600"/>
            <a:ext cx="317880" cy="76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63" name=""/>
          <p:cNvSpPr/>
          <p:nvPr/>
        </p:nvSpPr>
        <p:spPr>
          <a:xfrm>
            <a:off x="7773840" y="6249960"/>
            <a:ext cx="1144800" cy="1792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rect or chan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" name=""/>
          <p:cNvCxnSpPr>
            <a:stCxn id="136" idx="3"/>
            <a:endCxn id="163" idx="1"/>
          </p:cNvCxnSpPr>
          <p:nvPr/>
        </p:nvCxnSpPr>
        <p:spPr>
          <a:xfrm flipV="1">
            <a:off x="7456320" y="6339960"/>
            <a:ext cx="317880" cy="13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5" name=""/>
          <p:cNvCxnSpPr>
            <a:stCxn id="82" idx="1"/>
            <a:endCxn id="80" idx="1"/>
          </p:cNvCxnSpPr>
          <p:nvPr/>
        </p:nvCxnSpPr>
        <p:spPr>
          <a:xfrm flipH="1" rot="10800000">
            <a:off x="5702760" y="1705680"/>
            <a:ext cx="2520" cy="3103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6" name=""/>
          <p:cNvCxnSpPr>
            <a:stCxn id="72" idx="1"/>
            <a:endCxn id="67" idx="1"/>
          </p:cNvCxnSpPr>
          <p:nvPr/>
        </p:nvCxnSpPr>
        <p:spPr>
          <a:xfrm flipH="1" rot="10800000">
            <a:off x="5702760" y="754920"/>
            <a:ext cx="2520" cy="3531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7" name=""/>
          <p:cNvCxnSpPr>
            <a:stCxn id="151" idx="1"/>
            <a:endCxn id="136" idx="1"/>
          </p:cNvCxnSpPr>
          <p:nvPr/>
        </p:nvCxnSpPr>
        <p:spPr>
          <a:xfrm flipH="1" rot="10800000">
            <a:off x="5702760" y="6352560"/>
            <a:ext cx="2520" cy="22140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8" name=""/>
          <p:cNvCxnSpPr>
            <a:stCxn id="50" idx="2"/>
            <a:endCxn id="141" idx="0"/>
          </p:cNvCxnSpPr>
          <p:nvPr/>
        </p:nvCxnSpPr>
        <p:spPr>
          <a:xfrm>
            <a:off x="1671120" y="1598400"/>
            <a:ext cx="1080" cy="2191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9" name=""/>
          <p:cNvCxnSpPr>
            <a:stCxn id="141" idx="2"/>
            <a:endCxn id="144" idx="0"/>
          </p:cNvCxnSpPr>
          <p:nvPr/>
        </p:nvCxnSpPr>
        <p:spPr>
          <a:xfrm>
            <a:off x="1671120" y="4398840"/>
            <a:ext cx="1080" cy="450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0" name=""/>
          <p:cNvCxnSpPr>
            <a:stCxn id="144" idx="2"/>
            <a:endCxn id="147" idx="0"/>
          </p:cNvCxnSpPr>
          <p:nvPr/>
        </p:nvCxnSpPr>
        <p:spPr>
          <a:xfrm>
            <a:off x="1671120" y="5457960"/>
            <a:ext cx="1080" cy="181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1" name=""/>
          <p:cNvSpPr/>
          <p:nvPr/>
        </p:nvSpPr>
        <p:spPr>
          <a:xfrm>
            <a:off x="121680" y="6497640"/>
            <a:ext cx="532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g. 46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34" idx="1"/>
            <a:endCxn id="144" idx="3"/>
          </p:cNvCxnSpPr>
          <p:nvPr/>
        </p:nvCxnSpPr>
        <p:spPr>
          <a:xfrm rot="10800000">
            <a:off x="2127960" y="5152320"/>
            <a:ext cx="3575880" cy="714960"/>
          </a:xfrm>
          <a:prstGeom prst="bentConnector3">
            <a:avLst>
              <a:gd name="adj1" fmla="val 912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73" name=""/>
          <p:cNvSpPr/>
          <p:nvPr/>
        </p:nvSpPr>
        <p:spPr>
          <a:xfrm>
            <a:off x="304920" y="2363760"/>
            <a:ext cx="914400" cy="55260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E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CB stands f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inted Circu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986120" y="47304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673640" y="99540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208320" y="45252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786400" y="110160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525920" y="47628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121280" y="110160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214280" y="384120"/>
            <a:ext cx="914400" cy="6094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air trapp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 fuel line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214280" y="3651120"/>
            <a:ext cx="2941920" cy="16876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ke GENERAL CHECKS fro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vious pag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fuel head too low?  See Section 2: INSTALL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f using a Lifter, check Lifter installation specifications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unit placed horizontally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fuel line length correct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286000" y="257040"/>
            <a:ext cx="1071720" cy="8654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Solenoi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ump operating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389400" y="1496880"/>
            <a:ext cx="558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Norm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890800" y="2035080"/>
            <a:ext cx="623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Abnorm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" name=""/>
          <p:cNvCxnSpPr>
            <a:endCxn id="180" idx="1"/>
          </p:cNvCxnSpPr>
          <p:nvPr/>
        </p:nvCxnSpPr>
        <p:spPr>
          <a:xfrm>
            <a:off x="985320" y="688680"/>
            <a:ext cx="229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6" name=""/>
          <p:cNvCxnSpPr>
            <a:stCxn id="180" idx="3"/>
          </p:cNvCxnSpPr>
          <p:nvPr/>
        </p:nvCxnSpPr>
        <p:spPr>
          <a:xfrm>
            <a:off x="2128320" y="689040"/>
            <a:ext cx="1580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7" name=""/>
          <p:cNvSpPr/>
          <p:nvPr/>
        </p:nvSpPr>
        <p:spPr>
          <a:xfrm>
            <a:off x="513720" y="176040"/>
            <a:ext cx="30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04920" y="579600"/>
            <a:ext cx="685800" cy="2188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 fuel feed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 Igni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776920" y="277920"/>
            <a:ext cx="1752480" cy="1951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ater gathering in fuel tan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776920" y="560520"/>
            <a:ext cx="1752480" cy="2584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uel not fed because of surfa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nsion of wa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851600" y="228600"/>
            <a:ext cx="1143000" cy="21420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scharge wa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776920" y="905040"/>
            <a:ext cx="1752480" cy="3459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urner joint clogged (Fuel Line pas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ageway into Combustion Chamb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ar base of Burner Po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846920" y="581040"/>
            <a:ext cx="1143000" cy="21600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ean burner joi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4" name=""/>
          <p:cNvCxnSpPr>
            <a:stCxn id="192" idx="3"/>
            <a:endCxn id="193" idx="1"/>
          </p:cNvCxnSpPr>
          <p:nvPr/>
        </p:nvCxnSpPr>
        <p:spPr>
          <a:xfrm flipV="1">
            <a:off x="7529400" y="688680"/>
            <a:ext cx="317880" cy="389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95" name=""/>
          <p:cNvSpPr/>
          <p:nvPr/>
        </p:nvSpPr>
        <p:spPr>
          <a:xfrm>
            <a:off x="5776920" y="1311120"/>
            <a:ext cx="175248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usible link valve closed on M-42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850160" y="851040"/>
            <a:ext cx="1144440" cy="37764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handle o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usible link valve 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pen valv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776920" y="1557360"/>
            <a:ext cx="1752480" cy="223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ripped safety on fuel Consta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vel Valv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851600" y="1268280"/>
            <a:ext cx="1143000" cy="3049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set fuel Consta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vel Valv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76920" y="1851120"/>
            <a:ext cx="1752480" cy="1299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Solenoid Pum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846920" y="2016000"/>
            <a:ext cx="1143000" cy="56376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raighten fuel line 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move air pocket, 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rect fuel l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tall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776920" y="2035080"/>
            <a:ext cx="1752480" cy="1382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iring failu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846920" y="1611360"/>
            <a:ext cx="1143000" cy="1522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Solenoid Pum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784840" y="4151160"/>
            <a:ext cx="1752480" cy="1587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ir present in fuel l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784840" y="2795760"/>
            <a:ext cx="1752480" cy="1760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uel not entering into valv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776920" y="3325680"/>
            <a:ext cx="1752480" cy="1731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uel short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845480" y="4775040"/>
            <a:ext cx="1144440" cy="15264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rect wir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846920" y="2639880"/>
            <a:ext cx="1144800" cy="4366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ush Fuel Consta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vel Valve Lev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 or 5 tim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846920" y="3149640"/>
            <a:ext cx="1149480" cy="3826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1. Push ON/OFF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Button to "OFF"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2. Refuel heat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3. Turn heater 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158840" y="2511360"/>
            <a:ext cx="1015920" cy="8650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Fuel Consta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vel Valve Lev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t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776920" y="3591000"/>
            <a:ext cx="1752480" cy="1760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verheat condi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783400" y="4968720"/>
            <a:ext cx="1752480" cy="1526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Solenoid Pum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783400" y="5192640"/>
            <a:ext cx="1752480" cy="14940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Circuit Boa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784840" y="5613480"/>
            <a:ext cx="1752480" cy="1522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 as specifi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784840" y="4427640"/>
            <a:ext cx="1752480" cy="1522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Solenoid Pum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783400" y="4714920"/>
            <a:ext cx="1752480" cy="1490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iring failu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165400" y="266220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852920" y="322884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395960" y="4191120"/>
            <a:ext cx="914400" cy="6094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Display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indow lit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71880" y="4091040"/>
            <a:ext cx="609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Norm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286000" y="1316160"/>
            <a:ext cx="1082520" cy="7905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eck wiring 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lug "K"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783400" y="6110280"/>
            <a:ext cx="1752480" cy="1522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se flue pip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856640" y="5186520"/>
            <a:ext cx="1144440" cy="30456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or chec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rcuit Boa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5480" y="4305240"/>
            <a:ext cx="1144440" cy="1792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rect fuel l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856640" y="5892840"/>
            <a:ext cx="1144440" cy="58716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low heater to coo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pletely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ighten al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ions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55160" y="6497640"/>
            <a:ext cx="464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g. 4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500280" y="255600"/>
            <a:ext cx="1071720" cy="8650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there wa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 the fuel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7" name=""/>
          <p:cNvCxnSpPr>
            <a:stCxn id="226" idx="3"/>
            <a:endCxn id="190" idx="1"/>
          </p:cNvCxnSpPr>
          <p:nvPr/>
        </p:nvCxnSpPr>
        <p:spPr>
          <a:xfrm>
            <a:off x="4571640" y="689040"/>
            <a:ext cx="1205640" cy="2160"/>
          </a:xfrm>
          <a:prstGeom prst="bentConnector3">
            <a:avLst>
              <a:gd name="adj1" fmla="val 4991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28" name=""/>
          <p:cNvCxnSpPr>
            <a:stCxn id="190" idx="1"/>
            <a:endCxn id="189" idx="1"/>
          </p:cNvCxnSpPr>
          <p:nvPr/>
        </p:nvCxnSpPr>
        <p:spPr>
          <a:xfrm flipH="1" rot="10800000">
            <a:off x="5776560" y="375480"/>
            <a:ext cx="2160" cy="31500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29" name=""/>
          <p:cNvCxnSpPr>
            <a:stCxn id="189" idx="3"/>
            <a:endCxn id="191" idx="1"/>
          </p:cNvCxnSpPr>
          <p:nvPr/>
        </p:nvCxnSpPr>
        <p:spPr>
          <a:xfrm flipV="1">
            <a:off x="7529040" y="336240"/>
            <a:ext cx="322920" cy="40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30" name=""/>
          <p:cNvCxnSpPr>
            <a:stCxn id="226" idx="2"/>
            <a:endCxn id="195" idx="1"/>
          </p:cNvCxnSpPr>
          <p:nvPr/>
        </p:nvCxnSpPr>
        <p:spPr>
          <a:xfrm flipH="1" rot="16200000">
            <a:off x="4761720" y="394560"/>
            <a:ext cx="289440" cy="17406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31" name=""/>
          <p:cNvCxnSpPr>
            <a:stCxn id="192" idx="1"/>
            <a:endCxn id="197" idx="1"/>
          </p:cNvCxnSpPr>
          <p:nvPr/>
        </p:nvCxnSpPr>
        <p:spPr>
          <a:xfrm flipH="1" flipV="1" rot="10800000">
            <a:off x="5776560" y="1076760"/>
            <a:ext cx="2160" cy="592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32" name=""/>
          <p:cNvCxnSpPr>
            <a:stCxn id="195" idx="3"/>
            <a:endCxn id="196" idx="1"/>
          </p:cNvCxnSpPr>
          <p:nvPr/>
        </p:nvCxnSpPr>
        <p:spPr>
          <a:xfrm flipV="1">
            <a:off x="7529040" y="1039320"/>
            <a:ext cx="321480" cy="370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33" name=""/>
          <p:cNvCxnSpPr>
            <a:stCxn id="197" idx="3"/>
            <a:endCxn id="198" idx="1"/>
          </p:cNvCxnSpPr>
          <p:nvPr/>
        </p:nvCxnSpPr>
        <p:spPr>
          <a:xfrm flipV="1">
            <a:off x="7529040" y="1420560"/>
            <a:ext cx="322920" cy="249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34" name=""/>
          <p:cNvCxnSpPr>
            <a:stCxn id="190" idx="3"/>
            <a:endCxn id="191" idx="1"/>
          </p:cNvCxnSpPr>
          <p:nvPr/>
        </p:nvCxnSpPr>
        <p:spPr>
          <a:xfrm flipV="1">
            <a:off x="7529040" y="335880"/>
            <a:ext cx="322920" cy="3546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35" name=""/>
          <p:cNvCxnSpPr>
            <a:stCxn id="220" idx="2"/>
            <a:endCxn id="201" idx="1"/>
          </p:cNvCxnSpPr>
          <p:nvPr/>
        </p:nvCxnSpPr>
        <p:spPr>
          <a:xfrm flipH="1" flipV="1" rot="5400000">
            <a:off x="4300200" y="630360"/>
            <a:ext cx="2520" cy="2950200"/>
          </a:xfrm>
          <a:prstGeom prst="bentConnector4">
            <a:avLst>
              <a:gd name="adj1" fmla="val -6900000"/>
              <a:gd name="adj2" fmla="val 59201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36" name=""/>
          <p:cNvCxnSpPr>
            <a:stCxn id="220" idx="3"/>
            <a:endCxn id="199" idx="1"/>
          </p:cNvCxnSpPr>
          <p:nvPr/>
        </p:nvCxnSpPr>
        <p:spPr>
          <a:xfrm>
            <a:off x="3368520" y="1711080"/>
            <a:ext cx="2409120" cy="205560"/>
          </a:xfrm>
          <a:prstGeom prst="bentConnector3">
            <a:avLst>
              <a:gd name="adj1" fmla="val 4996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37" name=""/>
          <p:cNvCxnSpPr>
            <a:stCxn id="182" idx="2"/>
            <a:endCxn id="220" idx="0"/>
          </p:cNvCxnSpPr>
          <p:nvPr/>
        </p:nvCxnSpPr>
        <p:spPr>
          <a:xfrm>
            <a:off x="2822400" y="1122480"/>
            <a:ext cx="5760" cy="1944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38" name=""/>
          <p:cNvCxnSpPr>
            <a:stCxn id="182" idx="3"/>
            <a:endCxn id="226" idx="1"/>
          </p:cNvCxnSpPr>
          <p:nvPr/>
        </p:nvCxnSpPr>
        <p:spPr>
          <a:xfrm flipV="1">
            <a:off x="3357720" y="688680"/>
            <a:ext cx="14328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39" name=""/>
          <p:cNvSpPr/>
          <p:nvPr/>
        </p:nvSpPr>
        <p:spPr>
          <a:xfrm>
            <a:off x="5778360" y="2255760"/>
            <a:ext cx="1752840" cy="1382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ir loc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180" idx="2"/>
            <a:endCxn id="239" idx="1"/>
          </p:cNvCxnSpPr>
          <p:nvPr/>
        </p:nvCxnSpPr>
        <p:spPr>
          <a:xfrm flipH="1" rot="16200000">
            <a:off x="3058920" y="-394200"/>
            <a:ext cx="1332720" cy="41076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41" name=""/>
          <p:cNvSpPr/>
          <p:nvPr/>
        </p:nvSpPr>
        <p:spPr>
          <a:xfrm>
            <a:off x="7851600" y="1795320"/>
            <a:ext cx="1143000" cy="15264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rect or replace wir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199" idx="3"/>
            <a:endCxn id="202" idx="1"/>
          </p:cNvCxnSpPr>
          <p:nvPr/>
        </p:nvCxnSpPr>
        <p:spPr>
          <a:xfrm flipV="1">
            <a:off x="7529400" y="1686960"/>
            <a:ext cx="3178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43" name=""/>
          <p:cNvCxnSpPr>
            <a:stCxn id="201" idx="3"/>
            <a:endCxn id="241" idx="1"/>
          </p:cNvCxnSpPr>
          <p:nvPr/>
        </p:nvCxnSpPr>
        <p:spPr>
          <a:xfrm flipV="1">
            <a:off x="7529040" y="1871280"/>
            <a:ext cx="322920" cy="234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44" name=""/>
          <p:cNvCxnSpPr>
            <a:stCxn id="239" idx="3"/>
            <a:endCxn id="200" idx="1"/>
          </p:cNvCxnSpPr>
          <p:nvPr/>
        </p:nvCxnSpPr>
        <p:spPr>
          <a:xfrm flipV="1">
            <a:off x="7530840" y="2297880"/>
            <a:ext cx="316440" cy="27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45" name=""/>
          <p:cNvSpPr/>
          <p:nvPr/>
        </p:nvSpPr>
        <p:spPr>
          <a:xfrm>
            <a:off x="513720" y="2325600"/>
            <a:ext cx="30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04920" y="2738520"/>
            <a:ext cx="685800" cy="4111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xtinguish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on af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gni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05" idx="1"/>
            <a:endCxn id="210" idx="1"/>
          </p:cNvCxnSpPr>
          <p:nvPr/>
        </p:nvCxnSpPr>
        <p:spPr>
          <a:xfrm flipH="1" flipV="1" rot="10800000">
            <a:off x="5776560" y="3411720"/>
            <a:ext cx="2160" cy="2671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48" name=""/>
          <p:cNvCxnSpPr>
            <a:stCxn id="209" idx="3"/>
            <a:endCxn id="204" idx="1"/>
          </p:cNvCxnSpPr>
          <p:nvPr/>
        </p:nvCxnSpPr>
        <p:spPr>
          <a:xfrm flipV="1">
            <a:off x="2174760" y="2883960"/>
            <a:ext cx="3610800" cy="6120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49" name=""/>
          <p:cNvCxnSpPr>
            <a:stCxn id="209" idx="2"/>
            <a:endCxn id="205" idx="1"/>
          </p:cNvCxnSpPr>
          <p:nvPr/>
        </p:nvCxnSpPr>
        <p:spPr>
          <a:xfrm flipH="1" rot="16200000">
            <a:off x="3702600" y="1339560"/>
            <a:ext cx="37440" cy="4110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50" name=""/>
          <p:cNvSpPr/>
          <p:nvPr/>
        </p:nvSpPr>
        <p:spPr>
          <a:xfrm>
            <a:off x="7851600" y="3591000"/>
            <a:ext cx="1149480" cy="6634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1. Unplug heat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2. Remove air-flow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obstructions and/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termine cause of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overheat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3. Replace cover &amp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start heat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1" name=""/>
          <p:cNvCxnSpPr>
            <a:stCxn id="204" idx="3"/>
            <a:endCxn id="207" idx="1"/>
          </p:cNvCxnSpPr>
          <p:nvPr/>
        </p:nvCxnSpPr>
        <p:spPr>
          <a:xfrm flipV="1">
            <a:off x="7537320" y="2858760"/>
            <a:ext cx="310320" cy="25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2" name=""/>
          <p:cNvCxnSpPr>
            <a:stCxn id="205" idx="3"/>
            <a:endCxn id="208" idx="1"/>
          </p:cNvCxnSpPr>
          <p:nvPr/>
        </p:nvCxnSpPr>
        <p:spPr>
          <a:xfrm flipV="1">
            <a:off x="7529400" y="3340800"/>
            <a:ext cx="317880" cy="72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3" name=""/>
          <p:cNvCxnSpPr>
            <a:stCxn id="210" idx="3"/>
            <a:endCxn id="250" idx="1"/>
          </p:cNvCxnSpPr>
          <p:nvPr/>
        </p:nvCxnSpPr>
        <p:spPr>
          <a:xfrm>
            <a:off x="7529040" y="3679920"/>
            <a:ext cx="322920" cy="24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4" name=""/>
          <p:cNvCxnSpPr>
            <a:stCxn id="246" idx="3"/>
            <a:endCxn id="209" idx="1"/>
          </p:cNvCxnSpPr>
          <p:nvPr/>
        </p:nvCxnSpPr>
        <p:spPr>
          <a:xfrm>
            <a:off x="990360" y="2944440"/>
            <a:ext cx="1688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55" name=""/>
          <p:cNvSpPr/>
          <p:nvPr/>
        </p:nvSpPr>
        <p:spPr>
          <a:xfrm>
            <a:off x="509040" y="3876840"/>
            <a:ext cx="30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04920" y="4227480"/>
            <a:ext cx="685800" cy="53496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lame do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 increa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hen se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t "High"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7" name=""/>
          <p:cNvCxnSpPr>
            <a:stCxn id="256" idx="3"/>
            <a:endCxn id="181" idx="1"/>
          </p:cNvCxnSpPr>
          <p:nvPr/>
        </p:nvCxnSpPr>
        <p:spPr>
          <a:xfrm>
            <a:off x="990360" y="4495320"/>
            <a:ext cx="2242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8" name=""/>
          <p:cNvCxnSpPr>
            <a:endCxn id="218" idx="1"/>
          </p:cNvCxnSpPr>
          <p:nvPr/>
        </p:nvCxnSpPr>
        <p:spPr>
          <a:xfrm>
            <a:off x="4156200" y="4495320"/>
            <a:ext cx="240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9" name=""/>
          <p:cNvCxnSpPr>
            <a:stCxn id="218" idx="3"/>
            <a:endCxn id="214" idx="1"/>
          </p:cNvCxnSpPr>
          <p:nvPr/>
        </p:nvCxnSpPr>
        <p:spPr>
          <a:xfrm>
            <a:off x="5310360" y="4495680"/>
            <a:ext cx="475200" cy="8640"/>
          </a:xfrm>
          <a:prstGeom prst="bentConnector3">
            <a:avLst>
              <a:gd name="adj1" fmla="val 4981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60" name=""/>
          <p:cNvCxnSpPr/>
          <p:nvPr/>
        </p:nvCxnSpPr>
        <p:spPr>
          <a:xfrm flipH="1" rot="10800000">
            <a:off x="5784480" y="4230720"/>
            <a:ext cx="2160" cy="273240"/>
          </a:xfrm>
          <a:prstGeom prst="bentConnector3">
            <a:avLst>
              <a:gd name="adj1" fmla="val -1490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261" name=""/>
          <p:cNvSpPr/>
          <p:nvPr/>
        </p:nvSpPr>
        <p:spPr>
          <a:xfrm>
            <a:off x="3098880" y="5506920"/>
            <a:ext cx="623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Abnorm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7856640" y="4535640"/>
            <a:ext cx="1144440" cy="1792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Solenoid Pum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856640" y="5599080"/>
            <a:ext cx="1144440" cy="1792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rect as specifi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200560" y="423396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889880" y="488952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18" idx="2"/>
            <a:endCxn id="211" idx="1"/>
          </p:cNvCxnSpPr>
          <p:nvPr/>
        </p:nvCxnSpPr>
        <p:spPr>
          <a:xfrm flipH="1" rot="16200000">
            <a:off x="5196240" y="4456800"/>
            <a:ext cx="244800" cy="9309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67" name=""/>
          <p:cNvCxnSpPr>
            <a:stCxn id="215" idx="1"/>
            <a:endCxn id="212" idx="1"/>
          </p:cNvCxnSpPr>
          <p:nvPr/>
        </p:nvCxnSpPr>
        <p:spPr>
          <a:xfrm flipH="1" flipV="1" rot="10800000">
            <a:off x="5783040" y="4788360"/>
            <a:ext cx="2160" cy="47844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268" name=""/>
          <p:cNvSpPr/>
          <p:nvPr/>
        </p:nvSpPr>
        <p:spPr>
          <a:xfrm>
            <a:off x="7856640" y="4941720"/>
            <a:ext cx="1144440" cy="17964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Solenoid Pum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9" name=""/>
          <p:cNvCxnSpPr>
            <a:stCxn id="203" idx="3"/>
            <a:endCxn id="223" idx="1"/>
          </p:cNvCxnSpPr>
          <p:nvPr/>
        </p:nvCxnSpPr>
        <p:spPr>
          <a:xfrm>
            <a:off x="7537320" y="4230360"/>
            <a:ext cx="308880" cy="165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0" name=""/>
          <p:cNvCxnSpPr>
            <a:stCxn id="214" idx="3"/>
            <a:endCxn id="262" idx="1"/>
          </p:cNvCxnSpPr>
          <p:nvPr/>
        </p:nvCxnSpPr>
        <p:spPr>
          <a:xfrm>
            <a:off x="7536960" y="4503600"/>
            <a:ext cx="320040" cy="123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1" name=""/>
          <p:cNvCxnSpPr>
            <a:stCxn id="215" idx="3"/>
            <a:endCxn id="206" idx="1"/>
          </p:cNvCxnSpPr>
          <p:nvPr/>
        </p:nvCxnSpPr>
        <p:spPr>
          <a:xfrm>
            <a:off x="7535880" y="4789440"/>
            <a:ext cx="310320" cy="62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2" name=""/>
          <p:cNvCxnSpPr>
            <a:stCxn id="211" idx="3"/>
            <a:endCxn id="268" idx="1"/>
          </p:cNvCxnSpPr>
          <p:nvPr/>
        </p:nvCxnSpPr>
        <p:spPr>
          <a:xfrm flipV="1">
            <a:off x="7535520" y="5031720"/>
            <a:ext cx="321480" cy="13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3" name=""/>
          <p:cNvCxnSpPr>
            <a:stCxn id="212" idx="3"/>
            <a:endCxn id="222" idx="1"/>
          </p:cNvCxnSpPr>
          <p:nvPr/>
        </p:nvCxnSpPr>
        <p:spPr>
          <a:xfrm>
            <a:off x="7535520" y="5266800"/>
            <a:ext cx="321480" cy="72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4" name=""/>
          <p:cNvCxnSpPr>
            <a:stCxn id="181" idx="2"/>
            <a:endCxn id="213" idx="1"/>
          </p:cNvCxnSpPr>
          <p:nvPr/>
        </p:nvCxnSpPr>
        <p:spPr>
          <a:xfrm flipH="1" rot="16200000">
            <a:off x="4060080" y="3964320"/>
            <a:ext cx="351360" cy="30996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5" name=""/>
          <p:cNvCxnSpPr>
            <a:stCxn id="213" idx="3"/>
            <a:endCxn id="263" idx="1"/>
          </p:cNvCxnSpPr>
          <p:nvPr/>
        </p:nvCxnSpPr>
        <p:spPr>
          <a:xfrm>
            <a:off x="7536960" y="5689080"/>
            <a:ext cx="3200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76" name=""/>
          <p:cNvSpPr/>
          <p:nvPr/>
        </p:nvSpPr>
        <p:spPr>
          <a:xfrm>
            <a:off x="526680" y="5567400"/>
            <a:ext cx="30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17520" y="5979960"/>
            <a:ext cx="2368440" cy="4114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or flame; sounds of  combustion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ot at the reat of the heater.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not a failure, but is apt to occur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8" name=""/>
          <p:cNvCxnSpPr>
            <a:stCxn id="277" idx="3"/>
            <a:endCxn id="221" idx="1"/>
          </p:cNvCxnSpPr>
          <p:nvPr/>
        </p:nvCxnSpPr>
        <p:spPr>
          <a:xfrm>
            <a:off x="2685960" y="6186240"/>
            <a:ext cx="30981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9" name=""/>
          <p:cNvCxnSpPr>
            <a:stCxn id="221" idx="3"/>
            <a:endCxn id="224" idx="1"/>
          </p:cNvCxnSpPr>
          <p:nvPr/>
        </p:nvCxnSpPr>
        <p:spPr>
          <a:xfrm>
            <a:off x="7535520" y="6186240"/>
            <a:ext cx="321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5048640" y="307980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828880" y="284040"/>
            <a:ext cx="1449360" cy="139860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bustion Fa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ork properly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eck for obstruct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uch as wasps nes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 exhaust 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ir suppl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ip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163520" y="4290840"/>
            <a:ext cx="1071720" cy="8654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ignit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ime too long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Usually 0.5 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 mi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13720" y="492120"/>
            <a:ext cx="30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783400" y="892080"/>
            <a:ext cx="1752480" cy="1954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Damper Solenoid Ass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7858080" y="846000"/>
            <a:ext cx="1143000" cy="28764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Damp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lenoid Ass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7845480" y="5508720"/>
            <a:ext cx="1143000" cy="36180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unt Air Damp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s need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7870680" y="1731960"/>
            <a:ext cx="1143000" cy="3049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ean out intake a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xhaust du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791320" y="1819440"/>
            <a:ext cx="1752480" cy="1299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take or exhaust line clogg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784840" y="3997440"/>
            <a:ext cx="1752480" cy="1587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 as specifi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784840" y="2679840"/>
            <a:ext cx="1752480" cy="1760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uel Solenoid Pump malfunction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791320" y="3405240"/>
            <a:ext cx="1752480" cy="1731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bustion Fan fail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7845480" y="6110280"/>
            <a:ext cx="1144440" cy="1522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unt properl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403880" y="550800"/>
            <a:ext cx="1015920" cy="8650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amper Solenoi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or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perly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791320" y="3670200"/>
            <a:ext cx="1752480" cy="17640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ogged air supply or exhaust pip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784840" y="5613480"/>
            <a:ext cx="1752480" cy="1522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oo much air flow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930920" y="131292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312160" y="71136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502000" y="690480"/>
            <a:ext cx="609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Norm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783400" y="6110280"/>
            <a:ext cx="1752480" cy="1522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gniter mounted incorrectl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7856640" y="3021120"/>
            <a:ext cx="1144440" cy="30456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tall Air Damper ac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ding to specificat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21680" y="6497640"/>
            <a:ext cx="532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g. 48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2" name=""/>
          <p:cNvCxnSpPr>
            <a:stCxn id="284" idx="3"/>
            <a:endCxn id="285" idx="1"/>
          </p:cNvCxnSpPr>
          <p:nvPr/>
        </p:nvCxnSpPr>
        <p:spPr>
          <a:xfrm>
            <a:off x="7535520" y="990360"/>
            <a:ext cx="322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03" name=""/>
          <p:cNvSpPr/>
          <p:nvPr/>
        </p:nvSpPr>
        <p:spPr>
          <a:xfrm>
            <a:off x="513720" y="4156200"/>
            <a:ext cx="30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31920" y="4468680"/>
            <a:ext cx="685800" cy="50976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bus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ise is mad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on af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gnit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36880" y="1670040"/>
            <a:ext cx="623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Abnorm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7870680" y="3749760"/>
            <a:ext cx="1144800" cy="1792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move obstruct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7870680" y="3986280"/>
            <a:ext cx="1144800" cy="1792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rect as specifi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864560" y="2679840"/>
            <a:ext cx="1144440" cy="1792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Solenoid Pum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04920" y="800280"/>
            <a:ext cx="858600" cy="3664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moke produc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hen set "High"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270080" y="284040"/>
            <a:ext cx="1449360" cy="139860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unit plac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orizontally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flue pipe too long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r have too many bends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e Section 2: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TALL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114800" y="658800"/>
            <a:ext cx="609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Norm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629160" y="1636560"/>
            <a:ext cx="623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Abnorm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3" name=""/>
          <p:cNvCxnSpPr>
            <a:stCxn id="293" idx="3"/>
            <a:endCxn id="284" idx="1"/>
          </p:cNvCxnSpPr>
          <p:nvPr/>
        </p:nvCxnSpPr>
        <p:spPr>
          <a:xfrm>
            <a:off x="5419800" y="984240"/>
            <a:ext cx="364320" cy="7200"/>
          </a:xfrm>
          <a:prstGeom prst="bentConnector3">
            <a:avLst>
              <a:gd name="adj1" fmla="val 49752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14" name=""/>
          <p:cNvSpPr/>
          <p:nvPr/>
        </p:nvSpPr>
        <p:spPr>
          <a:xfrm>
            <a:off x="4332240" y="1450800"/>
            <a:ext cx="1157400" cy="8654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eck outsid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f flue pipe f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low of air a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xhaus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4332240" y="2335320"/>
            <a:ext cx="1157400" cy="8650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Air Damp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talled accord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o specifica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ions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357880" y="257976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836960" y="2227320"/>
            <a:ext cx="652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Norm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291280" y="1623960"/>
            <a:ext cx="623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Abnorm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9" name=""/>
          <p:cNvCxnSpPr>
            <a:stCxn id="315" idx="2"/>
          </p:cNvCxnSpPr>
          <p:nvPr/>
        </p:nvCxnSpPr>
        <p:spPr>
          <a:xfrm flipH="1" flipV="1" rot="5400000">
            <a:off x="6371280" y="1726560"/>
            <a:ext cx="13320" cy="2934360"/>
          </a:xfrm>
          <a:prstGeom prst="bentConnector4">
            <a:avLst>
              <a:gd name="adj1" fmla="val -461111"/>
              <a:gd name="adj2" fmla="val 5984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20" name=""/>
          <p:cNvCxnSpPr>
            <a:stCxn id="314" idx="3"/>
            <a:endCxn id="288" idx="1"/>
          </p:cNvCxnSpPr>
          <p:nvPr/>
        </p:nvCxnSpPr>
        <p:spPr>
          <a:xfrm>
            <a:off x="5489640" y="1883880"/>
            <a:ext cx="3024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21" name=""/>
          <p:cNvCxnSpPr>
            <a:stCxn id="288" idx="3"/>
            <a:endCxn id="287" idx="1"/>
          </p:cNvCxnSpPr>
          <p:nvPr/>
        </p:nvCxnSpPr>
        <p:spPr>
          <a:xfrm>
            <a:off x="7543800" y="1883880"/>
            <a:ext cx="3276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22" name=""/>
          <p:cNvCxnSpPr>
            <a:stCxn id="290" idx="3"/>
            <a:endCxn id="308" idx="1"/>
          </p:cNvCxnSpPr>
          <p:nvPr/>
        </p:nvCxnSpPr>
        <p:spPr>
          <a:xfrm>
            <a:off x="7536960" y="2768760"/>
            <a:ext cx="3279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23" name=""/>
          <p:cNvCxnSpPr>
            <a:stCxn id="315" idx="3"/>
            <a:endCxn id="290" idx="1"/>
          </p:cNvCxnSpPr>
          <p:nvPr/>
        </p:nvCxnSpPr>
        <p:spPr>
          <a:xfrm>
            <a:off x="5489640" y="2768400"/>
            <a:ext cx="2955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24" name=""/>
          <p:cNvCxnSpPr>
            <a:stCxn id="309" idx="3"/>
            <a:endCxn id="310" idx="1"/>
          </p:cNvCxnSpPr>
          <p:nvPr/>
        </p:nvCxnSpPr>
        <p:spPr>
          <a:xfrm>
            <a:off x="1163520" y="983880"/>
            <a:ext cx="1072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25" name=""/>
          <p:cNvCxnSpPr>
            <a:stCxn id="310" idx="3"/>
            <a:endCxn id="281" idx="1"/>
          </p:cNvCxnSpPr>
          <p:nvPr/>
        </p:nvCxnSpPr>
        <p:spPr>
          <a:xfrm>
            <a:off x="2719440" y="983880"/>
            <a:ext cx="1101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26" name=""/>
          <p:cNvCxnSpPr>
            <a:stCxn id="281" idx="3"/>
            <a:endCxn id="293" idx="1"/>
          </p:cNvCxnSpPr>
          <p:nvPr/>
        </p:nvCxnSpPr>
        <p:spPr>
          <a:xfrm>
            <a:off x="4277880" y="983880"/>
            <a:ext cx="12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27" name=""/>
          <p:cNvCxnSpPr>
            <a:stCxn id="293" idx="2"/>
            <a:endCxn id="314" idx="0"/>
          </p:cNvCxnSpPr>
          <p:nvPr/>
        </p:nvCxnSpPr>
        <p:spPr>
          <a:xfrm>
            <a:off x="4911480" y="1415520"/>
            <a:ext cx="1080" cy="35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28" name=""/>
          <p:cNvCxnSpPr>
            <a:stCxn id="314" idx="2"/>
            <a:endCxn id="315" idx="0"/>
          </p:cNvCxnSpPr>
          <p:nvPr/>
        </p:nvCxnSpPr>
        <p:spPr>
          <a:xfrm>
            <a:off x="4911480" y="2315880"/>
            <a:ext cx="1080" cy="19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29" name=""/>
          <p:cNvCxnSpPr>
            <a:stCxn id="281" idx="2"/>
            <a:endCxn id="291" idx="1"/>
          </p:cNvCxnSpPr>
          <p:nvPr/>
        </p:nvCxnSpPr>
        <p:spPr>
          <a:xfrm flipH="1" rot="16200000">
            <a:off x="3767760" y="1468440"/>
            <a:ext cx="1810440" cy="22377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30" name=""/>
          <p:cNvCxnSpPr>
            <a:stCxn id="291" idx="1"/>
            <a:endCxn id="294" idx="1"/>
          </p:cNvCxnSpPr>
          <p:nvPr/>
        </p:nvCxnSpPr>
        <p:spPr>
          <a:xfrm flipH="1" flipV="1" rot="10800000">
            <a:off x="5790960" y="3490920"/>
            <a:ext cx="2160" cy="2671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31" name=""/>
          <p:cNvCxnSpPr>
            <a:stCxn id="310" idx="2"/>
            <a:endCxn id="289" idx="1"/>
          </p:cNvCxnSpPr>
          <p:nvPr/>
        </p:nvCxnSpPr>
        <p:spPr>
          <a:xfrm flipH="1" rot="16200000">
            <a:off x="2693160" y="984600"/>
            <a:ext cx="2394720" cy="3790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32" name=""/>
          <p:cNvSpPr/>
          <p:nvPr/>
        </p:nvSpPr>
        <p:spPr>
          <a:xfrm>
            <a:off x="7870680" y="3405240"/>
            <a:ext cx="1144800" cy="3049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Combus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lower Assembl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3" name=""/>
          <p:cNvCxnSpPr>
            <a:stCxn id="291" idx="3"/>
            <a:endCxn id="332" idx="1"/>
          </p:cNvCxnSpPr>
          <p:nvPr/>
        </p:nvCxnSpPr>
        <p:spPr>
          <a:xfrm>
            <a:off x="7543800" y="3492000"/>
            <a:ext cx="327600" cy="6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34" name=""/>
          <p:cNvCxnSpPr>
            <a:stCxn id="294" idx="3"/>
            <a:endCxn id="306" idx="1"/>
          </p:cNvCxnSpPr>
          <p:nvPr/>
        </p:nvCxnSpPr>
        <p:spPr>
          <a:xfrm>
            <a:off x="7543800" y="3758760"/>
            <a:ext cx="327600" cy="81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35" name=""/>
          <p:cNvCxnSpPr>
            <a:stCxn id="289" idx="3"/>
            <a:endCxn id="307" idx="1"/>
          </p:cNvCxnSpPr>
          <p:nvPr/>
        </p:nvCxnSpPr>
        <p:spPr>
          <a:xfrm>
            <a:off x="7537320" y="4076280"/>
            <a:ext cx="334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36" name=""/>
          <p:cNvSpPr/>
          <p:nvPr/>
        </p:nvSpPr>
        <p:spPr>
          <a:xfrm>
            <a:off x="3265560" y="4290840"/>
            <a:ext cx="1157040" cy="8654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Air Damp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talled accord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o specifica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ions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725480" y="5156280"/>
            <a:ext cx="623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Abnorm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995480" y="4471920"/>
            <a:ext cx="609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Norm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921120" y="5156280"/>
            <a:ext cx="623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Abnorm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191120" y="4471920"/>
            <a:ext cx="609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Norm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7845480" y="4633920"/>
            <a:ext cx="1144440" cy="1792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e Symptom #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2" name=""/>
          <p:cNvCxnSpPr>
            <a:stCxn id="336" idx="3"/>
            <a:endCxn id="341" idx="1"/>
          </p:cNvCxnSpPr>
          <p:nvPr/>
        </p:nvCxnSpPr>
        <p:spPr>
          <a:xfrm>
            <a:off x="4422600" y="4723920"/>
            <a:ext cx="34236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43" name=""/>
          <p:cNvCxnSpPr>
            <a:stCxn id="336" idx="2"/>
            <a:endCxn id="295" idx="1"/>
          </p:cNvCxnSpPr>
          <p:nvPr/>
        </p:nvCxnSpPr>
        <p:spPr>
          <a:xfrm flipH="1" rot="16200000">
            <a:off x="4547160" y="4452480"/>
            <a:ext cx="533880" cy="19407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44" name=""/>
          <p:cNvCxnSpPr>
            <a:stCxn id="282" idx="2"/>
            <a:endCxn id="299" idx="1"/>
          </p:cNvCxnSpPr>
          <p:nvPr/>
        </p:nvCxnSpPr>
        <p:spPr>
          <a:xfrm flipH="1" rot="16200000">
            <a:off x="3226680" y="3629520"/>
            <a:ext cx="1031040" cy="4083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45" name=""/>
          <p:cNvCxnSpPr>
            <a:stCxn id="295" idx="3"/>
            <a:endCxn id="286" idx="1"/>
          </p:cNvCxnSpPr>
          <p:nvPr/>
        </p:nvCxnSpPr>
        <p:spPr>
          <a:xfrm>
            <a:off x="7537320" y="5689080"/>
            <a:ext cx="308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46" name=""/>
          <p:cNvCxnSpPr>
            <a:stCxn id="299" idx="3"/>
            <a:endCxn id="292" idx="1"/>
          </p:cNvCxnSpPr>
          <p:nvPr/>
        </p:nvCxnSpPr>
        <p:spPr>
          <a:xfrm>
            <a:off x="7535880" y="6186240"/>
            <a:ext cx="310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47" name=""/>
          <p:cNvCxnSpPr>
            <a:stCxn id="304" idx="3"/>
            <a:endCxn id="282" idx="1"/>
          </p:cNvCxnSpPr>
          <p:nvPr/>
        </p:nvCxnSpPr>
        <p:spPr>
          <a:xfrm>
            <a:off x="1017360" y="4723920"/>
            <a:ext cx="146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48" name=""/>
          <p:cNvCxnSpPr>
            <a:stCxn id="282" idx="3"/>
            <a:endCxn id="336" idx="1"/>
          </p:cNvCxnSpPr>
          <p:nvPr/>
        </p:nvCxnSpPr>
        <p:spPr>
          <a:xfrm>
            <a:off x="2235240" y="4723920"/>
            <a:ext cx="10310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/>
          <p:nvPr/>
        </p:nvSpPr>
        <p:spPr>
          <a:xfrm>
            <a:off x="5078520" y="189540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5791320" y="1496880"/>
            <a:ext cx="1752480" cy="2588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bustion Ring is install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mproperl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791320" y="2795760"/>
            <a:ext cx="1752480" cy="49500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upplies only a small amount of fue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ue to dust or bubbles in fue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livery par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7845480" y="1795320"/>
            <a:ext cx="1143000" cy="3049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Combus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ing Assembl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791320" y="1839960"/>
            <a:ext cx="1752480" cy="1299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bustion Ring is brok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791320" y="2260440"/>
            <a:ext cx="1752480" cy="17640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ir leaks from Igniter cov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791320" y="4549680"/>
            <a:ext cx="1752480" cy="1731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 as specifi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355920" y="1193760"/>
            <a:ext cx="1015920" cy="8650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lame extend 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hole area o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urner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791320" y="4129200"/>
            <a:ext cx="1752480" cy="1760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Solenoid Pum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2320" y="135396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943440" y="199548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818480" y="2844720"/>
            <a:ext cx="1144440" cy="39996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truct customer abou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ilter &amp; reset lev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121680" y="6497640"/>
            <a:ext cx="532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g. 48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7856640" y="4549680"/>
            <a:ext cx="1144440" cy="17964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rect as specifi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7856640" y="4129200"/>
            <a:ext cx="1144440" cy="1792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Solenoid Pum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02560" y="919080"/>
            <a:ext cx="30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255680" y="260280"/>
            <a:ext cx="1938240" cy="27320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fuel pure kerosene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heater mounted horizontally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external fuel tank too low?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See Section 2: INSTALLATI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tall Air Damper as needed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see Symptom #5)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there an obstruction in th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bustion Air System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975040" y="1353960"/>
            <a:ext cx="609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Norm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271600" y="3111480"/>
            <a:ext cx="623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Abnorm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286080" y="2611440"/>
            <a:ext cx="1157400" cy="8650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witch Set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erature 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igh &amp; Low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-6 tim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491000" y="1303200"/>
            <a:ext cx="889200" cy="6447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gniter properl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talled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4278240" y="135396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166680" y="1366920"/>
            <a:ext cx="981000" cy="5191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bus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amber window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ets smok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fter runn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7818480" y="1415880"/>
            <a:ext cx="1143000" cy="3049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tall Combus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ing properl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7845480" y="2197080"/>
            <a:ext cx="1143000" cy="3049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gaske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rectly install cov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865680" y="3833640"/>
            <a:ext cx="12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Flame does not exte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255920" y="2793960"/>
            <a:ext cx="1076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Flame extend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6" name=""/>
          <p:cNvCxnSpPr>
            <a:stCxn id="365" idx="2"/>
            <a:endCxn id="355" idx="1"/>
          </p:cNvCxnSpPr>
          <p:nvPr/>
        </p:nvCxnSpPr>
        <p:spPr>
          <a:xfrm flipH="1" rot="16200000">
            <a:off x="3184920" y="2031480"/>
            <a:ext cx="1645560" cy="35665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77" name=""/>
          <p:cNvCxnSpPr>
            <a:stCxn id="368" idx="2"/>
            <a:endCxn id="357" idx="1"/>
          </p:cNvCxnSpPr>
          <p:nvPr/>
        </p:nvCxnSpPr>
        <p:spPr>
          <a:xfrm flipH="1" rot="16200000">
            <a:off x="4456800" y="2884320"/>
            <a:ext cx="742320" cy="1926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78" name=""/>
          <p:cNvCxnSpPr>
            <a:stCxn id="368" idx="3"/>
            <a:endCxn id="351" idx="1"/>
          </p:cNvCxnSpPr>
          <p:nvPr/>
        </p:nvCxnSpPr>
        <p:spPr>
          <a:xfrm flipV="1">
            <a:off x="4443480" y="3042360"/>
            <a:ext cx="1348560" cy="2520"/>
          </a:xfrm>
          <a:prstGeom prst="bentConnector3">
            <a:avLst>
              <a:gd name="adj1" fmla="val 49933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79" name=""/>
          <p:cNvCxnSpPr>
            <a:stCxn id="369" idx="2"/>
            <a:endCxn id="354" idx="1"/>
          </p:cNvCxnSpPr>
          <p:nvPr/>
        </p:nvCxnSpPr>
        <p:spPr>
          <a:xfrm flipH="1" rot="16200000">
            <a:off x="5161680" y="1720440"/>
            <a:ext cx="402120" cy="8564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80" name=""/>
          <p:cNvCxnSpPr>
            <a:stCxn id="353" idx="1"/>
            <a:endCxn id="350" idx="1"/>
          </p:cNvCxnSpPr>
          <p:nvPr/>
        </p:nvCxnSpPr>
        <p:spPr>
          <a:xfrm flipH="1" rot="10800000">
            <a:off x="5790960" y="1627200"/>
            <a:ext cx="2160" cy="27828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81" name=""/>
          <p:cNvCxnSpPr>
            <a:stCxn id="369" idx="3"/>
            <a:endCxn id="350" idx="1"/>
          </p:cNvCxnSpPr>
          <p:nvPr/>
        </p:nvCxnSpPr>
        <p:spPr>
          <a:xfrm>
            <a:off x="5380200" y="1625760"/>
            <a:ext cx="4118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82" name=""/>
          <p:cNvCxnSpPr>
            <a:stCxn id="350" idx="3"/>
            <a:endCxn id="372" idx="1"/>
          </p:cNvCxnSpPr>
          <p:nvPr/>
        </p:nvCxnSpPr>
        <p:spPr>
          <a:xfrm flipV="1">
            <a:off x="7543440" y="1567800"/>
            <a:ext cx="275400" cy="594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83" name=""/>
          <p:cNvCxnSpPr>
            <a:stCxn id="353" idx="3"/>
            <a:endCxn id="352" idx="1"/>
          </p:cNvCxnSpPr>
          <p:nvPr/>
        </p:nvCxnSpPr>
        <p:spPr>
          <a:xfrm>
            <a:off x="7543800" y="1904760"/>
            <a:ext cx="302400" cy="43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84" name=""/>
          <p:cNvCxnSpPr>
            <a:stCxn id="354" idx="3"/>
            <a:endCxn id="373" idx="1"/>
          </p:cNvCxnSpPr>
          <p:nvPr/>
        </p:nvCxnSpPr>
        <p:spPr>
          <a:xfrm>
            <a:off x="7543800" y="2349000"/>
            <a:ext cx="3024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85" name=""/>
          <p:cNvCxnSpPr>
            <a:stCxn id="351" idx="3"/>
            <a:endCxn id="360" idx="1"/>
          </p:cNvCxnSpPr>
          <p:nvPr/>
        </p:nvCxnSpPr>
        <p:spPr>
          <a:xfrm>
            <a:off x="7543440" y="3042720"/>
            <a:ext cx="27540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86" name=""/>
          <p:cNvCxnSpPr>
            <a:stCxn id="356" idx="2"/>
            <a:endCxn id="368" idx="0"/>
          </p:cNvCxnSpPr>
          <p:nvPr/>
        </p:nvCxnSpPr>
        <p:spPr>
          <a:xfrm>
            <a:off x="3863520" y="2058480"/>
            <a:ext cx="2520" cy="553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87" name=""/>
          <p:cNvCxnSpPr>
            <a:stCxn id="356" idx="3"/>
            <a:endCxn id="369" idx="1"/>
          </p:cNvCxnSpPr>
          <p:nvPr/>
        </p:nvCxnSpPr>
        <p:spPr>
          <a:xfrm flipV="1">
            <a:off x="4371480" y="1625400"/>
            <a:ext cx="11988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88" name=""/>
          <p:cNvCxnSpPr>
            <a:stCxn id="365" idx="3"/>
            <a:endCxn id="356" idx="1"/>
          </p:cNvCxnSpPr>
          <p:nvPr/>
        </p:nvCxnSpPr>
        <p:spPr>
          <a:xfrm>
            <a:off x="3193920" y="1626840"/>
            <a:ext cx="162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89" name=""/>
          <p:cNvCxnSpPr>
            <a:stCxn id="371" idx="3"/>
            <a:endCxn id="365" idx="1"/>
          </p:cNvCxnSpPr>
          <p:nvPr/>
        </p:nvCxnSpPr>
        <p:spPr>
          <a:xfrm>
            <a:off x="1147680" y="1626840"/>
            <a:ext cx="10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90" name=""/>
          <p:cNvCxnSpPr>
            <a:stCxn id="357" idx="3"/>
            <a:endCxn id="363" idx="1"/>
          </p:cNvCxnSpPr>
          <p:nvPr/>
        </p:nvCxnSpPr>
        <p:spPr>
          <a:xfrm>
            <a:off x="7543440" y="4218120"/>
            <a:ext cx="3135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91" name=""/>
          <p:cNvCxnSpPr>
            <a:stCxn id="355" idx="3"/>
            <a:endCxn id="362" idx="1"/>
          </p:cNvCxnSpPr>
          <p:nvPr/>
        </p:nvCxnSpPr>
        <p:spPr>
          <a:xfrm>
            <a:off x="7543440" y="4636800"/>
            <a:ext cx="31356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2651400" y="171144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13720" y="492120"/>
            <a:ext cx="30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783400" y="782640"/>
            <a:ext cx="1752480" cy="40320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indow curtain or other obstruc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vers circulation air inlet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5783400" y="2413080"/>
            <a:ext cx="1752480" cy="1299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bstacle covers circulating air outle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84840" y="3124080"/>
            <a:ext cx="1752480" cy="17640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Printed Circuit Boa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791320" y="3405240"/>
            <a:ext cx="1752480" cy="1731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rculation Fan fail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7843680" y="1033560"/>
            <a:ext cx="1144800" cy="1522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eep curtain from un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139840" y="2044800"/>
            <a:ext cx="1016280" cy="8650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rculation Fan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per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perly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791320" y="3670200"/>
            <a:ext cx="1752480" cy="17640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orrect wir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143160" y="220968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637000" y="301608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55160" y="6497640"/>
            <a:ext cx="464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g. 4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834320" y="2387520"/>
            <a:ext cx="1144440" cy="17964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move obstac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7842240" y="3670200"/>
            <a:ext cx="1144440" cy="17964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air or replace wir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7864560" y="3124080"/>
            <a:ext cx="1144440" cy="17964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or check PC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04920" y="800280"/>
            <a:ext cx="858600" cy="3664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Overhea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rmostat 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ctivat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1922400" y="284040"/>
            <a:ext cx="1449360" cy="139860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window curtain to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ose to the rear of the unit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Circulation Fa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uard dusty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396" idx="3"/>
            <a:endCxn id="406" idx="1"/>
          </p:cNvCxnSpPr>
          <p:nvPr/>
        </p:nvCxnSpPr>
        <p:spPr>
          <a:xfrm>
            <a:off x="7536960" y="3212640"/>
            <a:ext cx="32796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10" name=""/>
          <p:cNvCxnSpPr>
            <a:stCxn id="407" idx="3"/>
            <a:endCxn id="408" idx="1"/>
          </p:cNvCxnSpPr>
          <p:nvPr/>
        </p:nvCxnSpPr>
        <p:spPr>
          <a:xfrm>
            <a:off x="1163520" y="983880"/>
            <a:ext cx="7596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11" name=""/>
          <p:cNvSpPr/>
          <p:nvPr/>
        </p:nvSpPr>
        <p:spPr>
          <a:xfrm>
            <a:off x="7843680" y="800280"/>
            <a:ext cx="1144800" cy="1792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ean gua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373560" y="63180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7842240" y="3405240"/>
            <a:ext cx="1144440" cy="1792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air Fan Mot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14" name=""/>
          <p:cNvCxnSpPr>
            <a:stCxn id="408" idx="3"/>
            <a:endCxn id="394" idx="1"/>
          </p:cNvCxnSpPr>
          <p:nvPr/>
        </p:nvCxnSpPr>
        <p:spPr>
          <a:xfrm>
            <a:off x="3371400" y="983880"/>
            <a:ext cx="2412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15" name=""/>
          <p:cNvCxnSpPr>
            <a:stCxn id="394" idx="3"/>
            <a:endCxn id="411" idx="1"/>
          </p:cNvCxnSpPr>
          <p:nvPr/>
        </p:nvCxnSpPr>
        <p:spPr>
          <a:xfrm flipV="1">
            <a:off x="7535520" y="890280"/>
            <a:ext cx="308520" cy="94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16" name=""/>
          <p:cNvCxnSpPr>
            <a:stCxn id="394" idx="3"/>
            <a:endCxn id="398" idx="1"/>
          </p:cNvCxnSpPr>
          <p:nvPr/>
        </p:nvCxnSpPr>
        <p:spPr>
          <a:xfrm>
            <a:off x="7535520" y="984240"/>
            <a:ext cx="308520" cy="126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17" name=""/>
          <p:cNvCxnSpPr>
            <a:stCxn id="408" idx="2"/>
            <a:endCxn id="399" idx="0"/>
          </p:cNvCxnSpPr>
          <p:nvPr/>
        </p:nvCxnSpPr>
        <p:spPr>
          <a:xfrm>
            <a:off x="2647440" y="1682640"/>
            <a:ext cx="1080" cy="362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18" name=""/>
          <p:cNvCxnSpPr>
            <a:stCxn id="399" idx="3"/>
            <a:endCxn id="395" idx="1"/>
          </p:cNvCxnSpPr>
          <p:nvPr/>
        </p:nvCxnSpPr>
        <p:spPr>
          <a:xfrm>
            <a:off x="3156120" y="2477880"/>
            <a:ext cx="2627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19" name=""/>
          <p:cNvCxnSpPr>
            <a:stCxn id="396" idx="1"/>
            <a:endCxn id="400" idx="1"/>
          </p:cNvCxnSpPr>
          <p:nvPr/>
        </p:nvCxnSpPr>
        <p:spPr>
          <a:xfrm flipH="1" flipV="1" rot="10800000">
            <a:off x="5784480" y="3211560"/>
            <a:ext cx="7200" cy="546480"/>
          </a:xfrm>
          <a:prstGeom prst="bentConnector3">
            <a:avLst>
              <a:gd name="adj1" fmla="val -36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20" name=""/>
          <p:cNvCxnSpPr>
            <a:stCxn id="399" idx="2"/>
            <a:endCxn id="397" idx="1"/>
          </p:cNvCxnSpPr>
          <p:nvPr/>
        </p:nvCxnSpPr>
        <p:spPr>
          <a:xfrm flipH="1" rot="16200000">
            <a:off x="3928320" y="1629000"/>
            <a:ext cx="583200" cy="31442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21" name=""/>
          <p:cNvCxnSpPr>
            <a:stCxn id="397" idx="3"/>
            <a:endCxn id="413" idx="1"/>
          </p:cNvCxnSpPr>
          <p:nvPr/>
        </p:nvCxnSpPr>
        <p:spPr>
          <a:xfrm>
            <a:off x="7543440" y="3492000"/>
            <a:ext cx="29916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22" name=""/>
          <p:cNvCxnSpPr>
            <a:stCxn id="400" idx="3"/>
            <a:endCxn id="405" idx="1"/>
          </p:cNvCxnSpPr>
          <p:nvPr/>
        </p:nvCxnSpPr>
        <p:spPr>
          <a:xfrm>
            <a:off x="7543440" y="3758760"/>
            <a:ext cx="29916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23" name=""/>
          <p:cNvCxnSpPr>
            <a:stCxn id="395" idx="3"/>
            <a:endCxn id="404" idx="1"/>
          </p:cNvCxnSpPr>
          <p:nvPr/>
        </p:nvCxnSpPr>
        <p:spPr>
          <a:xfrm>
            <a:off x="7535520" y="2477880"/>
            <a:ext cx="2991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/>
          <p:nvPr/>
        </p:nvSpPr>
        <p:spPr>
          <a:xfrm>
            <a:off x="471960" y="176040"/>
            <a:ext cx="39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4920" y="579600"/>
            <a:ext cx="685800" cy="2188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 oper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55160" y="6497640"/>
            <a:ext cx="464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g. 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125360" y="252360"/>
            <a:ext cx="1016280" cy="8650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8.88 blink 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displa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indow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128680" y="47160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1668600" y="111744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1176480" y="3830760"/>
            <a:ext cx="914400" cy="6094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the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2VD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t TP3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33440" y="3830760"/>
            <a:ext cx="914400" cy="6094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the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VD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t TP2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947960" y="391644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043080" y="392112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1635480" y="443556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2692800" y="444024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317760" y="3619440"/>
            <a:ext cx="1157400" cy="10382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t AC co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lug-in, does volt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t TP7 turn Hig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om Low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5716440" y="3703680"/>
            <a:ext cx="1752840" cy="1951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Microprocessor IC-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7770960" y="5716440"/>
            <a:ext cx="1143000" cy="21600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fu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02400" y="4551480"/>
            <a:ext cx="1752480" cy="1965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capacitor C1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770960" y="3379680"/>
            <a:ext cx="1144440" cy="17964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fill fue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1951200" y="1327320"/>
            <a:ext cx="717480" cy="3571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ON/O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utton to 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7769160" y="2224080"/>
            <a:ext cx="1144800" cy="3049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oper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rcuit board CN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865080" y="1001880"/>
            <a:ext cx="430200" cy="3092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lug 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C co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7772400" y="5986440"/>
            <a:ext cx="1144440" cy="2221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transform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716440" y="3394080"/>
            <a:ext cx="1752840" cy="1522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 fue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19680" y="388800"/>
            <a:ext cx="1752840" cy="1526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resistor R38 - R3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19680" y="612720"/>
            <a:ext cx="1752840" cy="14940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capacitor C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21480" y="1311120"/>
            <a:ext cx="1752480" cy="1526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resistor R5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165480" y="1905120"/>
            <a:ext cx="1913040" cy="51120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move the connector CN1 of oper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rcuit board from PCB and th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umper pins T1 &amp; T6 on PC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5721480" y="1531800"/>
            <a:ext cx="1752480" cy="1526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microprocessor IC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1" name=""/>
          <p:cNvCxnSpPr>
            <a:stCxn id="436" idx="3"/>
            <a:endCxn id="437" idx="1"/>
          </p:cNvCxnSpPr>
          <p:nvPr/>
        </p:nvCxnSpPr>
        <p:spPr>
          <a:xfrm flipV="1">
            <a:off x="4475160" y="3801240"/>
            <a:ext cx="1242000" cy="33732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52" name=""/>
          <p:cNvSpPr/>
          <p:nvPr/>
        </p:nvSpPr>
        <p:spPr>
          <a:xfrm>
            <a:off x="5702400" y="3983040"/>
            <a:ext cx="175248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comparator IC1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702400" y="4267080"/>
            <a:ext cx="175248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resistor R29 - R3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702400" y="4819680"/>
            <a:ext cx="175248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switch SW1 (Rese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5702400" y="5197320"/>
            <a:ext cx="175248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IC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5702400" y="5448240"/>
            <a:ext cx="175248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capacitor C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7" name=""/>
          <p:cNvCxnSpPr>
            <a:stCxn id="452" idx="1"/>
            <a:endCxn id="439" idx="1"/>
          </p:cNvCxnSpPr>
          <p:nvPr/>
        </p:nvCxnSpPr>
        <p:spPr>
          <a:xfrm flipH="1" flipV="1" rot="10800000">
            <a:off x="5702040" y="4079880"/>
            <a:ext cx="2160" cy="56880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58" name=""/>
          <p:cNvCxnSpPr>
            <a:stCxn id="453" idx="1"/>
            <a:endCxn id="454" idx="1"/>
          </p:cNvCxnSpPr>
          <p:nvPr/>
        </p:nvCxnSpPr>
        <p:spPr>
          <a:xfrm flipH="1" flipV="1" rot="10800000">
            <a:off x="5702040" y="4365360"/>
            <a:ext cx="2160" cy="5529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59" name=""/>
          <p:cNvCxnSpPr>
            <a:stCxn id="436" idx="2"/>
            <a:endCxn id="454" idx="1"/>
          </p:cNvCxnSpPr>
          <p:nvPr/>
        </p:nvCxnSpPr>
        <p:spPr>
          <a:xfrm flipH="1" rot="16200000">
            <a:off x="4669560" y="3884760"/>
            <a:ext cx="261000" cy="18057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60" name=""/>
          <p:cNvCxnSpPr>
            <a:stCxn id="456" idx="1"/>
            <a:endCxn id="455" idx="1"/>
          </p:cNvCxnSpPr>
          <p:nvPr/>
        </p:nvCxnSpPr>
        <p:spPr>
          <a:xfrm flipH="1" rot="10800000">
            <a:off x="5702040" y="5295240"/>
            <a:ext cx="2160" cy="25164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61" name=""/>
          <p:cNvCxnSpPr>
            <a:stCxn id="431" idx="2"/>
            <a:endCxn id="455" idx="1"/>
          </p:cNvCxnSpPr>
          <p:nvPr/>
        </p:nvCxnSpPr>
        <p:spPr>
          <a:xfrm flipH="1" rot="16200000">
            <a:off x="3768480" y="3361680"/>
            <a:ext cx="856440" cy="3012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62" name=""/>
          <p:cNvSpPr/>
          <p:nvPr/>
        </p:nvSpPr>
        <p:spPr>
          <a:xfrm>
            <a:off x="4437000" y="392436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3899160" y="470376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5702400" y="5735520"/>
            <a:ext cx="175248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use F1 op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702400" y="5986440"/>
            <a:ext cx="175248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transform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5703840" y="6237360"/>
            <a:ext cx="175248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diode D6 - D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5703840" y="6512040"/>
            <a:ext cx="1752480" cy="1965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capacitor C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8" name=""/>
          <p:cNvCxnSpPr>
            <a:stCxn id="430" idx="2"/>
            <a:endCxn id="464" idx="1"/>
          </p:cNvCxnSpPr>
          <p:nvPr/>
        </p:nvCxnSpPr>
        <p:spPr>
          <a:xfrm flipH="1" rot="16200000">
            <a:off x="2971080" y="3102480"/>
            <a:ext cx="1394640" cy="40694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69" name=""/>
          <p:cNvCxnSpPr>
            <a:stCxn id="464" idx="1"/>
            <a:endCxn id="466" idx="1"/>
          </p:cNvCxnSpPr>
          <p:nvPr/>
        </p:nvCxnSpPr>
        <p:spPr>
          <a:xfrm flipH="1" flipV="1" rot="10800000">
            <a:off x="5702040" y="5832720"/>
            <a:ext cx="2160" cy="50184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0" name=""/>
          <p:cNvCxnSpPr>
            <a:stCxn id="465" idx="1"/>
            <a:endCxn id="467" idx="1"/>
          </p:cNvCxnSpPr>
          <p:nvPr/>
        </p:nvCxnSpPr>
        <p:spPr>
          <a:xfrm flipH="1" flipV="1" rot="10800000">
            <a:off x="5702040" y="6084360"/>
            <a:ext cx="2160" cy="5263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1" name=""/>
          <p:cNvCxnSpPr>
            <a:stCxn id="427" idx="2"/>
            <a:endCxn id="430" idx="0"/>
          </p:cNvCxnSpPr>
          <p:nvPr/>
        </p:nvCxnSpPr>
        <p:spPr>
          <a:xfrm>
            <a:off x="1633320" y="1117080"/>
            <a:ext cx="1080" cy="27140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72" name=""/>
          <p:cNvSpPr/>
          <p:nvPr/>
        </p:nvSpPr>
        <p:spPr>
          <a:xfrm>
            <a:off x="3317760" y="50472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2948400" y="99216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2489040" y="380880"/>
            <a:ext cx="914400" cy="6098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there fuel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-422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664080" y="382680"/>
            <a:ext cx="914400" cy="6094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Empty L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it? (M-422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4467240" y="47304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4162680" y="88272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8" name=""/>
          <p:cNvCxnSpPr>
            <a:stCxn id="446" idx="1"/>
            <a:endCxn id="447" idx="1"/>
          </p:cNvCxnSpPr>
          <p:nvPr/>
        </p:nvCxnSpPr>
        <p:spPr>
          <a:xfrm flipH="1" flipV="1" rot="10800000">
            <a:off x="5718600" y="464040"/>
            <a:ext cx="2520" cy="22284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9" name=""/>
          <p:cNvCxnSpPr>
            <a:stCxn id="474" idx="2"/>
            <a:endCxn id="445" idx="1"/>
          </p:cNvCxnSpPr>
          <p:nvPr/>
        </p:nvCxnSpPr>
        <p:spPr>
          <a:xfrm flipH="1" rot="16200000">
            <a:off x="3090600" y="845280"/>
            <a:ext cx="2480400" cy="2770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80" name=""/>
          <p:cNvSpPr/>
          <p:nvPr/>
        </p:nvSpPr>
        <p:spPr>
          <a:xfrm>
            <a:off x="3409920" y="1027080"/>
            <a:ext cx="1424160" cy="7160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temperatu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splayed 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splay window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4897440" y="119376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4124520" y="172728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664080" y="2550960"/>
            <a:ext cx="914400" cy="6098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eater start 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perate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4460760" y="264168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4213440" y="305280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721480" y="1096920"/>
            <a:ext cx="1752480" cy="1522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resonator XL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7" name=""/>
          <p:cNvCxnSpPr>
            <a:stCxn id="486" idx="1"/>
            <a:endCxn id="450" idx="1"/>
          </p:cNvCxnSpPr>
          <p:nvPr/>
        </p:nvCxnSpPr>
        <p:spPr>
          <a:xfrm flipH="1" flipV="1" rot="10800000">
            <a:off x="5721120" y="1172880"/>
            <a:ext cx="2160" cy="43560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8" name=""/>
          <p:cNvCxnSpPr>
            <a:stCxn id="480" idx="3"/>
            <a:endCxn id="448" idx="1"/>
          </p:cNvCxnSpPr>
          <p:nvPr/>
        </p:nvCxnSpPr>
        <p:spPr>
          <a:xfrm>
            <a:off x="4833720" y="1386000"/>
            <a:ext cx="888120" cy="2160"/>
          </a:xfrm>
          <a:prstGeom prst="bentConnector3">
            <a:avLst>
              <a:gd name="adj1" fmla="val 49878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89" name=""/>
          <p:cNvSpPr/>
          <p:nvPr/>
        </p:nvSpPr>
        <p:spPr>
          <a:xfrm>
            <a:off x="5718240" y="2300400"/>
            <a:ext cx="1752480" cy="1522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operation circuit board CN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5718240" y="2813040"/>
            <a:ext cx="1752480" cy="1522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resistor R5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718240" y="3033720"/>
            <a:ext cx="1752480" cy="1522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microprocessor IC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718240" y="2598840"/>
            <a:ext cx="1752480" cy="1522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resonator XL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3" name=""/>
          <p:cNvCxnSpPr>
            <a:stCxn id="492" idx="1"/>
            <a:endCxn id="490" idx="1"/>
          </p:cNvCxnSpPr>
          <p:nvPr/>
        </p:nvCxnSpPr>
        <p:spPr>
          <a:xfrm flipH="1" flipV="1" rot="10800000">
            <a:off x="5717880" y="2674440"/>
            <a:ext cx="2160" cy="21528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4" name=""/>
          <p:cNvCxnSpPr>
            <a:stCxn id="483" idx="3"/>
            <a:endCxn id="489" idx="1"/>
          </p:cNvCxnSpPr>
          <p:nvPr/>
        </p:nvCxnSpPr>
        <p:spPr>
          <a:xfrm flipV="1">
            <a:off x="4578480" y="2376000"/>
            <a:ext cx="1140480" cy="480240"/>
          </a:xfrm>
          <a:prstGeom prst="bentConnector3">
            <a:avLst>
              <a:gd name="adj1" fmla="val 6154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5" name=""/>
          <p:cNvCxnSpPr>
            <a:stCxn id="483" idx="2"/>
            <a:endCxn id="491" idx="1"/>
          </p:cNvCxnSpPr>
          <p:nvPr/>
        </p:nvCxnSpPr>
        <p:spPr>
          <a:xfrm flipH="1" flipV="1" rot="5400000">
            <a:off x="4894200" y="2336400"/>
            <a:ext cx="51480" cy="1597680"/>
          </a:xfrm>
          <a:prstGeom prst="bentConnector4">
            <a:avLst>
              <a:gd name="adj1" fmla="val -140140"/>
              <a:gd name="adj2" fmla="val 643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6" name=""/>
          <p:cNvCxnSpPr>
            <a:stCxn id="475" idx="3"/>
            <a:endCxn id="447" idx="1"/>
          </p:cNvCxnSpPr>
          <p:nvPr/>
        </p:nvCxnSpPr>
        <p:spPr>
          <a:xfrm>
            <a:off x="4578480" y="686880"/>
            <a:ext cx="1141920" cy="1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7" name=""/>
          <p:cNvCxnSpPr>
            <a:stCxn id="489" idx="3"/>
            <a:endCxn id="442" idx="1"/>
          </p:cNvCxnSpPr>
          <p:nvPr/>
        </p:nvCxnSpPr>
        <p:spPr>
          <a:xfrm>
            <a:off x="7470360" y="2376000"/>
            <a:ext cx="2991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8" name=""/>
          <p:cNvCxnSpPr>
            <a:stCxn id="445" idx="3"/>
            <a:endCxn id="440" idx="1"/>
          </p:cNvCxnSpPr>
          <p:nvPr/>
        </p:nvCxnSpPr>
        <p:spPr>
          <a:xfrm>
            <a:off x="7469280" y="3470040"/>
            <a:ext cx="3024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9" name=""/>
          <p:cNvCxnSpPr>
            <a:stCxn id="464" idx="3"/>
            <a:endCxn id="438" idx="1"/>
          </p:cNvCxnSpPr>
          <p:nvPr/>
        </p:nvCxnSpPr>
        <p:spPr>
          <a:xfrm flipV="1">
            <a:off x="7454880" y="5823720"/>
            <a:ext cx="316800" cy="10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0" name=""/>
          <p:cNvCxnSpPr>
            <a:stCxn id="465" idx="3"/>
            <a:endCxn id="444" idx="1"/>
          </p:cNvCxnSpPr>
          <p:nvPr/>
        </p:nvCxnSpPr>
        <p:spPr>
          <a:xfrm>
            <a:off x="7454880" y="6084720"/>
            <a:ext cx="317880" cy="13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1" name=""/>
          <p:cNvCxnSpPr>
            <a:stCxn id="425" idx="3"/>
            <a:endCxn id="427" idx="1"/>
          </p:cNvCxnSpPr>
          <p:nvPr/>
        </p:nvCxnSpPr>
        <p:spPr>
          <a:xfrm flipV="1">
            <a:off x="990720" y="685080"/>
            <a:ext cx="13536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2" name=""/>
          <p:cNvCxnSpPr>
            <a:stCxn id="427" idx="3"/>
            <a:endCxn id="474" idx="1"/>
          </p:cNvCxnSpPr>
          <p:nvPr/>
        </p:nvCxnSpPr>
        <p:spPr>
          <a:xfrm>
            <a:off x="2141280" y="685440"/>
            <a:ext cx="34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3" name=""/>
          <p:cNvCxnSpPr>
            <a:stCxn id="474" idx="3"/>
            <a:endCxn id="475" idx="1"/>
          </p:cNvCxnSpPr>
          <p:nvPr/>
        </p:nvCxnSpPr>
        <p:spPr>
          <a:xfrm>
            <a:off x="3403440" y="685800"/>
            <a:ext cx="2613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4" name=""/>
          <p:cNvCxnSpPr>
            <a:stCxn id="475" idx="2"/>
            <a:endCxn id="480" idx="0"/>
          </p:cNvCxnSpPr>
          <p:nvPr/>
        </p:nvCxnSpPr>
        <p:spPr>
          <a:xfrm>
            <a:off x="4121280" y="991800"/>
            <a:ext cx="2160" cy="35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5" name=""/>
          <p:cNvCxnSpPr>
            <a:stCxn id="480" idx="2"/>
            <a:endCxn id="449" idx="0"/>
          </p:cNvCxnSpPr>
          <p:nvPr/>
        </p:nvCxnSpPr>
        <p:spPr>
          <a:xfrm>
            <a:off x="4122360" y="1743120"/>
            <a:ext cx="1080" cy="162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6" name=""/>
          <p:cNvCxnSpPr>
            <a:stCxn id="449" idx="2"/>
            <a:endCxn id="483" idx="0"/>
          </p:cNvCxnSpPr>
          <p:nvPr/>
        </p:nvCxnSpPr>
        <p:spPr>
          <a:xfrm flipH="1">
            <a:off x="4120920" y="2416320"/>
            <a:ext cx="2160" cy="135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7" name=""/>
          <p:cNvCxnSpPr>
            <a:stCxn id="491" idx="1"/>
            <a:endCxn id="490" idx="1"/>
          </p:cNvCxnSpPr>
          <p:nvPr/>
        </p:nvCxnSpPr>
        <p:spPr>
          <a:xfrm flipH="1" rot="10800000">
            <a:off x="5717880" y="2888640"/>
            <a:ext cx="2160" cy="22140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8" name=""/>
          <p:cNvCxnSpPr>
            <a:stCxn id="430" idx="3"/>
            <a:endCxn id="431" idx="1"/>
          </p:cNvCxnSpPr>
          <p:nvPr/>
        </p:nvCxnSpPr>
        <p:spPr>
          <a:xfrm>
            <a:off x="2090880" y="4134960"/>
            <a:ext cx="1432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9" name=""/>
          <p:cNvCxnSpPr>
            <a:stCxn id="431" idx="3"/>
            <a:endCxn id="436" idx="1"/>
          </p:cNvCxnSpPr>
          <p:nvPr/>
        </p:nvCxnSpPr>
        <p:spPr>
          <a:xfrm>
            <a:off x="3147840" y="4134960"/>
            <a:ext cx="17064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10" name=""/>
          <p:cNvCxnSpPr>
            <a:stCxn id="443" idx="0"/>
          </p:cNvCxnSpPr>
          <p:nvPr/>
        </p:nvCxnSpPr>
        <p:spPr>
          <a:xfrm flipV="1">
            <a:off x="1080720" y="685440"/>
            <a:ext cx="1080" cy="316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11" name=""/>
          <p:cNvCxnSpPr>
            <a:stCxn id="441" idx="0"/>
            <a:endCxn id="428" idx="2"/>
          </p:cNvCxnSpPr>
          <p:nvPr/>
        </p:nvCxnSpPr>
        <p:spPr>
          <a:xfrm flipV="1">
            <a:off x="2309400" y="685440"/>
            <a:ext cx="1080" cy="642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2" name=""/>
          <p:cNvSpPr/>
          <p:nvPr/>
        </p:nvSpPr>
        <p:spPr>
          <a:xfrm>
            <a:off x="7751880" y="515880"/>
            <a:ext cx="1162080" cy="97020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f problem is found 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e in the PCB, do no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ttempt to repair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&amp; send PC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rough your distribut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o MPI for repair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380880" y="1863720"/>
            <a:ext cx="914400" cy="55260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E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CB stands f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inted Circu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380880" y="3052800"/>
            <a:ext cx="914400" cy="6793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E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C voltages a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asured wi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spect to EP 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C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"/>
          <p:cNvSpPr/>
          <p:nvPr/>
        </p:nvSpPr>
        <p:spPr>
          <a:xfrm>
            <a:off x="471960" y="176040"/>
            <a:ext cx="39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304920" y="579600"/>
            <a:ext cx="685800" cy="2188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 igni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1092240" y="252360"/>
            <a:ext cx="1015920" cy="8650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gniter red 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heat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635480" y="111744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19" name=""/>
          <p:cNvCxnSpPr>
            <a:stCxn id="516" idx="3"/>
            <a:endCxn id="517" idx="1"/>
          </p:cNvCxnSpPr>
          <p:nvPr/>
        </p:nvCxnSpPr>
        <p:spPr>
          <a:xfrm flipV="1">
            <a:off x="990720" y="685080"/>
            <a:ext cx="10224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20" name=""/>
          <p:cNvSpPr/>
          <p:nvPr/>
        </p:nvSpPr>
        <p:spPr>
          <a:xfrm>
            <a:off x="155160" y="6497640"/>
            <a:ext cx="464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g. 5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1981080" y="47160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724360" y="5253120"/>
            <a:ext cx="1752840" cy="1951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relay RL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5719680" y="6181560"/>
            <a:ext cx="175284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microprocessor IC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7770960" y="3540240"/>
            <a:ext cx="1144440" cy="30456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bustion blow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5722920" y="3219480"/>
            <a:ext cx="1752480" cy="1522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resistor R1, R5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5719680" y="5533920"/>
            <a:ext cx="175284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use F2 op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5729400" y="5818320"/>
            <a:ext cx="1752480" cy="1965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gniter op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5719680" y="6450120"/>
            <a:ext cx="175284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inverter array IC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5721480" y="4260960"/>
            <a:ext cx="1752480" cy="1522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microprocessor IC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5722920" y="2774880"/>
            <a:ext cx="1752480" cy="1526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photo-triac IC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5722920" y="2997360"/>
            <a:ext cx="1752480" cy="1522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triac Q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5721480" y="4484520"/>
            <a:ext cx="1752480" cy="1526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inverter array IC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1092240" y="5199120"/>
            <a:ext cx="1015920" cy="8650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the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2VDC on coi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f relay RL1 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heat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1635480" y="609444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2095560" y="541800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6" name=""/>
          <p:cNvCxnSpPr>
            <a:stCxn id="523" idx="1"/>
            <a:endCxn id="528" idx="1"/>
          </p:cNvCxnSpPr>
          <p:nvPr/>
        </p:nvCxnSpPr>
        <p:spPr>
          <a:xfrm flipH="1" flipV="1" rot="10800000">
            <a:off x="5718600" y="6279120"/>
            <a:ext cx="2520" cy="268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37" name=""/>
          <p:cNvCxnSpPr>
            <a:stCxn id="533" idx="2"/>
            <a:endCxn id="523" idx="1"/>
          </p:cNvCxnSpPr>
          <p:nvPr/>
        </p:nvCxnSpPr>
        <p:spPr>
          <a:xfrm flipH="1" rot="16200000">
            <a:off x="3551040" y="4112280"/>
            <a:ext cx="216720" cy="41202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38" name=""/>
          <p:cNvSpPr/>
          <p:nvPr/>
        </p:nvSpPr>
        <p:spPr>
          <a:xfrm>
            <a:off x="7770960" y="5826240"/>
            <a:ext cx="1144440" cy="1792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igni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7775640" y="5541840"/>
            <a:ext cx="1144440" cy="17964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fu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0" name=""/>
          <p:cNvCxnSpPr>
            <a:stCxn id="522" idx="1"/>
            <a:endCxn id="527" idx="1"/>
          </p:cNvCxnSpPr>
          <p:nvPr/>
        </p:nvCxnSpPr>
        <p:spPr>
          <a:xfrm flipH="1" flipV="1" rot="10800000">
            <a:off x="5724000" y="5351040"/>
            <a:ext cx="5760" cy="565920"/>
          </a:xfrm>
          <a:prstGeom prst="bentConnector3">
            <a:avLst>
              <a:gd name="adj1" fmla="val -48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1" name=""/>
          <p:cNvCxnSpPr>
            <a:stCxn id="533" idx="3"/>
            <a:endCxn id="526" idx="1"/>
          </p:cNvCxnSpPr>
          <p:nvPr/>
        </p:nvCxnSpPr>
        <p:spPr>
          <a:xfrm>
            <a:off x="2108160" y="5632200"/>
            <a:ext cx="3612240" cy="1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2" name=""/>
          <p:cNvCxnSpPr>
            <a:stCxn id="526" idx="3"/>
            <a:endCxn id="539" idx="1"/>
          </p:cNvCxnSpPr>
          <p:nvPr/>
        </p:nvCxnSpPr>
        <p:spPr>
          <a:xfrm>
            <a:off x="7472520" y="5632200"/>
            <a:ext cx="3038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3" name=""/>
          <p:cNvCxnSpPr>
            <a:stCxn id="527" idx="3"/>
            <a:endCxn id="538" idx="1"/>
          </p:cNvCxnSpPr>
          <p:nvPr/>
        </p:nvCxnSpPr>
        <p:spPr>
          <a:xfrm>
            <a:off x="7481520" y="5916240"/>
            <a:ext cx="289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44" name=""/>
          <p:cNvSpPr/>
          <p:nvPr/>
        </p:nvSpPr>
        <p:spPr>
          <a:xfrm>
            <a:off x="2490840" y="166680"/>
            <a:ext cx="1157400" cy="10382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bus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lower work dur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purge &amp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gniting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495600" y="47160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3072240" y="125100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2558880" y="3084480"/>
            <a:ext cx="1016280" cy="8650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the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2VDC betwe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P3 &amp; IC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in 13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3102120" y="394956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3562200" y="330372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0" name=""/>
          <p:cNvCxnSpPr>
            <a:stCxn id="529" idx="1"/>
            <a:endCxn id="532" idx="1"/>
          </p:cNvCxnSpPr>
          <p:nvPr/>
        </p:nvCxnSpPr>
        <p:spPr>
          <a:xfrm flipH="1" flipV="1" rot="10800000">
            <a:off x="5721120" y="4336560"/>
            <a:ext cx="2160" cy="22464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51" name=""/>
          <p:cNvCxnSpPr>
            <a:stCxn id="547" idx="2"/>
            <a:endCxn id="529" idx="1"/>
          </p:cNvCxnSpPr>
          <p:nvPr/>
        </p:nvCxnSpPr>
        <p:spPr>
          <a:xfrm flipH="1" rot="16200000">
            <a:off x="4199760" y="2815920"/>
            <a:ext cx="388080" cy="26550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52" name=""/>
          <p:cNvSpPr/>
          <p:nvPr/>
        </p:nvSpPr>
        <p:spPr>
          <a:xfrm>
            <a:off x="5722920" y="3886200"/>
            <a:ext cx="1752480" cy="1522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orrect wiring of combustion blow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5722920" y="3441600"/>
            <a:ext cx="1752480" cy="1526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capacitor C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5722920" y="3664080"/>
            <a:ext cx="1752480" cy="1522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combustion blow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7773840" y="3954600"/>
            <a:ext cx="1144800" cy="1792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rect wir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6" name=""/>
          <p:cNvCxnSpPr>
            <a:stCxn id="554" idx="3"/>
            <a:endCxn id="524" idx="1"/>
          </p:cNvCxnSpPr>
          <p:nvPr/>
        </p:nvCxnSpPr>
        <p:spPr>
          <a:xfrm flipV="1">
            <a:off x="7475040" y="3692160"/>
            <a:ext cx="296280" cy="48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57" name=""/>
          <p:cNvCxnSpPr>
            <a:stCxn id="552" idx="3"/>
            <a:endCxn id="555" idx="1"/>
          </p:cNvCxnSpPr>
          <p:nvPr/>
        </p:nvCxnSpPr>
        <p:spPr>
          <a:xfrm>
            <a:off x="7475040" y="3962160"/>
            <a:ext cx="299160" cy="83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58" name=""/>
          <p:cNvCxnSpPr>
            <a:stCxn id="530" idx="1"/>
            <a:endCxn id="531" idx="1"/>
          </p:cNvCxnSpPr>
          <p:nvPr/>
        </p:nvCxnSpPr>
        <p:spPr>
          <a:xfrm flipH="1" flipV="1" rot="10800000">
            <a:off x="5722560" y="2850120"/>
            <a:ext cx="2160" cy="22284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59" name=""/>
          <p:cNvCxnSpPr>
            <a:stCxn id="531" idx="1"/>
            <a:endCxn id="525" idx="1"/>
          </p:cNvCxnSpPr>
          <p:nvPr/>
        </p:nvCxnSpPr>
        <p:spPr>
          <a:xfrm flipH="1" flipV="1" rot="10800000">
            <a:off x="5722560" y="3072960"/>
            <a:ext cx="2160" cy="22320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60" name=""/>
          <p:cNvCxnSpPr>
            <a:stCxn id="525" idx="1"/>
            <a:endCxn id="553" idx="1"/>
          </p:cNvCxnSpPr>
          <p:nvPr/>
        </p:nvCxnSpPr>
        <p:spPr>
          <a:xfrm flipH="1" flipV="1" rot="10800000">
            <a:off x="5722560" y="3294720"/>
            <a:ext cx="2160" cy="22284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61" name=""/>
          <p:cNvCxnSpPr>
            <a:stCxn id="553" idx="1"/>
            <a:endCxn id="554" idx="1"/>
          </p:cNvCxnSpPr>
          <p:nvPr/>
        </p:nvCxnSpPr>
        <p:spPr>
          <a:xfrm flipH="1" flipV="1" rot="10800000">
            <a:off x="5722560" y="3516840"/>
            <a:ext cx="2160" cy="22284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62" name=""/>
          <p:cNvCxnSpPr>
            <a:stCxn id="554" idx="1"/>
            <a:endCxn id="552" idx="1"/>
          </p:cNvCxnSpPr>
          <p:nvPr/>
        </p:nvCxnSpPr>
        <p:spPr>
          <a:xfrm flipH="1" flipV="1" rot="10800000">
            <a:off x="5722560" y="3739680"/>
            <a:ext cx="2160" cy="22320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63" name=""/>
          <p:cNvCxnSpPr>
            <a:stCxn id="547" idx="3"/>
            <a:endCxn id="553" idx="1"/>
          </p:cNvCxnSpPr>
          <p:nvPr/>
        </p:nvCxnSpPr>
        <p:spPr>
          <a:xfrm>
            <a:off x="3575160" y="3517560"/>
            <a:ext cx="2148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64" name=""/>
          <p:cNvSpPr/>
          <p:nvPr/>
        </p:nvSpPr>
        <p:spPr>
          <a:xfrm>
            <a:off x="4199040" y="252360"/>
            <a:ext cx="1015920" cy="8650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ir Pressu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witch wor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rmally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4742280" y="111744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5202360" y="47160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7" name=""/>
          <p:cNvCxnSpPr>
            <a:stCxn id="544" idx="2"/>
            <a:endCxn id="547" idx="0"/>
          </p:cNvCxnSpPr>
          <p:nvPr/>
        </p:nvCxnSpPr>
        <p:spPr>
          <a:xfrm rot="5400000">
            <a:off x="2128320" y="2143080"/>
            <a:ext cx="1880280" cy="36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68" name=""/>
          <p:cNvCxnSpPr>
            <a:stCxn id="517" idx="2"/>
            <a:endCxn id="533" idx="0"/>
          </p:cNvCxnSpPr>
          <p:nvPr/>
        </p:nvCxnSpPr>
        <p:spPr>
          <a:xfrm flipV="1" rot="10800000">
            <a:off x="1599480" y="1117080"/>
            <a:ext cx="1080" cy="40824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69" name=""/>
          <p:cNvSpPr/>
          <p:nvPr/>
        </p:nvSpPr>
        <p:spPr>
          <a:xfrm rot="16200000">
            <a:off x="7889040" y="303480"/>
            <a:ext cx="522360" cy="768600"/>
          </a:xfrm>
          <a:prstGeom prst="flowChartOffpage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on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xt p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0" name=""/>
          <p:cNvCxnSpPr>
            <a:stCxn id="564" idx="3"/>
            <a:endCxn id="569" idx="0"/>
          </p:cNvCxnSpPr>
          <p:nvPr/>
        </p:nvCxnSpPr>
        <p:spPr>
          <a:xfrm>
            <a:off x="5214960" y="685440"/>
            <a:ext cx="255168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71" name=""/>
          <p:cNvSpPr/>
          <p:nvPr/>
        </p:nvSpPr>
        <p:spPr>
          <a:xfrm>
            <a:off x="5705640" y="1503360"/>
            <a:ext cx="1752480" cy="1951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air pressure switc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5710320" y="1784520"/>
            <a:ext cx="1752480" cy="2840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ubber hose is block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r disconnect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5721480" y="2166840"/>
            <a:ext cx="175248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orrect wir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772400" y="2174760"/>
            <a:ext cx="1144440" cy="17964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rect wir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5" name=""/>
          <p:cNvCxnSpPr>
            <a:stCxn id="571" idx="1"/>
            <a:endCxn id="573" idx="1"/>
          </p:cNvCxnSpPr>
          <p:nvPr/>
        </p:nvCxnSpPr>
        <p:spPr>
          <a:xfrm flipH="1" flipV="1" rot="10800000">
            <a:off x="5705280" y="1601280"/>
            <a:ext cx="16560" cy="664560"/>
          </a:xfrm>
          <a:prstGeom prst="bentConnector3">
            <a:avLst>
              <a:gd name="adj1" fmla="val -144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76" name=""/>
          <p:cNvCxnSpPr>
            <a:stCxn id="573" idx="3"/>
            <a:endCxn id="574" idx="1"/>
          </p:cNvCxnSpPr>
          <p:nvPr/>
        </p:nvCxnSpPr>
        <p:spPr>
          <a:xfrm>
            <a:off x="7473600" y="2265120"/>
            <a:ext cx="2991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77" name=""/>
          <p:cNvSpPr/>
          <p:nvPr/>
        </p:nvSpPr>
        <p:spPr>
          <a:xfrm>
            <a:off x="7759800" y="1393920"/>
            <a:ext cx="1144440" cy="30456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ure switc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7759800" y="1763640"/>
            <a:ext cx="1144440" cy="3049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ear or connec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ubber ho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9" name=""/>
          <p:cNvCxnSpPr>
            <a:stCxn id="571" idx="3"/>
            <a:endCxn id="577" idx="1"/>
          </p:cNvCxnSpPr>
          <p:nvPr/>
        </p:nvCxnSpPr>
        <p:spPr>
          <a:xfrm flipV="1">
            <a:off x="7458120" y="1545840"/>
            <a:ext cx="302400" cy="56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80" name=""/>
          <p:cNvCxnSpPr>
            <a:stCxn id="572" idx="3"/>
            <a:endCxn id="578" idx="1"/>
          </p:cNvCxnSpPr>
          <p:nvPr/>
        </p:nvCxnSpPr>
        <p:spPr>
          <a:xfrm flipV="1">
            <a:off x="7462440" y="1915920"/>
            <a:ext cx="297720" cy="11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81" name=""/>
          <p:cNvCxnSpPr>
            <a:stCxn id="564" idx="2"/>
            <a:endCxn id="572" idx="1"/>
          </p:cNvCxnSpPr>
          <p:nvPr/>
        </p:nvCxnSpPr>
        <p:spPr>
          <a:xfrm flipH="1" rot="16200000">
            <a:off x="4802400" y="1020240"/>
            <a:ext cx="810360" cy="1003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82" name=""/>
          <p:cNvCxnSpPr>
            <a:stCxn id="544" idx="3"/>
            <a:endCxn id="564" idx="1"/>
          </p:cNvCxnSpPr>
          <p:nvPr/>
        </p:nvCxnSpPr>
        <p:spPr>
          <a:xfrm>
            <a:off x="3648240" y="685440"/>
            <a:ext cx="551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83" name=""/>
          <p:cNvCxnSpPr>
            <a:stCxn id="544" idx="1"/>
            <a:endCxn id="517" idx="3"/>
          </p:cNvCxnSpPr>
          <p:nvPr/>
        </p:nvCxnSpPr>
        <p:spPr>
          <a:xfrm flipH="1">
            <a:off x="2107440" y="685440"/>
            <a:ext cx="3834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84" name=""/>
          <p:cNvCxnSpPr>
            <a:stCxn id="517" idx="1"/>
            <a:endCxn id="516" idx="3"/>
          </p:cNvCxnSpPr>
          <p:nvPr/>
        </p:nvCxnSpPr>
        <p:spPr>
          <a:xfrm flipH="1">
            <a:off x="990360" y="685440"/>
            <a:ext cx="10224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"/>
          <p:cNvSpPr/>
          <p:nvPr/>
        </p:nvSpPr>
        <p:spPr>
          <a:xfrm>
            <a:off x="471960" y="176040"/>
            <a:ext cx="39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155160" y="6497640"/>
            <a:ext cx="464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g. 5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 rot="16200000">
            <a:off x="427680" y="300240"/>
            <a:ext cx="522360" cy="768240"/>
          </a:xfrm>
          <a:prstGeom prst="flowChartOffpage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fro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viou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1549440" y="252360"/>
            <a:ext cx="1015920" cy="8650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es Solenoi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ump work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2092680" y="111744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2438280" y="47160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1549440" y="3048120"/>
            <a:ext cx="1015920" cy="8650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the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0VDC acros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ode brid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2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2092680" y="391320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2438280" y="326700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700600" y="5575320"/>
            <a:ext cx="1752840" cy="1951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resistor R5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700600" y="5851440"/>
            <a:ext cx="175284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photo-triac IC1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5700600" y="6129360"/>
            <a:ext cx="175284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transistor Q6, Q1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5700600" y="587520"/>
            <a:ext cx="1752840" cy="1951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fuel supply par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85000" y="522360"/>
            <a:ext cx="1143000" cy="3268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eck fuel suppl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r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5700600" y="2795760"/>
            <a:ext cx="1752840" cy="1965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zener diode ZD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5700600" y="2209680"/>
            <a:ext cx="175284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resistor R2 - R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5700600" y="2502000"/>
            <a:ext cx="175284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capacitor C4 - C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5700600" y="3087720"/>
            <a:ext cx="175284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diode D3 - D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5700600" y="3381480"/>
            <a:ext cx="175284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trigger diode T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5700600" y="3675240"/>
            <a:ext cx="1752840" cy="1965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thyristor Q2, Q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5700600" y="4464000"/>
            <a:ext cx="175284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diode bridge D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5700600" y="4741920"/>
            <a:ext cx="175284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microprocessor IC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700600" y="5019840"/>
            <a:ext cx="1752840" cy="1965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inverter array IC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700600" y="5297400"/>
            <a:ext cx="175284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diode D1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09" name=""/>
          <p:cNvCxnSpPr>
            <a:stCxn id="600" idx="1"/>
            <a:endCxn id="601" idx="1"/>
          </p:cNvCxnSpPr>
          <p:nvPr/>
        </p:nvCxnSpPr>
        <p:spPr>
          <a:xfrm flipH="1" flipV="1" rot="10800000">
            <a:off x="5699520" y="2307240"/>
            <a:ext cx="2520" cy="29268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10" name=""/>
          <p:cNvCxnSpPr>
            <a:stCxn id="601" idx="1"/>
            <a:endCxn id="599" idx="1"/>
          </p:cNvCxnSpPr>
          <p:nvPr/>
        </p:nvCxnSpPr>
        <p:spPr>
          <a:xfrm flipH="1" flipV="1" rot="10800000">
            <a:off x="5699520" y="2599920"/>
            <a:ext cx="2520" cy="29448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11" name=""/>
          <p:cNvCxnSpPr>
            <a:stCxn id="599" idx="1"/>
            <a:endCxn id="602" idx="1"/>
          </p:cNvCxnSpPr>
          <p:nvPr/>
        </p:nvCxnSpPr>
        <p:spPr>
          <a:xfrm flipH="1" flipV="1" rot="10800000">
            <a:off x="5699520" y="2892960"/>
            <a:ext cx="2520" cy="29268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12" name=""/>
          <p:cNvCxnSpPr>
            <a:stCxn id="602" idx="1"/>
            <a:endCxn id="604" idx="1"/>
          </p:cNvCxnSpPr>
          <p:nvPr/>
        </p:nvCxnSpPr>
        <p:spPr>
          <a:xfrm flipH="1" flipV="1" rot="10800000">
            <a:off x="5699520" y="3185640"/>
            <a:ext cx="2520" cy="58824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13" name=""/>
          <p:cNvCxnSpPr>
            <a:stCxn id="591" idx="3"/>
            <a:endCxn id="603" idx="1"/>
          </p:cNvCxnSpPr>
          <p:nvPr/>
        </p:nvCxnSpPr>
        <p:spPr>
          <a:xfrm flipV="1">
            <a:off x="2565000" y="3479040"/>
            <a:ext cx="3135960" cy="2520"/>
          </a:xfrm>
          <a:prstGeom prst="bentConnector3">
            <a:avLst>
              <a:gd name="adj1" fmla="val 4996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14" name=""/>
          <p:cNvCxnSpPr>
            <a:stCxn id="605" idx="1"/>
            <a:endCxn id="606" idx="1"/>
          </p:cNvCxnSpPr>
          <p:nvPr/>
        </p:nvCxnSpPr>
        <p:spPr>
          <a:xfrm flipH="1" flipV="1" rot="10800000">
            <a:off x="5699520" y="4561560"/>
            <a:ext cx="2520" cy="27828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15" name=""/>
          <p:cNvCxnSpPr>
            <a:stCxn id="606" idx="1"/>
            <a:endCxn id="607" idx="1"/>
          </p:cNvCxnSpPr>
          <p:nvPr/>
        </p:nvCxnSpPr>
        <p:spPr>
          <a:xfrm flipH="1" flipV="1" rot="10800000">
            <a:off x="5699520" y="4840200"/>
            <a:ext cx="2520" cy="27828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16" name=""/>
          <p:cNvCxnSpPr>
            <a:stCxn id="607" idx="1"/>
            <a:endCxn id="608" idx="1"/>
          </p:cNvCxnSpPr>
          <p:nvPr/>
        </p:nvCxnSpPr>
        <p:spPr>
          <a:xfrm flipH="1" flipV="1" rot="10800000">
            <a:off x="5699520" y="5118120"/>
            <a:ext cx="2520" cy="27828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17" name=""/>
          <p:cNvCxnSpPr>
            <a:stCxn id="608" idx="1"/>
            <a:endCxn id="594" idx="1"/>
          </p:cNvCxnSpPr>
          <p:nvPr/>
        </p:nvCxnSpPr>
        <p:spPr>
          <a:xfrm flipH="1" flipV="1" rot="10800000">
            <a:off x="5699520" y="5394960"/>
            <a:ext cx="2520" cy="27828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18" name=""/>
          <p:cNvCxnSpPr>
            <a:stCxn id="594" idx="1"/>
            <a:endCxn id="595" idx="1"/>
          </p:cNvCxnSpPr>
          <p:nvPr/>
        </p:nvCxnSpPr>
        <p:spPr>
          <a:xfrm flipH="1" flipV="1" rot="10800000">
            <a:off x="5699520" y="5673240"/>
            <a:ext cx="2520" cy="27720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19" name=""/>
          <p:cNvCxnSpPr>
            <a:stCxn id="595" idx="1"/>
            <a:endCxn id="596" idx="1"/>
          </p:cNvCxnSpPr>
          <p:nvPr/>
        </p:nvCxnSpPr>
        <p:spPr>
          <a:xfrm flipH="1" flipV="1" rot="10800000">
            <a:off x="5699520" y="5949000"/>
            <a:ext cx="2520" cy="27828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20" name=""/>
          <p:cNvCxnSpPr>
            <a:stCxn id="591" idx="2"/>
            <a:endCxn id="607" idx="1"/>
          </p:cNvCxnSpPr>
          <p:nvPr/>
        </p:nvCxnSpPr>
        <p:spPr>
          <a:xfrm flipH="1" rot="16200000">
            <a:off x="3276360" y="2693520"/>
            <a:ext cx="1205640" cy="3643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21" name=""/>
          <p:cNvCxnSpPr>
            <a:stCxn id="587" idx="2"/>
            <a:endCxn id="588" idx="1"/>
          </p:cNvCxnSpPr>
          <p:nvPr/>
        </p:nvCxnSpPr>
        <p:spPr>
          <a:xfrm>
            <a:off x="1072800" y="685440"/>
            <a:ext cx="477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22" name=""/>
          <p:cNvCxnSpPr>
            <a:stCxn id="588" idx="3"/>
            <a:endCxn id="597" idx="1"/>
          </p:cNvCxnSpPr>
          <p:nvPr/>
        </p:nvCxnSpPr>
        <p:spPr>
          <a:xfrm>
            <a:off x="2565000" y="685440"/>
            <a:ext cx="31359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23" name=""/>
          <p:cNvCxnSpPr>
            <a:stCxn id="597" idx="3"/>
            <a:endCxn id="598" idx="1"/>
          </p:cNvCxnSpPr>
          <p:nvPr/>
        </p:nvCxnSpPr>
        <p:spPr>
          <a:xfrm>
            <a:off x="7453080" y="685440"/>
            <a:ext cx="3322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24" name=""/>
          <p:cNvCxnSpPr>
            <a:stCxn id="588" idx="2"/>
            <a:endCxn id="591" idx="0"/>
          </p:cNvCxnSpPr>
          <p:nvPr/>
        </p:nvCxnSpPr>
        <p:spPr>
          <a:xfrm>
            <a:off x="2057040" y="1117080"/>
            <a:ext cx="1080" cy="19314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5T17:19:06Z</dcterms:created>
  <dc:creator>KPC</dc:creator>
  <dc:description/>
  <dc:language>en-US</dc:language>
  <cp:lastModifiedBy>KPC</cp:lastModifiedBy>
  <dcterms:modified xsi:type="dcterms:W3CDTF">2009-02-08T18:09:56Z</dcterms:modified>
  <cp:revision>245</cp:revision>
  <dc:subject>from Service Manual for 21, 22, 40, 41, 422, 441 </dc:subject>
  <dc:title>Monitor Heater Troubleshooting Flowcharts</dc:title>
</cp:coreProperties>
</file>