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10B9-1106-424A-BDE1-5DC0109E6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4ED-3CF0-4AD9-AA23-8A8A6B67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5242-1BC9-4D8C-A938-4CE4B85CD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56CF-6D43-4403-BE8C-335286197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EE48-49D7-480B-B1F5-94B952AC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126C-A211-40E0-920E-64DB876EC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9CB-78EB-4217-906D-16FFEB9CE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5710-B583-4BF8-8B54-274E665B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BC73-B3B5-45B4-9486-EECF48333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844B-0997-4228-9AE4-DEDD4678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B5C-99A8-4D62-A2E0-3D0E7CE04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7997-F195-445A-BF9A-87E1438E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62F7A-CD31-4F3C-8AE4-4C47AD634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06768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676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3:26:36Z</dcterms:created>
  <dc:creator>KPC</dc:creator>
  <dc:description/>
  <dc:language>en-US</dc:language>
  <cp:lastModifiedBy>KPC</cp:lastModifiedBy>
  <dcterms:modified xsi:type="dcterms:W3CDTF">2009-02-18T13:33:07Z</dcterms:modified>
  <cp:revision>1</cp:revision>
  <dc:subject/>
  <dc:title>PowerPoint Presentation</dc:title>
</cp:coreProperties>
</file>