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711F-52CC-46FD-8102-5EF82C932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B00D-CE4A-4507-A0AB-B9443BD74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299F-7029-49D3-9018-32D723FF6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9652-5A1C-4F51-B32B-EF0191C28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8BEB-E9AF-4FE7-9D84-6AA65C7B0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6F1C-1429-4B26-AD0B-143C4BF26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2FCD-EA05-4E71-A77A-133FEB99F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B8A8-721B-44CD-BCBD-55CDAC911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240A-EF99-4655-9668-AC08D6911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B785-E32D-4378-A547-ACB78C3F1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FC86-0A4D-416F-B4A7-7F48F5C8A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D7E8-EDCC-4967-9F4B-081CE61C1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AE541-D1AE-4AA0-BD67-6C8974FEBA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906768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6768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8T13:26:36Z</dcterms:created>
  <dc:creator>KPC</dc:creator>
  <dc:description/>
  <dc:language>en-US</dc:language>
  <cp:lastModifiedBy>KPC</cp:lastModifiedBy>
  <dcterms:modified xsi:type="dcterms:W3CDTF">2009-02-18T13:33:07Z</dcterms:modified>
  <cp:revision>1</cp:revision>
  <dc:subject/>
  <dc:title>PowerPoint Presentation</dc:title>
</cp:coreProperties>
</file>