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388475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D36-82E5-4E69-AF5A-6A7B7FC8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AA29-B01C-41CE-8320-6685C81B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11EA-F928-4363-8744-04628472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EC4A-29E3-4269-B0B8-8E2B4031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66D-DB37-42DC-9692-61DCE950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8206-A4DA-4386-83D7-E6F92433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D85A-13BE-42A5-A63A-A4C9CF30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30D0-C6EF-4756-A53A-CFB2AA59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3B06-9A13-4CBF-A6CB-3D4511B6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C7B-733D-4D5B-86C0-E3F44FA7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DC06-63F5-41F0-BE43-257F0420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BFAA-7E49-483D-9AA6-B06992FC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9B6C-4433-471F-B225-B0CE228EE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6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2158920"/>
            <a:ext cx="27432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ITOR 441 HE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L CHEC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ower available in wall outl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ower plug inserted in wall outl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there been a power interruption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play window shows 88.88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Circulation Fan stopp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there fuel in tank?  Is tank valve ope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Fuel Constant Level Valve Set Le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ised and lower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N/OFF switch 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peration mode on Manu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set temperature in High posit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usible Link Valve "open"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9560" y="5073480"/>
            <a:ext cx="5715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Air Damper in the following Flow Charts refers to the round disk that is installed over the flue pipe air intake fl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re different ones for the standard installation and installations with flue pipe extens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0922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2VDC on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6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6354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9" name=""/>
          <p:cNvCxnSpPr>
            <a:stCxn id="626" idx="3"/>
            <a:endCxn id="627" idx="1"/>
          </p:cNvCxnSpPr>
          <p:nvPr/>
        </p:nvCxnSpPr>
        <p:spPr>
          <a:xfrm flipV="1">
            <a:off x="990720" y="68508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0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3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810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27" idx="1"/>
            <a:endCxn id="626" idx="3"/>
          </p:cNvCxnSpPr>
          <p:nvPr/>
        </p:nvCxnSpPr>
        <p:spPr>
          <a:xfrm flipH="1">
            <a:off x="990360" y="68544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3" name=""/>
          <p:cNvSpPr/>
          <p:nvPr/>
        </p:nvSpPr>
        <p:spPr>
          <a:xfrm>
            <a:off x="2459160" y="2556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than 1.3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6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002400" y="1120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373560" y="474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55960" y="2556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VDC on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7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99200" y="1120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45160" y="474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55960" y="159228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2VDC or l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Q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o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99200" y="2457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745160" y="18111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789520" y="13525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89520" y="1617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33, R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89520" y="58752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parator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88080" y="441180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88080" y="47052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4 - C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89520" y="4992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0, R22 - R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89520" y="579132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8 - 21, R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88080" y="31827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88080" y="34606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788080" y="37386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788080" y="401652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istor Q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"/>
          <p:cNvCxnSpPr>
            <a:stCxn id="649" idx="1"/>
            <a:endCxn id="651" idx="1"/>
          </p:cNvCxnSpPr>
          <p:nvPr/>
        </p:nvCxnSpPr>
        <p:spPr>
          <a:xfrm flipH="1" flipV="1" rot="10800000">
            <a:off x="5787720" y="3280320"/>
            <a:ext cx="2160" cy="556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4" name=""/>
          <p:cNvCxnSpPr>
            <a:stCxn id="651" idx="1"/>
            <a:endCxn id="652" idx="1"/>
          </p:cNvCxnSpPr>
          <p:nvPr/>
        </p:nvCxnSpPr>
        <p:spPr>
          <a:xfrm flipH="1" flipV="1" rot="10800000">
            <a:off x="5787720" y="3836880"/>
            <a:ext cx="216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39" idx="2"/>
            <a:endCxn id="650" idx="1"/>
          </p:cNvCxnSpPr>
          <p:nvPr/>
        </p:nvCxnSpPr>
        <p:spPr>
          <a:xfrm flipH="1" rot="16200000">
            <a:off x="4524840" y="2295720"/>
            <a:ext cx="1102680" cy="1424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6" name=""/>
          <p:cNvSpPr/>
          <p:nvPr/>
        </p:nvSpPr>
        <p:spPr>
          <a:xfrm>
            <a:off x="5789520" y="1882800"/>
            <a:ext cx="175284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installation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sensor ro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89520" y="2236680"/>
            <a:ext cx="1752840" cy="284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wiring for fl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sor and 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stCxn id="636" idx="3"/>
            <a:endCxn id="644" idx="1"/>
          </p:cNvCxnSpPr>
          <p:nvPr/>
        </p:nvCxnSpPr>
        <p:spPr>
          <a:xfrm flipV="1">
            <a:off x="4871520" y="685080"/>
            <a:ext cx="91836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9" name=""/>
          <p:cNvCxnSpPr>
            <a:stCxn id="639" idx="3"/>
            <a:endCxn id="656" idx="1"/>
          </p:cNvCxnSpPr>
          <p:nvPr/>
        </p:nvCxnSpPr>
        <p:spPr>
          <a:xfrm>
            <a:off x="4871520" y="2025360"/>
            <a:ext cx="918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0" name=""/>
          <p:cNvCxnSpPr>
            <a:stCxn id="642" idx="1"/>
            <a:endCxn id="643" idx="1"/>
          </p:cNvCxnSpPr>
          <p:nvPr/>
        </p:nvCxnSpPr>
        <p:spPr>
          <a:xfrm flipH="1" flipV="1" rot="10800000">
            <a:off x="5788440" y="1449720"/>
            <a:ext cx="2520" cy="266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1" name=""/>
          <p:cNvCxnSpPr>
            <a:stCxn id="643" idx="1"/>
            <a:endCxn id="657" idx="1"/>
          </p:cNvCxnSpPr>
          <p:nvPr/>
        </p:nvCxnSpPr>
        <p:spPr>
          <a:xfrm flipH="1" flipV="1" rot="10800000">
            <a:off x="5788440" y="1715040"/>
            <a:ext cx="2520" cy="664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2" name=""/>
          <p:cNvCxnSpPr>
            <a:stCxn id="636" idx="2"/>
            <a:endCxn id="639" idx="0"/>
          </p:cNvCxnSpPr>
          <p:nvPr/>
        </p:nvCxnSpPr>
        <p:spPr>
          <a:xfrm>
            <a:off x="4363560" y="1120680"/>
            <a:ext cx="108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7763040" y="2289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772400" y="193500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5" name=""/>
          <p:cNvCxnSpPr>
            <a:stCxn id="633" idx="2"/>
            <a:endCxn id="646" idx="1"/>
          </p:cNvCxnSpPr>
          <p:nvPr/>
        </p:nvCxnSpPr>
        <p:spPr>
          <a:xfrm flipH="1" rot="16200000">
            <a:off x="2535840" y="1551240"/>
            <a:ext cx="3683880" cy="2821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6" name=""/>
          <p:cNvCxnSpPr>
            <a:stCxn id="645" idx="1"/>
            <a:endCxn id="647" idx="1"/>
          </p:cNvCxnSpPr>
          <p:nvPr/>
        </p:nvCxnSpPr>
        <p:spPr>
          <a:xfrm flipH="1" flipV="1" rot="10800000">
            <a:off x="5787720" y="4510080"/>
            <a:ext cx="2160" cy="58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7" name=""/>
          <p:cNvSpPr/>
          <p:nvPr/>
        </p:nvSpPr>
        <p:spPr>
          <a:xfrm>
            <a:off x="7772400" y="441972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8" name=""/>
          <p:cNvCxnSpPr>
            <a:stCxn id="627" idx="2"/>
            <a:endCxn id="648" idx="1"/>
          </p:cNvCxnSpPr>
          <p:nvPr/>
        </p:nvCxnSpPr>
        <p:spPr>
          <a:xfrm flipH="1" rot="16200000">
            <a:off x="1307880" y="1408680"/>
            <a:ext cx="4772880" cy="4190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9" name=""/>
          <p:cNvCxnSpPr>
            <a:stCxn id="656" idx="3"/>
            <a:endCxn id="664" idx="1"/>
          </p:cNvCxnSpPr>
          <p:nvPr/>
        </p:nvCxnSpPr>
        <p:spPr>
          <a:xfrm>
            <a:off x="7542000" y="2025360"/>
            <a:ext cx="230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0" name=""/>
          <p:cNvCxnSpPr>
            <a:stCxn id="657" idx="3"/>
            <a:endCxn id="663" idx="1"/>
          </p:cNvCxnSpPr>
          <p:nvPr/>
        </p:nvCxnSpPr>
        <p:spPr>
          <a:xfrm>
            <a:off x="7542000" y="2379240"/>
            <a:ext cx="221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1" name=""/>
          <p:cNvCxnSpPr>
            <a:stCxn id="645" idx="3"/>
            <a:endCxn id="667" idx="1"/>
          </p:cNvCxnSpPr>
          <p:nvPr/>
        </p:nvCxnSpPr>
        <p:spPr>
          <a:xfrm>
            <a:off x="7540560" y="450972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2" name=""/>
          <p:cNvCxnSpPr>
            <a:stCxn id="627" idx="3"/>
            <a:endCxn id="633" idx="1"/>
          </p:cNvCxnSpPr>
          <p:nvPr/>
        </p:nvCxnSpPr>
        <p:spPr>
          <a:xfrm>
            <a:off x="2107800" y="685440"/>
            <a:ext cx="351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3" name=""/>
          <p:cNvCxnSpPr>
            <a:stCxn id="633" idx="3"/>
            <a:endCxn id="636" idx="1"/>
          </p:cNvCxnSpPr>
          <p:nvPr/>
        </p:nvCxnSpPr>
        <p:spPr>
          <a:xfrm>
            <a:off x="3475080" y="68868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3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76640" y="685800"/>
            <a:ext cx="4419360" cy="2895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ROD BYPASS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testing purposes:  a flame detector rod bypass circuit can be made up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isting of 2 insulated alligator clips, 2 - 6" pieces of insulated copper wir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- 1/4 watt 400 Volt diode, and 1 - 1/4 watt 100K resistor.  These 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to be soldered together in sequence as shown in the diagram be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te component sequence &amp; polarity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ce the bypass circuit is made, turn the unit on.  Immediately after the prepur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 cycle, when the mode light comes on, disconnect the wires from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 and N pins on the PCB and replace with the bypass circuit.  The unit should th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inue functioning as though it had a good flame inside the burn chamber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service tests such as fuel flow can be check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WARNING, after all tests are completed, replace original flame rod wire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it is a vital safety issu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505240" y="4114800"/>
            <a:ext cx="3774960" cy="906480"/>
            <a:chOff x="2505240" y="4114800"/>
            <a:chExt cx="3774960" cy="906480"/>
          </a:xfrm>
        </p:grpSpPr>
        <p:sp>
          <p:nvSpPr>
            <p:cNvPr id="678" name=""/>
            <p:cNvSpPr/>
            <p:nvPr/>
          </p:nvSpPr>
          <p:spPr>
            <a:xfrm>
              <a:off x="2505240" y="425916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823000" y="425916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4352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79088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5095800" y="4487760"/>
              <a:ext cx="7632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3404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257720" y="4371840"/>
              <a:ext cx="7632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38600" y="437184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448596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5400000">
              <a:off x="3588840" y="4373640"/>
              <a:ext cx="27324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840120" y="4351320"/>
              <a:ext cx="180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9" name=""/>
            <p:cNvCxnSpPr>
              <a:stCxn id="678" idx="6"/>
              <a:endCxn id="687" idx="3"/>
            </p:cNvCxnSpPr>
            <p:nvPr/>
          </p:nvCxnSpPr>
          <p:spPr>
            <a:xfrm flipV="1">
              <a:off x="2962080" y="4485960"/>
              <a:ext cx="6483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0" name=""/>
            <p:cNvCxnSpPr>
              <a:stCxn id="687" idx="0"/>
              <a:endCxn id="684" idx="0"/>
            </p:cNvCxnSpPr>
            <p:nvPr/>
          </p:nvCxnSpPr>
          <p:spPr>
            <a:xfrm>
              <a:off x="3838680" y="4485960"/>
              <a:ext cx="419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1" name=""/>
            <p:cNvCxnSpPr>
              <a:stCxn id="682" idx="0"/>
              <a:endCxn id="679" idx="2"/>
            </p:cNvCxnSpPr>
            <p:nvPr/>
          </p:nvCxnSpPr>
          <p:spPr>
            <a:xfrm>
              <a:off x="5172120" y="4487400"/>
              <a:ext cx="65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92" name=""/>
            <p:cNvSpPr/>
            <p:nvPr/>
          </p:nvSpPr>
          <p:spPr>
            <a:xfrm>
              <a:off x="3423240" y="4114800"/>
              <a:ext cx="535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N40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28720" y="4114800"/>
              <a:ext cx="41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029120" y="4792680"/>
              <a:ext cx="533520" cy="2286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i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endCxn id="679" idx="3"/>
            </p:cNvCxnSpPr>
            <p:nvPr/>
          </p:nvCxnSpPr>
          <p:spPr>
            <a:xfrm flipV="1">
              <a:off x="4562640" y="4649760"/>
              <a:ext cx="1327680" cy="295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6" name=""/>
            <p:cNvCxnSpPr>
              <a:stCxn id="694" idx="1"/>
              <a:endCxn id="678" idx="5"/>
            </p:cNvCxnSpPr>
            <p:nvPr/>
          </p:nvCxnSpPr>
          <p:spPr>
            <a:xfrm rot="10800000">
              <a:off x="2894760" y="4649040"/>
              <a:ext cx="1134360" cy="257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7" name=""/>
          <p:cNvGrpSpPr/>
          <p:nvPr/>
        </p:nvGrpSpPr>
        <p:grpSpPr>
          <a:xfrm>
            <a:off x="6505560" y="4487760"/>
            <a:ext cx="504360" cy="550800"/>
            <a:chOff x="6505560" y="4487760"/>
            <a:chExt cx="504360" cy="550800"/>
          </a:xfrm>
        </p:grpSpPr>
        <p:sp>
          <p:nvSpPr>
            <p:cNvPr id="698" name=""/>
            <p:cNvSpPr/>
            <p:nvPr/>
          </p:nvSpPr>
          <p:spPr>
            <a:xfrm>
              <a:off x="6629040" y="4886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705360" y="49622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781680" y="5038560"/>
              <a:ext cx="7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819840" y="448776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05560" y="448776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471960" y="36036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38040" y="804960"/>
            <a:ext cx="981000" cy="519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of 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:  High--Low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mpro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598320"/>
            <a:ext cx="685800" cy="93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 10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istor to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s on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then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992320" y="853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679840" y="1430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86000" y="662040"/>
            <a:ext cx="836640" cy="811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91120" y="853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0880" y="1446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76720" y="63504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abl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fuel f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143680" y="7272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975560" y="1446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51400" y="63504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irc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n motor abl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spe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797440" y="33908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97440" y="368316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797440" y="42670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97440" y="3975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lation 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99240" y="45594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coupler IC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797440" y="31003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797440" y="387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97440" y="6778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97440" y="9698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8, IC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797440" y="12621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ac 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6" name=""/>
          <p:cNvCxnSpPr>
            <a:stCxn id="722" idx="1"/>
            <a:endCxn id="724" idx="1"/>
          </p:cNvCxnSpPr>
          <p:nvPr/>
        </p:nvCxnSpPr>
        <p:spPr>
          <a:xfrm flipH="1" flipV="1" rot="10800000">
            <a:off x="5796360" y="484560"/>
            <a:ext cx="2520" cy="5835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7" name=""/>
          <p:cNvCxnSpPr>
            <a:stCxn id="724" idx="1"/>
            <a:endCxn id="725" idx="1"/>
          </p:cNvCxnSpPr>
          <p:nvPr/>
        </p:nvCxnSpPr>
        <p:spPr>
          <a:xfrm flipH="1" flipV="1" rot="10800000">
            <a:off x="5796360" y="106740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28" name=""/>
          <p:cNvSpPr/>
          <p:nvPr/>
        </p:nvSpPr>
        <p:spPr>
          <a:xfrm>
            <a:off x="5797440" y="2428920"/>
            <a:ext cx="175284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16" idx="1"/>
            <a:endCxn id="717" idx="1"/>
          </p:cNvCxnSpPr>
          <p:nvPr/>
        </p:nvCxnSpPr>
        <p:spPr>
          <a:xfrm flipH="1" flipV="1" rot="10800000">
            <a:off x="5796360" y="348840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81760" y="514980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1" name=""/>
          <p:cNvCxnSpPr>
            <a:stCxn id="732" idx="3"/>
            <a:endCxn id="730" idx="1"/>
          </p:cNvCxnSpPr>
          <p:nvPr/>
        </p:nvCxnSpPr>
        <p:spPr>
          <a:xfrm>
            <a:off x="7549920" y="523980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3" name=""/>
          <p:cNvSpPr/>
          <p:nvPr/>
        </p:nvSpPr>
        <p:spPr>
          <a:xfrm>
            <a:off x="5797440" y="1554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, R51, R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97440" y="18446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797440" y="21366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797440" y="2808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7" name=""/>
          <p:cNvCxnSpPr>
            <a:stCxn id="733" idx="1"/>
            <a:endCxn id="735" idx="1"/>
          </p:cNvCxnSpPr>
          <p:nvPr/>
        </p:nvCxnSpPr>
        <p:spPr>
          <a:xfrm flipH="1" flipV="1" rot="10800000">
            <a:off x="5796360" y="1652400"/>
            <a:ext cx="2520" cy="58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7756560" y="208296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772400" y="275436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>
            <a:stCxn id="736" idx="1"/>
            <a:endCxn id="728" idx="1"/>
          </p:cNvCxnSpPr>
          <p:nvPr/>
        </p:nvCxnSpPr>
        <p:spPr>
          <a:xfrm flipH="1" rot="10800000">
            <a:off x="5796360" y="2571120"/>
            <a:ext cx="2520" cy="335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1" name=""/>
          <p:cNvCxnSpPr>
            <a:stCxn id="728" idx="1"/>
            <a:endCxn id="734" idx="1"/>
          </p:cNvCxnSpPr>
          <p:nvPr/>
        </p:nvCxnSpPr>
        <p:spPr>
          <a:xfrm flipH="1" rot="10800000">
            <a:off x="5796360" y="1942560"/>
            <a:ext cx="2520" cy="629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"/>
          <p:cNvCxnSpPr>
            <a:stCxn id="733" idx="1"/>
            <a:endCxn id="723" idx="1"/>
          </p:cNvCxnSpPr>
          <p:nvPr/>
        </p:nvCxnSpPr>
        <p:spPr>
          <a:xfrm flipH="1" rot="10800000">
            <a:off x="5796360" y="775440"/>
            <a:ext cx="2520" cy="877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"/>
          <p:cNvSpPr/>
          <p:nvPr/>
        </p:nvSpPr>
        <p:spPr>
          <a:xfrm>
            <a:off x="7781760" y="392112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irc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>
            <a:stCxn id="715" idx="2"/>
            <a:endCxn id="716" idx="1"/>
          </p:cNvCxnSpPr>
          <p:nvPr/>
        </p:nvCxnSpPr>
        <p:spPr>
          <a:xfrm flipH="1" rot="16200000">
            <a:off x="4383720" y="2075400"/>
            <a:ext cx="19900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5" name=""/>
          <p:cNvCxnSpPr>
            <a:stCxn id="721" idx="1"/>
            <a:endCxn id="719" idx="1"/>
          </p:cNvCxnSpPr>
          <p:nvPr/>
        </p:nvCxnSpPr>
        <p:spPr>
          <a:xfrm flipH="1" flipV="1" rot="10800000">
            <a:off x="5796360" y="3197880"/>
            <a:ext cx="2520" cy="875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799240" y="48499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797440" y="51418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"/>
          <p:cNvCxnSpPr>
            <a:stCxn id="732" idx="1"/>
            <a:endCxn id="718" idx="1"/>
          </p:cNvCxnSpPr>
          <p:nvPr/>
        </p:nvCxnSpPr>
        <p:spPr>
          <a:xfrm flipH="1" rot="10800000">
            <a:off x="5796360" y="4365000"/>
            <a:ext cx="2520" cy="875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8" name=""/>
          <p:cNvCxnSpPr>
            <a:stCxn id="712" idx="2"/>
            <a:endCxn id="720" idx="1"/>
          </p:cNvCxnSpPr>
          <p:nvPr/>
        </p:nvCxnSpPr>
        <p:spPr>
          <a:xfrm flipH="1" rot="16200000">
            <a:off x="3213000" y="2071080"/>
            <a:ext cx="3158280" cy="201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9" name=""/>
          <p:cNvCxnSpPr>
            <a:stCxn id="746" idx="1"/>
            <a:endCxn id="720" idx="1"/>
          </p:cNvCxnSpPr>
          <p:nvPr/>
        </p:nvCxnSpPr>
        <p:spPr>
          <a:xfrm flipH="1" rot="10800000">
            <a:off x="5798880" y="4656960"/>
            <a:ext cx="2160" cy="291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2992320" y="5318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679840" y="5894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86000" y="5126040"/>
            <a:ext cx="836640" cy="811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ppro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8VDC 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4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799240" y="54338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4" name=""/>
          <p:cNvCxnSpPr>
            <a:stCxn id="753" idx="1"/>
            <a:endCxn id="752" idx="3"/>
          </p:cNvCxnSpPr>
          <p:nvPr/>
        </p:nvCxnSpPr>
        <p:spPr>
          <a:xfrm flipH="1">
            <a:off x="3121920" y="5532120"/>
            <a:ext cx="267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55" name=""/>
          <p:cNvSpPr/>
          <p:nvPr/>
        </p:nvSpPr>
        <p:spPr>
          <a:xfrm>
            <a:off x="5799240" y="57261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2, R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799240" y="60181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7" name=""/>
          <p:cNvCxnSpPr>
            <a:stCxn id="755" idx="1"/>
            <a:endCxn id="756" idx="1"/>
          </p:cNvCxnSpPr>
          <p:nvPr/>
        </p:nvCxnSpPr>
        <p:spPr>
          <a:xfrm flipH="1" flipV="1" rot="10800000">
            <a:off x="5798880" y="5824080"/>
            <a:ext cx="2160" cy="293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8" name=""/>
          <p:cNvCxnSpPr>
            <a:stCxn id="752" idx="2"/>
            <a:endCxn id="756" idx="1"/>
          </p:cNvCxnSpPr>
          <p:nvPr/>
        </p:nvCxnSpPr>
        <p:spPr>
          <a:xfrm flipH="1" rot="16200000">
            <a:off x="4161240" y="4479480"/>
            <a:ext cx="180360" cy="3094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9" name=""/>
          <p:cNvCxnSpPr>
            <a:stCxn id="709" idx="2"/>
            <a:endCxn id="752" idx="0"/>
          </p:cNvCxnSpPr>
          <p:nvPr/>
        </p:nvCxnSpPr>
        <p:spPr>
          <a:xfrm>
            <a:off x="2704680" y="1472760"/>
            <a:ext cx="1080" cy="365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0" name=""/>
          <p:cNvCxnSpPr>
            <a:stCxn id="719" idx="3"/>
            <a:endCxn id="743" idx="1"/>
          </p:cNvCxnSpPr>
          <p:nvPr/>
        </p:nvCxnSpPr>
        <p:spPr>
          <a:xfrm>
            <a:off x="7549920" y="407304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1" name=""/>
          <p:cNvCxnSpPr>
            <a:stCxn id="735" idx="3"/>
            <a:endCxn id="738" idx="1"/>
          </p:cNvCxnSpPr>
          <p:nvPr/>
        </p:nvCxnSpPr>
        <p:spPr>
          <a:xfrm>
            <a:off x="7549920" y="2234880"/>
            <a:ext cx="20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2" name=""/>
          <p:cNvCxnSpPr>
            <a:stCxn id="736" idx="3"/>
            <a:endCxn id="739" idx="1"/>
          </p:cNvCxnSpPr>
          <p:nvPr/>
        </p:nvCxnSpPr>
        <p:spPr>
          <a:xfrm>
            <a:off x="7549920" y="2906280"/>
            <a:ext cx="22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3" name=""/>
          <p:cNvSpPr/>
          <p:nvPr/>
        </p:nvSpPr>
        <p:spPr>
          <a:xfrm>
            <a:off x="7756560" y="241920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resistor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4" name=""/>
          <p:cNvCxnSpPr>
            <a:stCxn id="728" idx="3"/>
            <a:endCxn id="763" idx="1"/>
          </p:cNvCxnSpPr>
          <p:nvPr/>
        </p:nvCxnSpPr>
        <p:spPr>
          <a:xfrm>
            <a:off x="7549920" y="2571480"/>
            <a:ext cx="20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5" name=""/>
          <p:cNvCxnSpPr>
            <a:stCxn id="712" idx="3"/>
            <a:endCxn id="715" idx="1"/>
          </p:cNvCxnSpPr>
          <p:nvPr/>
        </p:nvCxnSpPr>
        <p:spPr>
          <a:xfrm>
            <a:off x="4292280" y="1068120"/>
            <a:ext cx="15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6" name=""/>
          <p:cNvCxnSpPr>
            <a:stCxn id="709" idx="3"/>
            <a:endCxn id="712" idx="1"/>
          </p:cNvCxnSpPr>
          <p:nvPr/>
        </p:nvCxnSpPr>
        <p:spPr>
          <a:xfrm>
            <a:off x="3122640" y="1068120"/>
            <a:ext cx="154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06" idx="3"/>
            <a:endCxn id="709" idx="1"/>
          </p:cNvCxnSpPr>
          <p:nvPr/>
        </p:nvCxnSpPr>
        <p:spPr>
          <a:xfrm>
            <a:off x="2133360" y="10681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8" name=""/>
          <p:cNvCxnSpPr>
            <a:stCxn id="705" idx="3"/>
            <a:endCxn id="706" idx="1"/>
          </p:cNvCxnSpPr>
          <p:nvPr/>
        </p:nvCxnSpPr>
        <p:spPr>
          <a:xfrm>
            <a:off x="1319040" y="1064880"/>
            <a:ext cx="129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9" name=""/>
          <p:cNvCxnSpPr>
            <a:stCxn id="715" idx="3"/>
            <a:endCxn id="724" idx="1"/>
          </p:cNvCxnSpPr>
          <p:nvPr/>
        </p:nvCxnSpPr>
        <p:spPr>
          <a:xfrm>
            <a:off x="5466960" y="1068120"/>
            <a:ext cx="33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6120" y="1077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3640" y="1600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59120" y="12654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92840" y="2179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48200" y="8398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8480" y="12193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4280" y="98892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R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mp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82600"/>
            <a:ext cx="1523880" cy="20239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er 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visu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Ch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ewing window or feel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ver after 3.5 minu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urge preheat. 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uld  be warm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uch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9480" y="68580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flam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9480" y="1373040"/>
            <a:ext cx="91440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13360" y="17604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3800" y="2214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endCxn id="50" idx="1"/>
          </p:cNvCxnSpPr>
          <p:nvPr/>
        </p:nvCxnSpPr>
        <p:spPr>
          <a:xfrm>
            <a:off x="985320" y="1293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50" idx="3"/>
            <a:endCxn id="51" idx="1"/>
          </p:cNvCxnSpPr>
          <p:nvPr/>
        </p:nvCxnSpPr>
        <p:spPr>
          <a:xfrm>
            <a:off x="2128320" y="1293840"/>
            <a:ext cx="1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51" idx="3"/>
            <a:endCxn id="52" idx="1"/>
          </p:cNvCxnSpPr>
          <p:nvPr/>
        </p:nvCxnSpPr>
        <p:spPr>
          <a:xfrm flipV="1">
            <a:off x="3809880" y="990360"/>
            <a:ext cx="310320" cy="305280"/>
          </a:xfrm>
          <a:prstGeom prst="bentConnector3">
            <a:avLst>
              <a:gd name="adj1" fmla="val 4970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9" name=""/>
          <p:cNvSpPr/>
          <p:nvPr/>
        </p:nvSpPr>
        <p:spPr>
          <a:xfrm>
            <a:off x="513720" y="781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9480" y="2363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48200" y="25052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3800" y="2940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182600"/>
            <a:ext cx="685800" cy="2192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03840" y="34308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73840" y="2332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2" idx="3"/>
            <a:endCxn id="67" idx="1"/>
          </p:cNvCxnSpPr>
          <p:nvPr/>
        </p:nvCxnSpPr>
        <p:spPr>
          <a:xfrm flipV="1">
            <a:off x="5033520" y="754920"/>
            <a:ext cx="670680" cy="235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 flipV="1">
            <a:off x="7456320" y="385560"/>
            <a:ext cx="31788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52" idx="2"/>
            <a:endCxn id="53" idx="0"/>
          </p:cNvCxnSpPr>
          <p:nvPr/>
        </p:nvCxnSpPr>
        <p:spPr>
          <a:xfrm>
            <a:off x="4576320" y="1295280"/>
            <a:ext cx="1080" cy="78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53" idx="2"/>
            <a:endCxn id="60" idx="0"/>
          </p:cNvCxnSpPr>
          <p:nvPr/>
        </p:nvCxnSpPr>
        <p:spPr>
          <a:xfrm>
            <a:off x="4576320" y="2238480"/>
            <a:ext cx="108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5703840" y="625320"/>
            <a:ext cx="1752480" cy="25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 of Flame Sensor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73840" y="604800"/>
            <a:ext cx="1143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03840" y="969840"/>
            <a:ext cx="1752480" cy="276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Sensor Rod touching bur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3840" y="885960"/>
            <a:ext cx="1143000" cy="215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3"/>
            <a:endCxn id="71" idx="1"/>
          </p:cNvCxnSpPr>
          <p:nvPr/>
        </p:nvCxnSpPr>
        <p:spPr>
          <a:xfrm flipV="1">
            <a:off x="7456320" y="712080"/>
            <a:ext cx="31788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72" idx="3"/>
            <a:endCxn id="73" idx="1"/>
          </p:cNvCxnSpPr>
          <p:nvPr/>
        </p:nvCxnSpPr>
        <p:spPr>
          <a:xfrm flipV="1">
            <a:off x="7456320" y="993240"/>
            <a:ext cx="31788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64" idx="1"/>
            <a:endCxn id="72" idx="1"/>
          </p:cNvCxnSpPr>
          <p:nvPr/>
        </p:nvCxnSpPr>
        <p:spPr>
          <a:xfrm flipH="1" flipV="1" rot="10800000">
            <a:off x="5702760" y="441000"/>
            <a:ext cx="2520" cy="667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7" name=""/>
          <p:cNvSpPr/>
          <p:nvPr/>
        </p:nvSpPr>
        <p:spPr>
          <a:xfrm>
            <a:off x="5703840" y="131616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Air Pressure Sen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73840" y="117000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7" idx="3"/>
            <a:endCxn id="78" idx="1"/>
          </p:cNvCxnSpPr>
          <p:nvPr/>
        </p:nvCxnSpPr>
        <p:spPr>
          <a:xfrm flipV="1">
            <a:off x="7456320" y="1321920"/>
            <a:ext cx="31788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" name=""/>
          <p:cNvSpPr/>
          <p:nvPr/>
        </p:nvSpPr>
        <p:spPr>
          <a:xfrm>
            <a:off x="5703840" y="1593720"/>
            <a:ext cx="1752480" cy="223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73840" y="1541520"/>
            <a:ext cx="1144800" cy="193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03840" y="1895400"/>
            <a:ext cx="1752480" cy="241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Constant Level Valve safe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p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3840" y="18032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the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tant 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3"/>
            <a:endCxn id="81" idx="1"/>
          </p:cNvCxnSpPr>
          <p:nvPr/>
        </p:nvCxnSpPr>
        <p:spPr>
          <a:xfrm flipV="1">
            <a:off x="7456320" y="1637640"/>
            <a:ext cx="31788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82" idx="3"/>
            <a:endCxn id="83" idx="1"/>
          </p:cNvCxnSpPr>
          <p:nvPr/>
        </p:nvCxnSpPr>
        <p:spPr>
          <a:xfrm flipV="1">
            <a:off x="7456320" y="1955160"/>
            <a:ext cx="317880" cy="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7" idx="1"/>
            <a:endCxn id="82" idx="1"/>
          </p:cNvCxnSpPr>
          <p:nvPr/>
        </p:nvCxnSpPr>
        <p:spPr>
          <a:xfrm flipH="1" flipV="1" rot="10800000">
            <a:off x="5702760" y="1413360"/>
            <a:ext cx="2520" cy="602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53" idx="3"/>
            <a:endCxn id="80" idx="1"/>
          </p:cNvCxnSpPr>
          <p:nvPr/>
        </p:nvCxnSpPr>
        <p:spPr>
          <a:xfrm flipV="1">
            <a:off x="5033520" y="1706040"/>
            <a:ext cx="670680" cy="100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5703840" y="231948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73840" y="217476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8" idx="3"/>
            <a:endCxn id="89" idx="1"/>
          </p:cNvCxnSpPr>
          <p:nvPr/>
        </p:nvCxnSpPr>
        <p:spPr>
          <a:xfrm flipV="1">
            <a:off x="7456320" y="2326680"/>
            <a:ext cx="317880" cy="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1" name=""/>
          <p:cNvSpPr/>
          <p:nvPr/>
        </p:nvSpPr>
        <p:spPr>
          <a:xfrm>
            <a:off x="5703840" y="260208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73840" y="2548080"/>
            <a:ext cx="11430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03840" y="2916360"/>
            <a:ext cx="1752480" cy="137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73840" y="2919240"/>
            <a:ext cx="11430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1" idx="3"/>
            <a:endCxn id="92" idx="1"/>
          </p:cNvCxnSpPr>
          <p:nvPr/>
        </p:nvCxnSpPr>
        <p:spPr>
          <a:xfrm>
            <a:off x="7456320" y="2666520"/>
            <a:ext cx="3178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93" idx="3"/>
            <a:endCxn id="94" idx="1"/>
          </p:cNvCxnSpPr>
          <p:nvPr/>
        </p:nvCxnSpPr>
        <p:spPr>
          <a:xfrm>
            <a:off x="7456320" y="2986200"/>
            <a:ext cx="317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88" idx="1"/>
            <a:endCxn id="91" idx="1"/>
          </p:cNvCxnSpPr>
          <p:nvPr/>
        </p:nvCxnSpPr>
        <p:spPr>
          <a:xfrm flipH="1" flipV="1" rot="10800000">
            <a:off x="5702760" y="2417400"/>
            <a:ext cx="2520" cy="249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5703840" y="388620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3840" y="380052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8" idx="3"/>
            <a:endCxn id="99" idx="1"/>
          </p:cNvCxnSpPr>
          <p:nvPr/>
        </p:nvCxnSpPr>
        <p:spPr>
          <a:xfrm flipV="1">
            <a:off x="7456320" y="3890160"/>
            <a:ext cx="31788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5703840" y="426708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73840" y="4048200"/>
            <a:ext cx="11448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03840" y="455760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3840" y="4419720"/>
            <a:ext cx="11448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1" idx="3"/>
            <a:endCxn id="102" idx="1"/>
          </p:cNvCxnSpPr>
          <p:nvPr/>
        </p:nvCxnSpPr>
        <p:spPr>
          <a:xfrm flipV="1">
            <a:off x="7456320" y="4199760"/>
            <a:ext cx="3178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103" idx="3"/>
            <a:endCxn id="104" idx="1"/>
          </p:cNvCxnSpPr>
          <p:nvPr/>
        </p:nvCxnSpPr>
        <p:spPr>
          <a:xfrm flipV="1">
            <a:off x="7456320" y="4495320"/>
            <a:ext cx="317880" cy="137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1" idx="1"/>
            <a:endCxn id="60" idx="3"/>
          </p:cNvCxnSpPr>
          <p:nvPr/>
        </p:nvCxnSpPr>
        <p:spPr>
          <a:xfrm flipV="1" rot="10800000">
            <a:off x="5033160" y="2665800"/>
            <a:ext cx="67068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93" idx="1"/>
            <a:endCxn id="60" idx="2"/>
          </p:cNvCxnSpPr>
          <p:nvPr/>
        </p:nvCxnSpPr>
        <p:spPr>
          <a:xfrm rot="10800000">
            <a:off x="4575960" y="2972520"/>
            <a:ext cx="1127880" cy="1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2286000" y="2417760"/>
            <a:ext cx="1523880" cy="725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 Push ON/OFF Switch 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 Remove Igniter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 Disconnect wiring fo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enoid Pum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 Push ON/OFF Switch ON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7720" y="33940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2200" y="38336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33051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er 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03840" y="3171960"/>
            <a:ext cx="1752480" cy="2714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t adhering to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mber interi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73840" y="313992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gently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ush, et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03840" y="3516480"/>
            <a:ext cx="1752480" cy="179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73840" y="3511440"/>
            <a:ext cx="1144800" cy="222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5" idx="1"/>
            <a:endCxn id="113" idx="1"/>
          </p:cNvCxnSpPr>
          <p:nvPr/>
        </p:nvCxnSpPr>
        <p:spPr>
          <a:xfrm flipH="1" rot="10800000">
            <a:off x="5702760" y="3307680"/>
            <a:ext cx="2520" cy="299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13" idx="3"/>
            <a:endCxn id="114" idx="1"/>
          </p:cNvCxnSpPr>
          <p:nvPr/>
        </p:nvCxnSpPr>
        <p:spPr>
          <a:xfrm flipV="1">
            <a:off x="7456320" y="3292200"/>
            <a:ext cx="3178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15" idx="3"/>
            <a:endCxn id="116" idx="1"/>
          </p:cNvCxnSpPr>
          <p:nvPr/>
        </p:nvCxnSpPr>
        <p:spPr>
          <a:xfrm>
            <a:off x="7456320" y="3606840"/>
            <a:ext cx="3178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12" idx="0"/>
            <a:endCxn id="109" idx="2"/>
          </p:cNvCxnSpPr>
          <p:nvPr/>
        </p:nvCxnSpPr>
        <p:spPr>
          <a:xfrm flipV="1">
            <a:off x="3047760" y="314280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3292560" y="409428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110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"B" pins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2" idx="3"/>
            <a:endCxn id="115" idx="1"/>
          </p:cNvCxnSpPr>
          <p:nvPr/>
        </p:nvCxnSpPr>
        <p:spPr>
          <a:xfrm flipV="1">
            <a:off x="3504960" y="3606120"/>
            <a:ext cx="2199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98" idx="1"/>
            <a:endCxn id="121" idx="3"/>
          </p:cNvCxnSpPr>
          <p:nvPr/>
        </p:nvCxnSpPr>
        <p:spPr>
          <a:xfrm flipV="1" rot="10800000">
            <a:off x="4308480" y="3965040"/>
            <a:ext cx="1395720" cy="563040"/>
          </a:xfrm>
          <a:prstGeom prst="bentConnector3">
            <a:avLst>
              <a:gd name="adj1" fmla="val 684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4262400" y="4352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49920" y="48927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09" idx="0"/>
            <a:endCxn id="51" idx="2"/>
          </p:cNvCxnSpPr>
          <p:nvPr/>
        </p:nvCxnSpPr>
        <p:spPr>
          <a:xfrm flipV="1">
            <a:off x="3047760" y="2305800"/>
            <a:ext cx="1080" cy="11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>
            <a:stCxn id="121" idx="0"/>
            <a:endCxn id="112" idx="2"/>
          </p:cNvCxnSpPr>
          <p:nvPr/>
        </p:nvCxnSpPr>
        <p:spPr>
          <a:xfrm flipV="1" rot="16200000">
            <a:off x="3333960" y="3627360"/>
            <a:ext cx="180360" cy="75312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3840" y="48229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110V at "B" plu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73840" y="4640400"/>
            <a:ext cx="11448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gniter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PCB.  Replace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8" idx="3"/>
            <a:endCxn id="129" idx="1"/>
          </p:cNvCxnSpPr>
          <p:nvPr/>
        </p:nvCxnSpPr>
        <p:spPr>
          <a:xfrm flipV="1">
            <a:off x="7456320" y="4791960"/>
            <a:ext cx="317880" cy="10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28" idx="1"/>
            <a:endCxn id="101" idx="1"/>
          </p:cNvCxnSpPr>
          <p:nvPr/>
        </p:nvCxnSpPr>
        <p:spPr>
          <a:xfrm flipH="1" rot="10800000">
            <a:off x="5702760" y="4342680"/>
            <a:ext cx="2520" cy="556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03" idx="1"/>
            <a:endCxn id="101" idx="1"/>
          </p:cNvCxnSpPr>
          <p:nvPr/>
        </p:nvCxnSpPr>
        <p:spPr>
          <a:xfrm flipH="1" rot="10800000">
            <a:off x="5702760" y="4342680"/>
            <a:ext cx="2520" cy="289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21" idx="2"/>
            <a:endCxn id="128" idx="1"/>
          </p:cNvCxnSpPr>
          <p:nvPr/>
        </p:nvCxnSpPr>
        <p:spPr>
          <a:xfrm flipH="1" flipV="1" rot="5400000">
            <a:off x="4720680" y="3976920"/>
            <a:ext cx="61200" cy="1904040"/>
          </a:xfrm>
          <a:prstGeom prst="bentConnector4">
            <a:avLst>
              <a:gd name="adj1" fmla="val -220710"/>
              <a:gd name="adj2" fmla="val 633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5703840" y="57913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03840" y="601488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 Fuse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03840" y="62769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t circuit of lead w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03840" y="53085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03840" y="553716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on Auto operation mod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6120" y="3878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3640" y="44449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4280" y="37893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pl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493704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4360" y="5457960"/>
            <a:ext cx="4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4280" y="484812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06720" y="6033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30080" y="6359400"/>
            <a:ext cx="4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30400" y="5638680"/>
            <a:ext cx="1082520" cy="790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; plug in p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1" idx="3"/>
            <a:endCxn id="137" idx="1"/>
          </p:cNvCxnSpPr>
          <p:nvPr/>
        </p:nvCxnSpPr>
        <p:spPr>
          <a:xfrm>
            <a:off x="2128320" y="4093920"/>
            <a:ext cx="3575880" cy="1291320"/>
          </a:xfrm>
          <a:prstGeom prst="bentConnector3">
            <a:avLst>
              <a:gd name="adj1" fmla="val 1678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8" idx="1"/>
            <a:endCxn id="137" idx="1"/>
          </p:cNvCxnSpPr>
          <p:nvPr/>
        </p:nvCxnSpPr>
        <p:spPr>
          <a:xfrm flipH="1" rot="10800000">
            <a:off x="5702760" y="5384160"/>
            <a:ext cx="2520" cy="227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7" idx="3"/>
            <a:endCxn id="135" idx="1"/>
          </p:cNvCxnSpPr>
          <p:nvPr/>
        </p:nvCxnSpPr>
        <p:spPr>
          <a:xfrm>
            <a:off x="2212560" y="6033600"/>
            <a:ext cx="3491640" cy="5652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5703840" y="64976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7" idx="2"/>
            <a:endCxn id="151" idx="1"/>
          </p:cNvCxnSpPr>
          <p:nvPr/>
        </p:nvCxnSpPr>
        <p:spPr>
          <a:xfrm flipH="1" rot="16200000">
            <a:off x="3614400" y="4485240"/>
            <a:ext cx="145440" cy="4033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7773840" y="64976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73840" y="501156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73840" y="563076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3840" y="53848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t in Manual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73840" y="60040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ave in new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37" idx="3"/>
            <a:endCxn id="154" idx="1"/>
          </p:cNvCxnSpPr>
          <p:nvPr/>
        </p:nvCxnSpPr>
        <p:spPr>
          <a:xfrm flipV="1">
            <a:off x="7456320" y="5163480"/>
            <a:ext cx="31788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38" idx="3"/>
            <a:endCxn id="156" idx="1"/>
          </p:cNvCxnSpPr>
          <p:nvPr/>
        </p:nvCxnSpPr>
        <p:spPr>
          <a:xfrm flipV="1">
            <a:off x="7456320" y="5474520"/>
            <a:ext cx="317880" cy="13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>
            <a:stCxn id="134" idx="3"/>
            <a:endCxn id="155" idx="1"/>
          </p:cNvCxnSpPr>
          <p:nvPr/>
        </p:nvCxnSpPr>
        <p:spPr>
          <a:xfrm flipV="1">
            <a:off x="7456320" y="5782680"/>
            <a:ext cx="317880" cy="8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35" idx="3"/>
            <a:endCxn id="157" idx="1"/>
          </p:cNvCxnSpPr>
          <p:nvPr/>
        </p:nvCxnSpPr>
        <p:spPr>
          <a:xfrm>
            <a:off x="7456320" y="6089400"/>
            <a:ext cx="31788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51" idx="3"/>
            <a:endCxn id="153" idx="1"/>
          </p:cNvCxnSpPr>
          <p:nvPr/>
        </p:nvCxnSpPr>
        <p:spPr>
          <a:xfrm>
            <a:off x="7456320" y="6573600"/>
            <a:ext cx="3178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7773840" y="624996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36" idx="3"/>
            <a:endCxn id="163" idx="1"/>
          </p:cNvCxnSpPr>
          <p:nvPr/>
        </p:nvCxnSpPr>
        <p:spPr>
          <a:xfrm flipV="1">
            <a:off x="7456320" y="6339960"/>
            <a:ext cx="3178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"/>
          <p:cNvCxnSpPr>
            <a:stCxn id="82" idx="1"/>
            <a:endCxn id="80" idx="1"/>
          </p:cNvCxnSpPr>
          <p:nvPr/>
        </p:nvCxnSpPr>
        <p:spPr>
          <a:xfrm flipH="1" rot="10800000">
            <a:off x="5702760" y="1705680"/>
            <a:ext cx="2520" cy="310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72" idx="1"/>
            <a:endCxn id="67" idx="1"/>
          </p:cNvCxnSpPr>
          <p:nvPr/>
        </p:nvCxnSpPr>
        <p:spPr>
          <a:xfrm flipH="1" rot="10800000">
            <a:off x="5702760" y="754920"/>
            <a:ext cx="2520" cy="353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51" idx="1"/>
            <a:endCxn id="136" idx="1"/>
          </p:cNvCxnSpPr>
          <p:nvPr/>
        </p:nvCxnSpPr>
        <p:spPr>
          <a:xfrm flipH="1" rot="10800000">
            <a:off x="5702760" y="6352560"/>
            <a:ext cx="2520" cy="22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50" idx="2"/>
            <a:endCxn id="141" idx="0"/>
          </p:cNvCxnSpPr>
          <p:nvPr/>
        </p:nvCxnSpPr>
        <p:spPr>
          <a:xfrm>
            <a:off x="1671120" y="1598400"/>
            <a:ext cx="1080" cy="2191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41" idx="2"/>
            <a:endCxn id="144" idx="0"/>
          </p:cNvCxnSpPr>
          <p:nvPr/>
        </p:nvCxnSpPr>
        <p:spPr>
          <a:xfrm>
            <a:off x="1671120" y="4398840"/>
            <a:ext cx="1080" cy="45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44" idx="2"/>
            <a:endCxn id="147" idx="0"/>
          </p:cNvCxnSpPr>
          <p:nvPr/>
        </p:nvCxnSpPr>
        <p:spPr>
          <a:xfrm>
            <a:off x="1671120" y="5457960"/>
            <a:ext cx="1080" cy="18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34" idx="1"/>
            <a:endCxn id="144" idx="3"/>
          </p:cNvCxnSpPr>
          <p:nvPr/>
        </p:nvCxnSpPr>
        <p:spPr>
          <a:xfrm rot="10800000">
            <a:off x="2127960" y="5152320"/>
            <a:ext cx="3575880" cy="714960"/>
          </a:xfrm>
          <a:prstGeom prst="bentConnector3">
            <a:avLst>
              <a:gd name="adj1" fmla="val 912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04920" y="2363760"/>
            <a:ext cx="914400" cy="552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 stands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86120" y="473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3640" y="995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8320" y="4525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86400" y="1101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25920" y="476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21280" y="1101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4280" y="38412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trapp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fuel lin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4280" y="3651120"/>
            <a:ext cx="2941920" cy="16876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GENERAL CHECKS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 p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head too low?  See Section 2: 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using a Lifter, check Lifter installation specifica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unit placed 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line length correc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257040"/>
            <a:ext cx="107172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operati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89400" y="1496880"/>
            <a:ext cx="55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0800" y="20350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endCxn id="180" idx="1"/>
          </p:cNvCxnSpPr>
          <p:nvPr/>
        </p:nvCxnSpPr>
        <p:spPr>
          <a:xfrm>
            <a:off x="985320" y="6886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80" idx="3"/>
          </p:cNvCxnSpPr>
          <p:nvPr/>
        </p:nvCxnSpPr>
        <p:spPr>
          <a:xfrm>
            <a:off x="2128320" y="689040"/>
            <a:ext cx="1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513720" y="1760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fuel feed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76920" y="27792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 gathering in fuel t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76920" y="560520"/>
            <a:ext cx="1752480" cy="25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not fed because of su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sion of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51600" y="228600"/>
            <a:ext cx="1143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harge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76920" y="905040"/>
            <a:ext cx="1752480" cy="345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ner joint clogged (Fuel Line pas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geway into Combustion Ch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ar base of Burner 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46920" y="581040"/>
            <a:ext cx="1143000" cy="216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burner jo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2" idx="3"/>
            <a:endCxn id="193" idx="1"/>
          </p:cNvCxnSpPr>
          <p:nvPr/>
        </p:nvCxnSpPr>
        <p:spPr>
          <a:xfrm flipV="1">
            <a:off x="7529400" y="688680"/>
            <a:ext cx="31788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5" name=""/>
          <p:cNvSpPr/>
          <p:nvPr/>
        </p:nvSpPr>
        <p:spPr>
          <a:xfrm>
            <a:off x="5776920" y="13111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ible link valve closed on M-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50160" y="851040"/>
            <a:ext cx="1144440" cy="377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handle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ible link valve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76920" y="1557360"/>
            <a:ext cx="1752480" cy="223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ped safety on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51600" y="12682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76920" y="185112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6920" y="2016000"/>
            <a:ext cx="1143000" cy="5637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ighten fuel lin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air pocket,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76920" y="2035080"/>
            <a:ext cx="1752480" cy="138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ing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6920" y="1611360"/>
            <a:ext cx="11430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84840" y="415116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present in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84840" y="279576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not entering into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76920" y="332568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shor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45480" y="4775040"/>
            <a:ext cx="114444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846920" y="2639880"/>
            <a:ext cx="1144800" cy="436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sh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ti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46920" y="3149640"/>
            <a:ext cx="1149480" cy="382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Push ON/OF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utton to "OFF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Refuel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Turn heater 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58840" y="2511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76920" y="359100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verheat cond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83400" y="49687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3400" y="519264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84840" y="5613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84840" y="44276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83400" y="4714920"/>
            <a:ext cx="1752480" cy="149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ing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65400" y="26622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52920" y="32288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95960" y="419112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pl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71880" y="409104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1316160"/>
            <a:ext cx="1082520" cy="790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wiring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 "K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83400" y="61102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se flue pi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56640" y="51865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5480" y="4305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56640" y="5892840"/>
            <a:ext cx="1144440" cy="5871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ow heater to co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l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ghten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0280" y="255600"/>
            <a:ext cx="10717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the fue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6" idx="3"/>
            <a:endCxn id="190" idx="1"/>
          </p:cNvCxnSpPr>
          <p:nvPr/>
        </p:nvCxnSpPr>
        <p:spPr>
          <a:xfrm>
            <a:off x="4571640" y="689040"/>
            <a:ext cx="1205640" cy="2160"/>
          </a:xfrm>
          <a:prstGeom prst="bentConnector3">
            <a:avLst>
              <a:gd name="adj1" fmla="val 499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" name=""/>
          <p:cNvCxnSpPr>
            <a:stCxn id="190" idx="1"/>
            <a:endCxn id="189" idx="1"/>
          </p:cNvCxnSpPr>
          <p:nvPr/>
        </p:nvCxnSpPr>
        <p:spPr>
          <a:xfrm flipH="1" rot="10800000">
            <a:off x="5776560" y="375480"/>
            <a:ext cx="2160" cy="3150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189" idx="3"/>
            <a:endCxn id="191" idx="1"/>
          </p:cNvCxnSpPr>
          <p:nvPr/>
        </p:nvCxnSpPr>
        <p:spPr>
          <a:xfrm flipV="1">
            <a:off x="7529040" y="336240"/>
            <a:ext cx="322920" cy="40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"/>
          <p:cNvCxnSpPr>
            <a:stCxn id="226" idx="2"/>
            <a:endCxn id="195" idx="1"/>
          </p:cNvCxnSpPr>
          <p:nvPr/>
        </p:nvCxnSpPr>
        <p:spPr>
          <a:xfrm flipH="1" rot="16200000">
            <a:off x="4761720" y="394560"/>
            <a:ext cx="289440" cy="1740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192" idx="1"/>
            <a:endCxn id="197" idx="1"/>
          </p:cNvCxnSpPr>
          <p:nvPr/>
        </p:nvCxnSpPr>
        <p:spPr>
          <a:xfrm flipH="1" flipV="1" rot="10800000">
            <a:off x="5776560" y="1076760"/>
            <a:ext cx="2160" cy="592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" name=""/>
          <p:cNvCxnSpPr>
            <a:stCxn id="195" idx="3"/>
            <a:endCxn id="196" idx="1"/>
          </p:cNvCxnSpPr>
          <p:nvPr/>
        </p:nvCxnSpPr>
        <p:spPr>
          <a:xfrm flipV="1">
            <a:off x="7529040" y="1039320"/>
            <a:ext cx="32148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3" name=""/>
          <p:cNvCxnSpPr>
            <a:stCxn id="197" idx="3"/>
            <a:endCxn id="198" idx="1"/>
          </p:cNvCxnSpPr>
          <p:nvPr/>
        </p:nvCxnSpPr>
        <p:spPr>
          <a:xfrm flipV="1">
            <a:off x="7529040" y="1420560"/>
            <a:ext cx="322920" cy="24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" name=""/>
          <p:cNvCxnSpPr>
            <a:stCxn id="190" idx="3"/>
            <a:endCxn id="191" idx="1"/>
          </p:cNvCxnSpPr>
          <p:nvPr/>
        </p:nvCxnSpPr>
        <p:spPr>
          <a:xfrm flipV="1">
            <a:off x="7529040" y="335880"/>
            <a:ext cx="322920" cy="35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0" idx="2"/>
            <a:endCxn id="201" idx="1"/>
          </p:cNvCxnSpPr>
          <p:nvPr/>
        </p:nvCxnSpPr>
        <p:spPr>
          <a:xfrm flipH="1" flipV="1" rot="5400000">
            <a:off x="4300200" y="630360"/>
            <a:ext cx="2520" cy="2950200"/>
          </a:xfrm>
          <a:prstGeom prst="bentConnector4">
            <a:avLst>
              <a:gd name="adj1" fmla="val -6900000"/>
              <a:gd name="adj2" fmla="val 5920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0" idx="3"/>
            <a:endCxn id="199" idx="1"/>
          </p:cNvCxnSpPr>
          <p:nvPr/>
        </p:nvCxnSpPr>
        <p:spPr>
          <a:xfrm>
            <a:off x="3368520" y="1711080"/>
            <a:ext cx="2409120" cy="20556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182" idx="2"/>
            <a:endCxn id="220" idx="0"/>
          </p:cNvCxnSpPr>
          <p:nvPr/>
        </p:nvCxnSpPr>
        <p:spPr>
          <a:xfrm>
            <a:off x="2822400" y="1122480"/>
            <a:ext cx="576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182" idx="3"/>
            <a:endCxn id="226" idx="1"/>
          </p:cNvCxnSpPr>
          <p:nvPr/>
        </p:nvCxnSpPr>
        <p:spPr>
          <a:xfrm flipV="1">
            <a:off x="3357720" y="688680"/>
            <a:ext cx="143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5778360" y="2255760"/>
            <a:ext cx="1752840" cy="138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l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180" idx="2"/>
            <a:endCxn id="239" idx="1"/>
          </p:cNvCxnSpPr>
          <p:nvPr/>
        </p:nvCxnSpPr>
        <p:spPr>
          <a:xfrm flipH="1" rot="16200000">
            <a:off x="3058920" y="-394200"/>
            <a:ext cx="1332720" cy="4107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7851600" y="1795320"/>
            <a:ext cx="11430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replace wi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199" idx="3"/>
            <a:endCxn id="202" idx="1"/>
          </p:cNvCxnSpPr>
          <p:nvPr/>
        </p:nvCxnSpPr>
        <p:spPr>
          <a:xfrm flipV="1">
            <a:off x="7529400" y="1686960"/>
            <a:ext cx="317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" name=""/>
          <p:cNvCxnSpPr>
            <a:stCxn id="201" idx="3"/>
            <a:endCxn id="241" idx="1"/>
          </p:cNvCxnSpPr>
          <p:nvPr/>
        </p:nvCxnSpPr>
        <p:spPr>
          <a:xfrm flipV="1">
            <a:off x="7529040" y="1871280"/>
            <a:ext cx="32292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" name=""/>
          <p:cNvCxnSpPr>
            <a:stCxn id="239" idx="3"/>
            <a:endCxn id="200" idx="1"/>
          </p:cNvCxnSpPr>
          <p:nvPr/>
        </p:nvCxnSpPr>
        <p:spPr>
          <a:xfrm flipV="1">
            <a:off x="7530840" y="2297880"/>
            <a:ext cx="316440" cy="2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5" name=""/>
          <p:cNvSpPr/>
          <p:nvPr/>
        </p:nvSpPr>
        <p:spPr>
          <a:xfrm>
            <a:off x="513720" y="23256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738520"/>
            <a:ext cx="685800" cy="411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inguish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n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05" idx="1"/>
            <a:endCxn id="210" idx="1"/>
          </p:cNvCxnSpPr>
          <p:nvPr/>
        </p:nvCxnSpPr>
        <p:spPr>
          <a:xfrm flipH="1" flipV="1" rot="10800000">
            <a:off x="5776560" y="3411720"/>
            <a:ext cx="2160" cy="267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09" idx="3"/>
            <a:endCxn id="204" idx="1"/>
          </p:cNvCxnSpPr>
          <p:nvPr/>
        </p:nvCxnSpPr>
        <p:spPr>
          <a:xfrm flipV="1">
            <a:off x="2174760" y="2883960"/>
            <a:ext cx="3610800" cy="612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09" idx="2"/>
            <a:endCxn id="205" idx="1"/>
          </p:cNvCxnSpPr>
          <p:nvPr/>
        </p:nvCxnSpPr>
        <p:spPr>
          <a:xfrm flipH="1" rot="16200000">
            <a:off x="3702600" y="1339560"/>
            <a:ext cx="37440" cy="4110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7851600" y="3591000"/>
            <a:ext cx="1149480" cy="663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Unplug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Remove air-flow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bstructions and/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termine cause o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verheat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Replace cover &amp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04" idx="3"/>
            <a:endCxn id="207" idx="1"/>
          </p:cNvCxnSpPr>
          <p:nvPr/>
        </p:nvCxnSpPr>
        <p:spPr>
          <a:xfrm flipV="1">
            <a:off x="7537320" y="2858760"/>
            <a:ext cx="310320" cy="25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05" idx="3"/>
            <a:endCxn id="208" idx="1"/>
          </p:cNvCxnSpPr>
          <p:nvPr/>
        </p:nvCxnSpPr>
        <p:spPr>
          <a:xfrm flipV="1">
            <a:off x="7529400" y="3340800"/>
            <a:ext cx="3178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10" idx="3"/>
            <a:endCxn id="250" idx="1"/>
          </p:cNvCxnSpPr>
          <p:nvPr/>
        </p:nvCxnSpPr>
        <p:spPr>
          <a:xfrm>
            <a:off x="7529040" y="3679920"/>
            <a:ext cx="32292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6" idx="3"/>
            <a:endCxn id="209" idx="1"/>
          </p:cNvCxnSpPr>
          <p:nvPr/>
        </p:nvCxnSpPr>
        <p:spPr>
          <a:xfrm>
            <a:off x="990360" y="2944440"/>
            <a:ext cx="168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509040" y="38768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4227480"/>
            <a:ext cx="685800" cy="5349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incre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"Hig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6" idx="3"/>
            <a:endCxn id="181" idx="1"/>
          </p:cNvCxnSpPr>
          <p:nvPr/>
        </p:nvCxnSpPr>
        <p:spPr>
          <a:xfrm>
            <a:off x="990360" y="4495320"/>
            <a:ext cx="224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endCxn id="218" idx="1"/>
          </p:cNvCxnSpPr>
          <p:nvPr/>
        </p:nvCxnSpPr>
        <p:spPr>
          <a:xfrm>
            <a:off x="4156200" y="449532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18" idx="3"/>
            <a:endCxn id="214" idx="1"/>
          </p:cNvCxnSpPr>
          <p:nvPr/>
        </p:nvCxnSpPr>
        <p:spPr>
          <a:xfrm>
            <a:off x="5310360" y="4495680"/>
            <a:ext cx="475200" cy="8640"/>
          </a:xfrm>
          <a:prstGeom prst="bentConnector3">
            <a:avLst>
              <a:gd name="adj1" fmla="val 498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" name=""/>
          <p:cNvCxnSpPr/>
          <p:nvPr/>
        </p:nvCxnSpPr>
        <p:spPr>
          <a:xfrm flipH="1" rot="10800000">
            <a:off x="5784480" y="4230720"/>
            <a:ext cx="2160" cy="273240"/>
          </a:xfrm>
          <a:prstGeom prst="bentConnector3">
            <a:avLst>
              <a:gd name="adj1" fmla="val -149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098880" y="550692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56640" y="45356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56640" y="559908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00560" y="423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89880" y="48895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18" idx="2"/>
            <a:endCxn id="211" idx="1"/>
          </p:cNvCxnSpPr>
          <p:nvPr/>
        </p:nvCxnSpPr>
        <p:spPr>
          <a:xfrm flipH="1" rot="16200000">
            <a:off x="5196240" y="4456800"/>
            <a:ext cx="244800" cy="930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"/>
          <p:cNvCxnSpPr>
            <a:stCxn id="215" idx="1"/>
            <a:endCxn id="212" idx="1"/>
          </p:cNvCxnSpPr>
          <p:nvPr/>
        </p:nvCxnSpPr>
        <p:spPr>
          <a:xfrm flipH="1" flipV="1" rot="10800000">
            <a:off x="5783040" y="4788360"/>
            <a:ext cx="2160" cy="478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8" name=""/>
          <p:cNvSpPr/>
          <p:nvPr/>
        </p:nvSpPr>
        <p:spPr>
          <a:xfrm>
            <a:off x="7856640" y="494172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03" idx="3"/>
            <a:endCxn id="223" idx="1"/>
          </p:cNvCxnSpPr>
          <p:nvPr/>
        </p:nvCxnSpPr>
        <p:spPr>
          <a:xfrm>
            <a:off x="7537320" y="4230360"/>
            <a:ext cx="30888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" name=""/>
          <p:cNvCxnSpPr>
            <a:stCxn id="214" idx="3"/>
            <a:endCxn id="262" idx="1"/>
          </p:cNvCxnSpPr>
          <p:nvPr/>
        </p:nvCxnSpPr>
        <p:spPr>
          <a:xfrm>
            <a:off x="7536960" y="4503600"/>
            <a:ext cx="32004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215" idx="3"/>
            <a:endCxn id="206" idx="1"/>
          </p:cNvCxnSpPr>
          <p:nvPr/>
        </p:nvCxnSpPr>
        <p:spPr>
          <a:xfrm>
            <a:off x="7535880" y="4789440"/>
            <a:ext cx="31032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11" idx="3"/>
            <a:endCxn id="268" idx="1"/>
          </p:cNvCxnSpPr>
          <p:nvPr/>
        </p:nvCxnSpPr>
        <p:spPr>
          <a:xfrm flipV="1">
            <a:off x="7535520" y="5031720"/>
            <a:ext cx="32148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12" idx="3"/>
            <a:endCxn id="222" idx="1"/>
          </p:cNvCxnSpPr>
          <p:nvPr/>
        </p:nvCxnSpPr>
        <p:spPr>
          <a:xfrm>
            <a:off x="7535520" y="5266800"/>
            <a:ext cx="3214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181" idx="2"/>
            <a:endCxn id="213" idx="1"/>
          </p:cNvCxnSpPr>
          <p:nvPr/>
        </p:nvCxnSpPr>
        <p:spPr>
          <a:xfrm flipH="1" rot="16200000">
            <a:off x="4060080" y="3964320"/>
            <a:ext cx="351360" cy="3099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13" idx="3"/>
            <a:endCxn id="263" idx="1"/>
          </p:cNvCxnSpPr>
          <p:nvPr/>
        </p:nvCxnSpPr>
        <p:spPr>
          <a:xfrm>
            <a:off x="7536960" y="5689080"/>
            <a:ext cx="3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526680" y="55674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7520" y="5979960"/>
            <a:ext cx="2368440" cy="411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or flame; sounds of  combustion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t at the reat of the heater.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not a failure, but is apt to occ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stCxn id="277" idx="3"/>
            <a:endCxn id="221" idx="1"/>
          </p:cNvCxnSpPr>
          <p:nvPr/>
        </p:nvCxnSpPr>
        <p:spPr>
          <a:xfrm>
            <a:off x="2685960" y="6186240"/>
            <a:ext cx="309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9" name=""/>
          <p:cNvCxnSpPr>
            <a:stCxn id="221" idx="3"/>
            <a:endCxn id="224" idx="1"/>
          </p:cNvCxnSpPr>
          <p:nvPr/>
        </p:nvCxnSpPr>
        <p:spPr>
          <a:xfrm>
            <a:off x="7535520" y="6186240"/>
            <a:ext cx="321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048640" y="3079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888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F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 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or obstru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ch as wasps ne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exhaust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63520" y="4290840"/>
            <a:ext cx="107172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me too lo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Usually 0.5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m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3720" y="4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83400" y="892080"/>
            <a:ext cx="1752480" cy="195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amper Solenoid As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58080" y="846000"/>
            <a:ext cx="1143000" cy="287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enoid As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45480" y="5508720"/>
            <a:ext cx="1143000" cy="3618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unt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need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70680" y="173196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out intake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aust du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181944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ake or exhaust line clogg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84840" y="399744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84840" y="267984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Solenoid Pump malfunctio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340524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Fan fai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845480" y="6110280"/>
            <a:ext cx="114444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unt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03880" y="5508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67020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gged air supply or exhaust 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84840" y="5613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 much air f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30920" y="1312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12160" y="711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02000" y="6904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83400" y="61102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mounted incorrect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56640" y="30211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Air Damper ac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ding to specif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8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4" idx="3"/>
            <a:endCxn id="285" idx="1"/>
          </p:cNvCxnSpPr>
          <p:nvPr/>
        </p:nvCxnSpPr>
        <p:spPr>
          <a:xfrm>
            <a:off x="7535520" y="99036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513720" y="4156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1920" y="4468680"/>
            <a:ext cx="685800" cy="5097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ise is ma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n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67004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70680" y="374976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bstru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70680" y="39862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64560" y="26798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800280"/>
            <a:ext cx="858600" cy="366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oke produ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set "Hig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7008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unit pla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lue pipe too lo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have too many bend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ection 2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658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29160" y="163656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293" idx="3"/>
            <a:endCxn id="284" idx="1"/>
          </p:cNvCxnSpPr>
          <p:nvPr/>
        </p:nvCxnSpPr>
        <p:spPr>
          <a:xfrm>
            <a:off x="5419800" y="984240"/>
            <a:ext cx="364320" cy="7200"/>
          </a:xfrm>
          <a:prstGeom prst="bentConnector3">
            <a:avLst>
              <a:gd name="adj1" fmla="val 497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4332240" y="1450800"/>
            <a:ext cx="115740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outs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flue pipe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ow of air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32240" y="2335320"/>
            <a:ext cx="115740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 ac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pecific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57880" y="2579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36960" y="2227320"/>
            <a:ext cx="65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91280" y="162396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5" idx="2"/>
          </p:cNvCxnSpPr>
          <p:nvPr/>
        </p:nvCxnSpPr>
        <p:spPr>
          <a:xfrm flipH="1" flipV="1" rot="5400000">
            <a:off x="6371280" y="1726560"/>
            <a:ext cx="13320" cy="2934360"/>
          </a:xfrm>
          <a:prstGeom prst="bentConnector4">
            <a:avLst>
              <a:gd name="adj1" fmla="val -461111"/>
              <a:gd name="adj2" fmla="val 598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4" idx="3"/>
            <a:endCxn id="288" idx="1"/>
          </p:cNvCxnSpPr>
          <p:nvPr/>
        </p:nvCxnSpPr>
        <p:spPr>
          <a:xfrm>
            <a:off x="5489640" y="188388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1" name=""/>
          <p:cNvCxnSpPr>
            <a:stCxn id="288" idx="3"/>
            <a:endCxn id="287" idx="1"/>
          </p:cNvCxnSpPr>
          <p:nvPr/>
        </p:nvCxnSpPr>
        <p:spPr>
          <a:xfrm>
            <a:off x="7543800" y="188388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0" idx="3"/>
            <a:endCxn id="308" idx="1"/>
          </p:cNvCxnSpPr>
          <p:nvPr/>
        </p:nvCxnSpPr>
        <p:spPr>
          <a:xfrm>
            <a:off x="7536960" y="2768760"/>
            <a:ext cx="327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5" idx="3"/>
            <a:endCxn id="290" idx="1"/>
          </p:cNvCxnSpPr>
          <p:nvPr/>
        </p:nvCxnSpPr>
        <p:spPr>
          <a:xfrm>
            <a:off x="5489640" y="2768400"/>
            <a:ext cx="295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09" idx="3"/>
            <a:endCxn id="310" idx="1"/>
          </p:cNvCxnSpPr>
          <p:nvPr/>
        </p:nvCxnSpPr>
        <p:spPr>
          <a:xfrm>
            <a:off x="1163520" y="983880"/>
            <a:ext cx="107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0" idx="3"/>
            <a:endCxn id="281" idx="1"/>
          </p:cNvCxnSpPr>
          <p:nvPr/>
        </p:nvCxnSpPr>
        <p:spPr>
          <a:xfrm>
            <a:off x="2719440" y="98388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281" idx="3"/>
            <a:endCxn id="293" idx="1"/>
          </p:cNvCxnSpPr>
          <p:nvPr/>
        </p:nvCxnSpPr>
        <p:spPr>
          <a:xfrm>
            <a:off x="4277880" y="983880"/>
            <a:ext cx="12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293" idx="2"/>
            <a:endCxn id="314" idx="0"/>
          </p:cNvCxnSpPr>
          <p:nvPr/>
        </p:nvCxnSpPr>
        <p:spPr>
          <a:xfrm>
            <a:off x="4911480" y="1415520"/>
            <a:ext cx="108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14" idx="2"/>
            <a:endCxn id="315" idx="0"/>
          </p:cNvCxnSpPr>
          <p:nvPr/>
        </p:nvCxnSpPr>
        <p:spPr>
          <a:xfrm>
            <a:off x="4911480" y="2315880"/>
            <a:ext cx="10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281" idx="2"/>
            <a:endCxn id="291" idx="1"/>
          </p:cNvCxnSpPr>
          <p:nvPr/>
        </p:nvCxnSpPr>
        <p:spPr>
          <a:xfrm flipH="1" rot="16200000">
            <a:off x="3767760" y="1468440"/>
            <a:ext cx="1810440" cy="223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291" idx="1"/>
            <a:endCxn id="294" idx="1"/>
          </p:cNvCxnSpPr>
          <p:nvPr/>
        </p:nvCxnSpPr>
        <p:spPr>
          <a:xfrm flipH="1" flipV="1" rot="10800000">
            <a:off x="5790960" y="3490920"/>
            <a:ext cx="2160" cy="267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1" name=""/>
          <p:cNvCxnSpPr>
            <a:stCxn id="310" idx="2"/>
            <a:endCxn id="289" idx="1"/>
          </p:cNvCxnSpPr>
          <p:nvPr/>
        </p:nvCxnSpPr>
        <p:spPr>
          <a:xfrm flipH="1" rot="16200000">
            <a:off x="2693160" y="984600"/>
            <a:ext cx="2394720" cy="3790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7870680" y="34052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" name=""/>
          <p:cNvCxnSpPr>
            <a:stCxn id="291" idx="3"/>
            <a:endCxn id="332" idx="1"/>
          </p:cNvCxnSpPr>
          <p:nvPr/>
        </p:nvCxnSpPr>
        <p:spPr>
          <a:xfrm>
            <a:off x="7543800" y="3492000"/>
            <a:ext cx="327600" cy="6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" name=""/>
          <p:cNvCxnSpPr>
            <a:stCxn id="294" idx="3"/>
            <a:endCxn id="306" idx="1"/>
          </p:cNvCxnSpPr>
          <p:nvPr/>
        </p:nvCxnSpPr>
        <p:spPr>
          <a:xfrm>
            <a:off x="7543800" y="3758760"/>
            <a:ext cx="327600" cy="8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"/>
          <p:cNvCxnSpPr>
            <a:stCxn id="289" idx="3"/>
            <a:endCxn id="307" idx="1"/>
          </p:cNvCxnSpPr>
          <p:nvPr/>
        </p:nvCxnSpPr>
        <p:spPr>
          <a:xfrm>
            <a:off x="7537320" y="4076280"/>
            <a:ext cx="334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3265560" y="4290840"/>
            <a:ext cx="115704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 ac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pecific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25480" y="51562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95480" y="4471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21120" y="51562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4471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5480" y="463392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ymptom #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36" idx="3"/>
            <a:endCxn id="341" idx="1"/>
          </p:cNvCxnSpPr>
          <p:nvPr/>
        </p:nvCxnSpPr>
        <p:spPr>
          <a:xfrm>
            <a:off x="4422600" y="4723920"/>
            <a:ext cx="3423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6" idx="2"/>
            <a:endCxn id="295" idx="1"/>
          </p:cNvCxnSpPr>
          <p:nvPr/>
        </p:nvCxnSpPr>
        <p:spPr>
          <a:xfrm flipH="1" rot="16200000">
            <a:off x="4547160" y="4452480"/>
            <a:ext cx="533880" cy="1940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282" idx="2"/>
            <a:endCxn id="299" idx="1"/>
          </p:cNvCxnSpPr>
          <p:nvPr/>
        </p:nvCxnSpPr>
        <p:spPr>
          <a:xfrm flipH="1" rot="16200000">
            <a:off x="3226680" y="3629520"/>
            <a:ext cx="1031040" cy="4083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295" idx="3"/>
            <a:endCxn id="286" idx="1"/>
          </p:cNvCxnSpPr>
          <p:nvPr/>
        </p:nvCxnSpPr>
        <p:spPr>
          <a:xfrm>
            <a:off x="7537320" y="5689080"/>
            <a:ext cx="308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299" idx="3"/>
            <a:endCxn id="292" idx="1"/>
          </p:cNvCxnSpPr>
          <p:nvPr/>
        </p:nvCxnSpPr>
        <p:spPr>
          <a:xfrm>
            <a:off x="7535880" y="6186240"/>
            <a:ext cx="310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04" idx="3"/>
            <a:endCxn id="282" idx="1"/>
          </p:cNvCxnSpPr>
          <p:nvPr/>
        </p:nvCxnSpPr>
        <p:spPr>
          <a:xfrm>
            <a:off x="1017360" y="4723920"/>
            <a:ext cx="14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282" idx="3"/>
            <a:endCxn id="336" idx="1"/>
          </p:cNvCxnSpPr>
          <p:nvPr/>
        </p:nvCxnSpPr>
        <p:spPr>
          <a:xfrm>
            <a:off x="2235240" y="472392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5078520" y="1895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1320" y="1496880"/>
            <a:ext cx="1752480" cy="25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Ring is instal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2795760"/>
            <a:ext cx="1752480" cy="495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lies only a small amount of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e to dust or bubbles in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livery 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45480" y="179532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ng 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91320" y="183996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Ring is brok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91320" y="226044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leaks from Igniter c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1320" y="454968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5920" y="11937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exten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ole area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ne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91320" y="412920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2320" y="135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43440" y="19954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18480" y="2844720"/>
            <a:ext cx="1144440" cy="3999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 customer ab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 &amp; reset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8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56640" y="45496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856640" y="412920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2560" y="9190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55680" y="260280"/>
            <a:ext cx="1938240" cy="2732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pure kerosen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heater mounted 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external fuel tank too low?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e Section 2: INSTAL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Air Damper as need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e Symptom #5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an obstruction i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Air System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75040" y="1353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71600" y="31114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86080" y="2611440"/>
            <a:ext cx="115740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 S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 &amp;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6 ti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91000" y="1303200"/>
            <a:ext cx="889200" cy="644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78240" y="135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6680" y="1366920"/>
            <a:ext cx="981000" cy="519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mber wind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smok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er run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18480" y="14158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ng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845480" y="21970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gaske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ly install c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65680" y="3833640"/>
            <a:ext cx="12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Flame does not ext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55920" y="2793960"/>
            <a:ext cx="1076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Flame exten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65" idx="2"/>
            <a:endCxn id="355" idx="1"/>
          </p:cNvCxnSpPr>
          <p:nvPr/>
        </p:nvCxnSpPr>
        <p:spPr>
          <a:xfrm flipH="1" rot="16200000">
            <a:off x="3184920" y="2031480"/>
            <a:ext cx="1645560" cy="3566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68" idx="2"/>
            <a:endCxn id="357" idx="1"/>
          </p:cNvCxnSpPr>
          <p:nvPr/>
        </p:nvCxnSpPr>
        <p:spPr>
          <a:xfrm flipH="1" rot="16200000">
            <a:off x="4456800" y="2884320"/>
            <a:ext cx="742320" cy="1926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68" idx="3"/>
            <a:endCxn id="351" idx="1"/>
          </p:cNvCxnSpPr>
          <p:nvPr/>
        </p:nvCxnSpPr>
        <p:spPr>
          <a:xfrm flipV="1">
            <a:off x="4443480" y="3042360"/>
            <a:ext cx="1348560" cy="252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69" idx="2"/>
            <a:endCxn id="354" idx="1"/>
          </p:cNvCxnSpPr>
          <p:nvPr/>
        </p:nvCxnSpPr>
        <p:spPr>
          <a:xfrm flipH="1" rot="16200000">
            <a:off x="5161680" y="1720440"/>
            <a:ext cx="402120" cy="856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53" idx="1"/>
            <a:endCxn id="350" idx="1"/>
          </p:cNvCxnSpPr>
          <p:nvPr/>
        </p:nvCxnSpPr>
        <p:spPr>
          <a:xfrm flipH="1" rot="10800000">
            <a:off x="5790960" y="1627200"/>
            <a:ext cx="216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1" name=""/>
          <p:cNvCxnSpPr>
            <a:stCxn id="369" idx="3"/>
            <a:endCxn id="350" idx="1"/>
          </p:cNvCxnSpPr>
          <p:nvPr/>
        </p:nvCxnSpPr>
        <p:spPr>
          <a:xfrm>
            <a:off x="5380200" y="1625760"/>
            <a:ext cx="411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2" name=""/>
          <p:cNvCxnSpPr>
            <a:stCxn id="350" idx="3"/>
            <a:endCxn id="372" idx="1"/>
          </p:cNvCxnSpPr>
          <p:nvPr/>
        </p:nvCxnSpPr>
        <p:spPr>
          <a:xfrm flipV="1">
            <a:off x="7543440" y="1567800"/>
            <a:ext cx="275400" cy="59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53" idx="3"/>
            <a:endCxn id="352" idx="1"/>
          </p:cNvCxnSpPr>
          <p:nvPr/>
        </p:nvCxnSpPr>
        <p:spPr>
          <a:xfrm>
            <a:off x="7543800" y="1904760"/>
            <a:ext cx="30240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54" idx="3"/>
            <a:endCxn id="373" idx="1"/>
          </p:cNvCxnSpPr>
          <p:nvPr/>
        </p:nvCxnSpPr>
        <p:spPr>
          <a:xfrm>
            <a:off x="7543800" y="234900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>
            <a:stCxn id="351" idx="3"/>
            <a:endCxn id="360" idx="1"/>
          </p:cNvCxnSpPr>
          <p:nvPr/>
        </p:nvCxnSpPr>
        <p:spPr>
          <a:xfrm>
            <a:off x="7543440" y="3042720"/>
            <a:ext cx="2754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6" name=""/>
          <p:cNvCxnSpPr>
            <a:stCxn id="356" idx="2"/>
            <a:endCxn id="368" idx="0"/>
          </p:cNvCxnSpPr>
          <p:nvPr/>
        </p:nvCxnSpPr>
        <p:spPr>
          <a:xfrm>
            <a:off x="3863520" y="2058480"/>
            <a:ext cx="252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56" idx="3"/>
            <a:endCxn id="369" idx="1"/>
          </p:cNvCxnSpPr>
          <p:nvPr/>
        </p:nvCxnSpPr>
        <p:spPr>
          <a:xfrm flipV="1">
            <a:off x="4371480" y="1625400"/>
            <a:ext cx="119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65" idx="3"/>
            <a:endCxn id="356" idx="1"/>
          </p:cNvCxnSpPr>
          <p:nvPr/>
        </p:nvCxnSpPr>
        <p:spPr>
          <a:xfrm>
            <a:off x="3193920" y="1626840"/>
            <a:ext cx="16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71" idx="3"/>
            <a:endCxn id="365" idx="1"/>
          </p:cNvCxnSpPr>
          <p:nvPr/>
        </p:nvCxnSpPr>
        <p:spPr>
          <a:xfrm>
            <a:off x="1147680" y="162684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"/>
          <p:cNvCxnSpPr>
            <a:stCxn id="357" idx="3"/>
            <a:endCxn id="363" idx="1"/>
          </p:cNvCxnSpPr>
          <p:nvPr/>
        </p:nvCxnSpPr>
        <p:spPr>
          <a:xfrm>
            <a:off x="7543440" y="4218120"/>
            <a:ext cx="313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55" idx="3"/>
            <a:endCxn id="362" idx="1"/>
          </p:cNvCxnSpPr>
          <p:nvPr/>
        </p:nvCxnSpPr>
        <p:spPr>
          <a:xfrm>
            <a:off x="7543440" y="4636800"/>
            <a:ext cx="3135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651400" y="1711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3720" y="4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83400" y="782640"/>
            <a:ext cx="1752480" cy="403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curtain or other obstr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vers circulation air inl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83400" y="241308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stacle covers circulating air out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84840" y="312408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rinted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91320" y="340524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lation Fan fai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843680" y="1033560"/>
            <a:ext cx="11448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ep curtain from u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39840" y="204480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lation F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1320" y="367020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43160" y="22096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37000" y="30160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834320" y="238752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bsta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2240" y="367020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air or replace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64560" y="31240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800280"/>
            <a:ext cx="858600" cy="366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Overhe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mostat 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a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2240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indow curtain to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se to the rear of the un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irculation F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ard dust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396" idx="3"/>
            <a:endCxn id="406" idx="1"/>
          </p:cNvCxnSpPr>
          <p:nvPr/>
        </p:nvCxnSpPr>
        <p:spPr>
          <a:xfrm>
            <a:off x="7536960" y="3212640"/>
            <a:ext cx="327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0" name=""/>
          <p:cNvCxnSpPr>
            <a:stCxn id="407" idx="3"/>
            <a:endCxn id="408" idx="1"/>
          </p:cNvCxnSpPr>
          <p:nvPr/>
        </p:nvCxnSpPr>
        <p:spPr>
          <a:xfrm>
            <a:off x="1163520" y="983880"/>
            <a:ext cx="75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7843680" y="8002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gu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73560" y="6318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42240" y="3405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air 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408" idx="3"/>
            <a:endCxn id="394" idx="1"/>
          </p:cNvCxnSpPr>
          <p:nvPr/>
        </p:nvCxnSpPr>
        <p:spPr>
          <a:xfrm>
            <a:off x="3371400" y="983880"/>
            <a:ext cx="241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5" name=""/>
          <p:cNvCxnSpPr>
            <a:stCxn id="394" idx="3"/>
            <a:endCxn id="411" idx="1"/>
          </p:cNvCxnSpPr>
          <p:nvPr/>
        </p:nvCxnSpPr>
        <p:spPr>
          <a:xfrm flipV="1">
            <a:off x="7535520" y="890280"/>
            <a:ext cx="308520" cy="94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6" name=""/>
          <p:cNvCxnSpPr>
            <a:stCxn id="394" idx="3"/>
            <a:endCxn id="398" idx="1"/>
          </p:cNvCxnSpPr>
          <p:nvPr/>
        </p:nvCxnSpPr>
        <p:spPr>
          <a:xfrm>
            <a:off x="7535520" y="984240"/>
            <a:ext cx="30852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7" name=""/>
          <p:cNvCxnSpPr>
            <a:stCxn id="408" idx="2"/>
            <a:endCxn id="399" idx="0"/>
          </p:cNvCxnSpPr>
          <p:nvPr/>
        </p:nvCxnSpPr>
        <p:spPr>
          <a:xfrm>
            <a:off x="2647440" y="1682640"/>
            <a:ext cx="10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399" idx="3"/>
            <a:endCxn id="395" idx="1"/>
          </p:cNvCxnSpPr>
          <p:nvPr/>
        </p:nvCxnSpPr>
        <p:spPr>
          <a:xfrm>
            <a:off x="3156120" y="2477880"/>
            <a:ext cx="2627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9" name=""/>
          <p:cNvCxnSpPr>
            <a:stCxn id="396" idx="1"/>
            <a:endCxn id="400" idx="1"/>
          </p:cNvCxnSpPr>
          <p:nvPr/>
        </p:nvCxnSpPr>
        <p:spPr>
          <a:xfrm flipH="1" flipV="1" rot="10800000">
            <a:off x="5784480" y="3211560"/>
            <a:ext cx="7200" cy="546480"/>
          </a:xfrm>
          <a:prstGeom prst="bentConnector3">
            <a:avLst>
              <a:gd name="adj1" fmla="val -36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399" idx="2"/>
            <a:endCxn id="397" idx="1"/>
          </p:cNvCxnSpPr>
          <p:nvPr/>
        </p:nvCxnSpPr>
        <p:spPr>
          <a:xfrm flipH="1" rot="16200000">
            <a:off x="3928320" y="1629000"/>
            <a:ext cx="583200" cy="3144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"/>
          <p:cNvCxnSpPr>
            <a:stCxn id="397" idx="3"/>
            <a:endCxn id="413" idx="1"/>
          </p:cNvCxnSpPr>
          <p:nvPr/>
        </p:nvCxnSpPr>
        <p:spPr>
          <a:xfrm>
            <a:off x="7543440" y="3492000"/>
            <a:ext cx="2991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00" idx="3"/>
            <a:endCxn id="405" idx="1"/>
          </p:cNvCxnSpPr>
          <p:nvPr/>
        </p:nvCxnSpPr>
        <p:spPr>
          <a:xfrm>
            <a:off x="7543440" y="3758760"/>
            <a:ext cx="299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3" name=""/>
          <p:cNvCxnSpPr>
            <a:stCxn id="395" idx="3"/>
            <a:endCxn id="404" idx="1"/>
          </p:cNvCxnSpPr>
          <p:nvPr/>
        </p:nvCxnSpPr>
        <p:spPr>
          <a:xfrm>
            <a:off x="7535520" y="247788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25360" y="25236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.88 blink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286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6860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76480" y="3830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3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33440" y="3830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2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47960" y="39164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3080" y="39211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35480" y="4435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92800" y="44402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17760" y="3619440"/>
            <a:ext cx="1157400" cy="1038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AC 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-in, does vol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7 turn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L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716440" y="370368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-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70960" y="5716440"/>
            <a:ext cx="1143000" cy="216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02400" y="455148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770960" y="33796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ll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51200" y="1327320"/>
            <a:ext cx="717480" cy="357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ON/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 to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769160" y="222408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 CN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65080" y="1001880"/>
            <a:ext cx="430200" cy="309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 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772400" y="5986440"/>
            <a:ext cx="1144440" cy="22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16440" y="3394080"/>
            <a:ext cx="175284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19680" y="388800"/>
            <a:ext cx="175284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38 - R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19680" y="612720"/>
            <a:ext cx="175284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21480" y="13111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65480" y="1905120"/>
            <a:ext cx="1913040" cy="511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the connector CN1 of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 from PCB and t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mper pins T1 &amp; T6 on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21480" y="153180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36" idx="3"/>
            <a:endCxn id="437" idx="1"/>
          </p:cNvCxnSpPr>
          <p:nvPr/>
        </p:nvCxnSpPr>
        <p:spPr>
          <a:xfrm flipV="1">
            <a:off x="4475160" y="3801240"/>
            <a:ext cx="1242000" cy="3373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52" name=""/>
          <p:cNvSpPr/>
          <p:nvPr/>
        </p:nvSpPr>
        <p:spPr>
          <a:xfrm>
            <a:off x="5702400" y="39830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parator IC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02400" y="42670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9 - R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02400" y="48196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witch SW1 (Res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02400" y="51973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02400" y="54482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2" idx="1"/>
            <a:endCxn id="439" idx="1"/>
          </p:cNvCxnSpPr>
          <p:nvPr/>
        </p:nvCxnSpPr>
        <p:spPr>
          <a:xfrm flipH="1" flipV="1" rot="10800000">
            <a:off x="5702040" y="4079880"/>
            <a:ext cx="2160" cy="568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53" idx="1"/>
            <a:endCxn id="454" idx="1"/>
          </p:cNvCxnSpPr>
          <p:nvPr/>
        </p:nvCxnSpPr>
        <p:spPr>
          <a:xfrm flipH="1" flipV="1" rot="10800000">
            <a:off x="5702040" y="4365360"/>
            <a:ext cx="2160" cy="5529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9" name=""/>
          <p:cNvCxnSpPr>
            <a:stCxn id="436" idx="2"/>
            <a:endCxn id="454" idx="1"/>
          </p:cNvCxnSpPr>
          <p:nvPr/>
        </p:nvCxnSpPr>
        <p:spPr>
          <a:xfrm flipH="1" rot="16200000">
            <a:off x="4669560" y="3884760"/>
            <a:ext cx="261000" cy="1805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6" idx="1"/>
            <a:endCxn id="455" idx="1"/>
          </p:cNvCxnSpPr>
          <p:nvPr/>
        </p:nvCxnSpPr>
        <p:spPr>
          <a:xfrm flipH="1" rot="10800000">
            <a:off x="5702040" y="5295240"/>
            <a:ext cx="2160" cy="251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31" idx="2"/>
            <a:endCxn id="455" idx="1"/>
          </p:cNvCxnSpPr>
          <p:nvPr/>
        </p:nvCxnSpPr>
        <p:spPr>
          <a:xfrm flipH="1" rot="16200000">
            <a:off x="3768480" y="3361680"/>
            <a:ext cx="856440" cy="3012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2" name=""/>
          <p:cNvSpPr/>
          <p:nvPr/>
        </p:nvSpPr>
        <p:spPr>
          <a:xfrm>
            <a:off x="4437000" y="39243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99160" y="47037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02400" y="57355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 F1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02400" y="59864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03840" y="62373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6 - D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703840" y="651204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30" idx="2"/>
            <a:endCxn id="464" idx="1"/>
          </p:cNvCxnSpPr>
          <p:nvPr/>
        </p:nvCxnSpPr>
        <p:spPr>
          <a:xfrm flipH="1" rot="16200000">
            <a:off x="2971080" y="3102480"/>
            <a:ext cx="1394640" cy="4069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4" idx="1"/>
            <a:endCxn id="466" idx="1"/>
          </p:cNvCxnSpPr>
          <p:nvPr/>
        </p:nvCxnSpPr>
        <p:spPr>
          <a:xfrm flipH="1" flipV="1" rot="10800000">
            <a:off x="5702040" y="5832720"/>
            <a:ext cx="2160" cy="501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65" idx="1"/>
            <a:endCxn id="467" idx="1"/>
          </p:cNvCxnSpPr>
          <p:nvPr/>
        </p:nvCxnSpPr>
        <p:spPr>
          <a:xfrm flipH="1" flipV="1" rot="10800000">
            <a:off x="5702040" y="6084360"/>
            <a:ext cx="2160" cy="526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1" name=""/>
          <p:cNvCxnSpPr>
            <a:stCxn id="427" idx="2"/>
            <a:endCxn id="430" idx="0"/>
          </p:cNvCxnSpPr>
          <p:nvPr/>
        </p:nvCxnSpPr>
        <p:spPr>
          <a:xfrm>
            <a:off x="1633320" y="1117080"/>
            <a:ext cx="1080" cy="271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2" name=""/>
          <p:cNvSpPr/>
          <p:nvPr/>
        </p:nvSpPr>
        <p:spPr>
          <a:xfrm>
            <a:off x="3317760" y="504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48400" y="9921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89040" y="38088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fue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-42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64080" y="38268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Empty 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t? (M-42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67240" y="473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62680" y="882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"/>
          <p:cNvCxnSpPr>
            <a:stCxn id="446" idx="1"/>
            <a:endCxn id="447" idx="1"/>
          </p:cNvCxnSpPr>
          <p:nvPr/>
        </p:nvCxnSpPr>
        <p:spPr>
          <a:xfrm flipH="1" flipV="1" rot="10800000">
            <a:off x="5718600" y="464040"/>
            <a:ext cx="252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4" idx="2"/>
            <a:endCxn id="445" idx="1"/>
          </p:cNvCxnSpPr>
          <p:nvPr/>
        </p:nvCxnSpPr>
        <p:spPr>
          <a:xfrm flipH="1" rot="16200000">
            <a:off x="3090600" y="845280"/>
            <a:ext cx="2480400" cy="2770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"/>
          <p:cNvSpPr/>
          <p:nvPr/>
        </p:nvSpPr>
        <p:spPr>
          <a:xfrm>
            <a:off x="3409920" y="1027080"/>
            <a:ext cx="1424160" cy="716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ed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 wind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97440" y="1193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24520" y="1727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64080" y="255096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er start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60760" y="26416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13440" y="3052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21480" y="10969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onator X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"/>
          <p:cNvCxnSpPr>
            <a:stCxn id="486" idx="1"/>
            <a:endCxn id="450" idx="1"/>
          </p:cNvCxnSpPr>
          <p:nvPr/>
        </p:nvCxnSpPr>
        <p:spPr>
          <a:xfrm flipH="1" flipV="1" rot="10800000">
            <a:off x="5721120" y="1172880"/>
            <a:ext cx="2160" cy="4356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0" idx="3"/>
            <a:endCxn id="448" idx="1"/>
          </p:cNvCxnSpPr>
          <p:nvPr/>
        </p:nvCxnSpPr>
        <p:spPr>
          <a:xfrm>
            <a:off x="4833720" y="1386000"/>
            <a:ext cx="8881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9" name=""/>
          <p:cNvSpPr/>
          <p:nvPr/>
        </p:nvSpPr>
        <p:spPr>
          <a:xfrm>
            <a:off x="5718240" y="230040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operation circuit board CN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18240" y="28130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18240" y="30337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18240" y="25988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onator X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2" idx="1"/>
            <a:endCxn id="490" idx="1"/>
          </p:cNvCxnSpPr>
          <p:nvPr/>
        </p:nvCxnSpPr>
        <p:spPr>
          <a:xfrm flipH="1" flipV="1" rot="10800000">
            <a:off x="5717880" y="2674440"/>
            <a:ext cx="2160" cy="215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83" idx="3"/>
            <a:endCxn id="489" idx="1"/>
          </p:cNvCxnSpPr>
          <p:nvPr/>
        </p:nvCxnSpPr>
        <p:spPr>
          <a:xfrm flipV="1">
            <a:off x="4578480" y="2376000"/>
            <a:ext cx="1140480" cy="480240"/>
          </a:xfrm>
          <a:prstGeom prst="bentConnector3">
            <a:avLst>
              <a:gd name="adj1" fmla="val 615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5" name=""/>
          <p:cNvCxnSpPr>
            <a:stCxn id="483" idx="2"/>
            <a:endCxn id="491" idx="1"/>
          </p:cNvCxnSpPr>
          <p:nvPr/>
        </p:nvCxnSpPr>
        <p:spPr>
          <a:xfrm flipH="1" flipV="1" rot="5400000">
            <a:off x="4894200" y="2336400"/>
            <a:ext cx="51480" cy="1597680"/>
          </a:xfrm>
          <a:prstGeom prst="bentConnector4">
            <a:avLst>
              <a:gd name="adj1" fmla="val -140140"/>
              <a:gd name="adj2" fmla="val 643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6" name=""/>
          <p:cNvCxnSpPr>
            <a:stCxn id="475" idx="3"/>
            <a:endCxn id="447" idx="1"/>
          </p:cNvCxnSpPr>
          <p:nvPr/>
        </p:nvCxnSpPr>
        <p:spPr>
          <a:xfrm>
            <a:off x="4578480" y="686880"/>
            <a:ext cx="1141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7" name=""/>
          <p:cNvCxnSpPr>
            <a:stCxn id="489" idx="3"/>
            <a:endCxn id="442" idx="1"/>
          </p:cNvCxnSpPr>
          <p:nvPr/>
        </p:nvCxnSpPr>
        <p:spPr>
          <a:xfrm>
            <a:off x="7470360" y="237600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8" name=""/>
          <p:cNvCxnSpPr>
            <a:stCxn id="445" idx="3"/>
            <a:endCxn id="440" idx="1"/>
          </p:cNvCxnSpPr>
          <p:nvPr/>
        </p:nvCxnSpPr>
        <p:spPr>
          <a:xfrm>
            <a:off x="7469280" y="347004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464" idx="3"/>
            <a:endCxn id="438" idx="1"/>
          </p:cNvCxnSpPr>
          <p:nvPr/>
        </p:nvCxnSpPr>
        <p:spPr>
          <a:xfrm flipV="1">
            <a:off x="7454880" y="5823720"/>
            <a:ext cx="31680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0" name=""/>
          <p:cNvCxnSpPr>
            <a:stCxn id="465" idx="3"/>
            <a:endCxn id="444" idx="1"/>
          </p:cNvCxnSpPr>
          <p:nvPr/>
        </p:nvCxnSpPr>
        <p:spPr>
          <a:xfrm>
            <a:off x="7454880" y="6084720"/>
            <a:ext cx="3178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25" idx="3"/>
            <a:endCxn id="427" idx="1"/>
          </p:cNvCxnSpPr>
          <p:nvPr/>
        </p:nvCxnSpPr>
        <p:spPr>
          <a:xfrm flipV="1">
            <a:off x="990720" y="685080"/>
            <a:ext cx="135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2" name=""/>
          <p:cNvCxnSpPr>
            <a:stCxn id="427" idx="3"/>
            <a:endCxn id="474" idx="1"/>
          </p:cNvCxnSpPr>
          <p:nvPr/>
        </p:nvCxnSpPr>
        <p:spPr>
          <a:xfrm>
            <a:off x="2141280" y="685440"/>
            <a:ext cx="34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3" name=""/>
          <p:cNvCxnSpPr>
            <a:stCxn id="474" idx="3"/>
            <a:endCxn id="475" idx="1"/>
          </p:cNvCxnSpPr>
          <p:nvPr/>
        </p:nvCxnSpPr>
        <p:spPr>
          <a:xfrm>
            <a:off x="3403440" y="685800"/>
            <a:ext cx="261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4" name=""/>
          <p:cNvCxnSpPr>
            <a:stCxn id="475" idx="2"/>
            <a:endCxn id="480" idx="0"/>
          </p:cNvCxnSpPr>
          <p:nvPr/>
        </p:nvCxnSpPr>
        <p:spPr>
          <a:xfrm>
            <a:off x="4121280" y="991800"/>
            <a:ext cx="216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5" name=""/>
          <p:cNvCxnSpPr>
            <a:stCxn id="480" idx="2"/>
            <a:endCxn id="449" idx="0"/>
          </p:cNvCxnSpPr>
          <p:nvPr/>
        </p:nvCxnSpPr>
        <p:spPr>
          <a:xfrm>
            <a:off x="4122360" y="174312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6" name=""/>
          <p:cNvCxnSpPr>
            <a:stCxn id="449" idx="2"/>
            <a:endCxn id="483" idx="0"/>
          </p:cNvCxnSpPr>
          <p:nvPr/>
        </p:nvCxnSpPr>
        <p:spPr>
          <a:xfrm flipH="1">
            <a:off x="4120920" y="2416320"/>
            <a:ext cx="2160" cy="135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7" name=""/>
          <p:cNvCxnSpPr>
            <a:stCxn id="491" idx="1"/>
            <a:endCxn id="490" idx="1"/>
          </p:cNvCxnSpPr>
          <p:nvPr/>
        </p:nvCxnSpPr>
        <p:spPr>
          <a:xfrm flipH="1" rot="10800000">
            <a:off x="5717880" y="2888640"/>
            <a:ext cx="2160" cy="22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8" name=""/>
          <p:cNvCxnSpPr>
            <a:stCxn id="430" idx="3"/>
            <a:endCxn id="431" idx="1"/>
          </p:cNvCxnSpPr>
          <p:nvPr/>
        </p:nvCxnSpPr>
        <p:spPr>
          <a:xfrm>
            <a:off x="2090880" y="4134960"/>
            <a:ext cx="14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431" idx="3"/>
            <a:endCxn id="436" idx="1"/>
          </p:cNvCxnSpPr>
          <p:nvPr/>
        </p:nvCxnSpPr>
        <p:spPr>
          <a:xfrm>
            <a:off x="3147840" y="4134960"/>
            <a:ext cx="170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43" idx="0"/>
          </p:cNvCxnSpPr>
          <p:nvPr/>
        </p:nvCxnSpPr>
        <p:spPr>
          <a:xfrm flipV="1">
            <a:off x="1080720" y="685440"/>
            <a:ext cx="108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441" idx="0"/>
            <a:endCxn id="428" idx="2"/>
          </p:cNvCxnSpPr>
          <p:nvPr/>
        </p:nvCxnSpPr>
        <p:spPr>
          <a:xfrm flipV="1">
            <a:off x="2309400" y="685440"/>
            <a:ext cx="1080" cy="64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2" name=""/>
          <p:cNvSpPr/>
          <p:nvPr/>
        </p:nvSpPr>
        <p:spPr>
          <a:xfrm>
            <a:off x="7751880" y="515880"/>
            <a:ext cx="1162080" cy="970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problem is foun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 in the PCB, do n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mpt to repai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&amp; send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your distribu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MPI for repai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0880" y="1863720"/>
            <a:ext cx="914400" cy="552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 stands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3052800"/>
            <a:ext cx="914400" cy="6793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C voltages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asured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pect to EP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922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red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6354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9" name=""/>
          <p:cNvCxnSpPr>
            <a:stCxn id="516" idx="3"/>
            <a:endCxn id="517" idx="1"/>
          </p:cNvCxnSpPr>
          <p:nvPr/>
        </p:nvCxnSpPr>
        <p:spPr>
          <a:xfrm flipV="1">
            <a:off x="990720" y="68508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0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810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24360" y="52531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lay R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19680" y="61815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70960" y="354024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22920" y="3219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, R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9680" y="55339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 F2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29400" y="581832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19680" y="6450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21480" y="42609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22920" y="277488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photo-triac IC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2920" y="29973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ac 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21480" y="44845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092240" y="519912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 on co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relay RL1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635480" y="6094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095560" y="5418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23" idx="1"/>
            <a:endCxn id="528" idx="1"/>
          </p:cNvCxnSpPr>
          <p:nvPr/>
        </p:nvCxnSpPr>
        <p:spPr>
          <a:xfrm flipH="1" flipV="1" rot="10800000">
            <a:off x="5718600" y="6279120"/>
            <a:ext cx="2520" cy="268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33" idx="2"/>
            <a:endCxn id="523" idx="1"/>
          </p:cNvCxnSpPr>
          <p:nvPr/>
        </p:nvCxnSpPr>
        <p:spPr>
          <a:xfrm flipH="1" rot="16200000">
            <a:off x="3551040" y="4112280"/>
            <a:ext cx="216720" cy="412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8" name=""/>
          <p:cNvSpPr/>
          <p:nvPr/>
        </p:nvSpPr>
        <p:spPr>
          <a:xfrm>
            <a:off x="7770960" y="5826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75640" y="554184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" name=""/>
          <p:cNvCxnSpPr>
            <a:stCxn id="522" idx="1"/>
            <a:endCxn id="527" idx="1"/>
          </p:cNvCxnSpPr>
          <p:nvPr/>
        </p:nvCxnSpPr>
        <p:spPr>
          <a:xfrm flipH="1" flipV="1" rot="10800000">
            <a:off x="5724000" y="5351040"/>
            <a:ext cx="5760" cy="565920"/>
          </a:xfrm>
          <a:prstGeom prst="bentConnector3">
            <a:avLst>
              <a:gd name="adj1" fmla="val -48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3" idx="3"/>
            <a:endCxn id="526" idx="1"/>
          </p:cNvCxnSpPr>
          <p:nvPr/>
        </p:nvCxnSpPr>
        <p:spPr>
          <a:xfrm>
            <a:off x="2108160" y="5632200"/>
            <a:ext cx="3612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26" idx="3"/>
            <a:endCxn id="539" idx="1"/>
          </p:cNvCxnSpPr>
          <p:nvPr/>
        </p:nvCxnSpPr>
        <p:spPr>
          <a:xfrm>
            <a:off x="7472520" y="5632200"/>
            <a:ext cx="303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27" idx="3"/>
            <a:endCxn id="538" idx="1"/>
          </p:cNvCxnSpPr>
          <p:nvPr/>
        </p:nvCxnSpPr>
        <p:spPr>
          <a:xfrm>
            <a:off x="7481520" y="59162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2490840" y="166680"/>
            <a:ext cx="1157400" cy="1038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work du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urge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9560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72240" y="12510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58880" y="308448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 betw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3 &amp;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13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02120" y="3949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62200" y="3303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"/>
          <p:cNvCxnSpPr>
            <a:stCxn id="529" idx="1"/>
            <a:endCxn id="532" idx="1"/>
          </p:cNvCxnSpPr>
          <p:nvPr/>
        </p:nvCxnSpPr>
        <p:spPr>
          <a:xfrm flipH="1" flipV="1" rot="10800000">
            <a:off x="5721120" y="4336560"/>
            <a:ext cx="2160" cy="224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47" idx="2"/>
            <a:endCxn id="529" idx="1"/>
          </p:cNvCxnSpPr>
          <p:nvPr/>
        </p:nvCxnSpPr>
        <p:spPr>
          <a:xfrm flipH="1" rot="16200000">
            <a:off x="4199760" y="2815920"/>
            <a:ext cx="388080" cy="2655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2" name=""/>
          <p:cNvSpPr/>
          <p:nvPr/>
        </p:nvSpPr>
        <p:spPr>
          <a:xfrm>
            <a:off x="5722920" y="388620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22920" y="344160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22920" y="36640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773840" y="395460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4" idx="3"/>
            <a:endCxn id="524" idx="1"/>
          </p:cNvCxnSpPr>
          <p:nvPr/>
        </p:nvCxnSpPr>
        <p:spPr>
          <a:xfrm flipV="1">
            <a:off x="7475040" y="3692160"/>
            <a:ext cx="296280" cy="48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5" idx="1"/>
          </p:cNvCxnSpPr>
          <p:nvPr/>
        </p:nvCxnSpPr>
        <p:spPr>
          <a:xfrm>
            <a:off x="7475040" y="3962160"/>
            <a:ext cx="299160" cy="8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8" name=""/>
          <p:cNvCxnSpPr>
            <a:stCxn id="530" idx="1"/>
            <a:endCxn id="531" idx="1"/>
          </p:cNvCxnSpPr>
          <p:nvPr/>
        </p:nvCxnSpPr>
        <p:spPr>
          <a:xfrm flipH="1" flipV="1" rot="10800000">
            <a:off x="5722560" y="285012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9" name=""/>
          <p:cNvCxnSpPr>
            <a:stCxn id="531" idx="1"/>
            <a:endCxn id="525" idx="1"/>
          </p:cNvCxnSpPr>
          <p:nvPr/>
        </p:nvCxnSpPr>
        <p:spPr>
          <a:xfrm flipH="1" flipV="1" rot="10800000">
            <a:off x="5722560" y="3072960"/>
            <a:ext cx="2160" cy="22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0" name=""/>
          <p:cNvCxnSpPr>
            <a:stCxn id="525" idx="1"/>
            <a:endCxn id="553" idx="1"/>
          </p:cNvCxnSpPr>
          <p:nvPr/>
        </p:nvCxnSpPr>
        <p:spPr>
          <a:xfrm flipH="1" flipV="1" rot="10800000">
            <a:off x="5722560" y="329472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1" name=""/>
          <p:cNvCxnSpPr>
            <a:stCxn id="553" idx="1"/>
            <a:endCxn id="554" idx="1"/>
          </p:cNvCxnSpPr>
          <p:nvPr/>
        </p:nvCxnSpPr>
        <p:spPr>
          <a:xfrm flipH="1" flipV="1" rot="10800000">
            <a:off x="5722560" y="351684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2" name=""/>
          <p:cNvCxnSpPr>
            <a:stCxn id="554" idx="1"/>
            <a:endCxn id="552" idx="1"/>
          </p:cNvCxnSpPr>
          <p:nvPr/>
        </p:nvCxnSpPr>
        <p:spPr>
          <a:xfrm flipH="1" flipV="1" rot="10800000">
            <a:off x="5722560" y="3739680"/>
            <a:ext cx="2160" cy="22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47" idx="3"/>
            <a:endCxn id="553" idx="1"/>
          </p:cNvCxnSpPr>
          <p:nvPr/>
        </p:nvCxnSpPr>
        <p:spPr>
          <a:xfrm>
            <a:off x="3575160" y="3517560"/>
            <a:ext cx="2148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4" name=""/>
          <p:cNvSpPr/>
          <p:nvPr/>
        </p:nvSpPr>
        <p:spPr>
          <a:xfrm>
            <a:off x="41990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 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7422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0236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7" name=""/>
          <p:cNvCxnSpPr>
            <a:stCxn id="544" idx="2"/>
            <a:endCxn id="547" idx="0"/>
          </p:cNvCxnSpPr>
          <p:nvPr/>
        </p:nvCxnSpPr>
        <p:spPr>
          <a:xfrm rot="5400000">
            <a:off x="2128320" y="2143080"/>
            <a:ext cx="188028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17" idx="2"/>
            <a:endCxn id="533" idx="0"/>
          </p:cNvCxnSpPr>
          <p:nvPr/>
        </p:nvCxnSpPr>
        <p:spPr>
          <a:xfrm flipV="1" rot="10800000">
            <a:off x="1599480" y="1117080"/>
            <a:ext cx="1080" cy="4082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 rot="16200000">
            <a:off x="7889040" y="303480"/>
            <a:ext cx="522360" cy="76860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xt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64" idx="3"/>
            <a:endCxn id="569" idx="0"/>
          </p:cNvCxnSpPr>
          <p:nvPr/>
        </p:nvCxnSpPr>
        <p:spPr>
          <a:xfrm>
            <a:off x="5214960" y="685440"/>
            <a:ext cx="255168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1" name=""/>
          <p:cNvSpPr/>
          <p:nvPr/>
        </p:nvSpPr>
        <p:spPr>
          <a:xfrm>
            <a:off x="5705640" y="150336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air 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710320" y="1784520"/>
            <a:ext cx="175248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bber hose is block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disconne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721480" y="21668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772400" y="217476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71" idx="1"/>
            <a:endCxn id="573" idx="1"/>
          </p:cNvCxnSpPr>
          <p:nvPr/>
        </p:nvCxnSpPr>
        <p:spPr>
          <a:xfrm flipH="1" flipV="1" rot="10800000">
            <a:off x="5705280" y="1601280"/>
            <a:ext cx="16560" cy="664560"/>
          </a:xfrm>
          <a:prstGeom prst="bentConnector3">
            <a:avLst>
              <a:gd name="adj1" fmla="val -14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6" name=""/>
          <p:cNvCxnSpPr>
            <a:stCxn id="573" idx="3"/>
            <a:endCxn id="574" idx="1"/>
          </p:cNvCxnSpPr>
          <p:nvPr/>
        </p:nvCxnSpPr>
        <p:spPr>
          <a:xfrm>
            <a:off x="7473600" y="226512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7759800" y="13939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759800" y="176364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r or conn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bber ho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"/>
          <p:cNvCxnSpPr>
            <a:stCxn id="571" idx="3"/>
            <a:endCxn id="577" idx="1"/>
          </p:cNvCxnSpPr>
          <p:nvPr/>
        </p:nvCxnSpPr>
        <p:spPr>
          <a:xfrm flipV="1">
            <a:off x="7458120" y="1545840"/>
            <a:ext cx="30240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0" name=""/>
          <p:cNvCxnSpPr>
            <a:stCxn id="572" idx="3"/>
            <a:endCxn id="578" idx="1"/>
          </p:cNvCxnSpPr>
          <p:nvPr/>
        </p:nvCxnSpPr>
        <p:spPr>
          <a:xfrm flipV="1">
            <a:off x="7462440" y="1915920"/>
            <a:ext cx="297720" cy="11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1" name=""/>
          <p:cNvCxnSpPr>
            <a:stCxn id="564" idx="2"/>
            <a:endCxn id="572" idx="1"/>
          </p:cNvCxnSpPr>
          <p:nvPr/>
        </p:nvCxnSpPr>
        <p:spPr>
          <a:xfrm flipH="1" rot="16200000">
            <a:off x="4802400" y="1020240"/>
            <a:ext cx="810360" cy="100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2" name=""/>
          <p:cNvCxnSpPr>
            <a:stCxn id="544" idx="3"/>
            <a:endCxn id="564" idx="1"/>
          </p:cNvCxnSpPr>
          <p:nvPr/>
        </p:nvCxnSpPr>
        <p:spPr>
          <a:xfrm>
            <a:off x="3648240" y="685440"/>
            <a:ext cx="551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3" name=""/>
          <p:cNvCxnSpPr>
            <a:stCxn id="544" idx="1"/>
            <a:endCxn id="517" idx="3"/>
          </p:cNvCxnSpPr>
          <p:nvPr/>
        </p:nvCxnSpPr>
        <p:spPr>
          <a:xfrm flipH="1">
            <a:off x="2107440" y="685440"/>
            <a:ext cx="383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4" name=""/>
          <p:cNvCxnSpPr>
            <a:stCxn id="517" idx="1"/>
            <a:endCxn id="516" idx="3"/>
          </p:cNvCxnSpPr>
          <p:nvPr/>
        </p:nvCxnSpPr>
        <p:spPr>
          <a:xfrm flipH="1">
            <a:off x="990360" y="68544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rot="16200000">
            <a:off x="427680" y="300240"/>
            <a:ext cx="522360" cy="76824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494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work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26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382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549440" y="304812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VDC acro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ode bri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2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92680" y="3913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38280" y="3267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00600" y="55753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700600" y="58514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00600" y="6129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istor Q6, Q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00600" y="5875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fuel supply 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85000" y="522360"/>
            <a:ext cx="1143000" cy="326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uel 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700600" y="279576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zener diode ZD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700600" y="22096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 - R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00600" y="25020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4 - 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00600" y="30877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3 - D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700600" y="33814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gger diode T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00600" y="36752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hyristor Q2, Q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700600" y="44640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bridge D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00600" y="47419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00600" y="5019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700600" y="52974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9" name=""/>
          <p:cNvCxnSpPr>
            <a:stCxn id="600" idx="1"/>
            <a:endCxn id="601" idx="1"/>
          </p:cNvCxnSpPr>
          <p:nvPr/>
        </p:nvCxnSpPr>
        <p:spPr>
          <a:xfrm flipH="1" flipV="1" rot="10800000">
            <a:off x="5699520" y="230724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0" name=""/>
          <p:cNvCxnSpPr>
            <a:stCxn id="601" idx="1"/>
            <a:endCxn id="599" idx="1"/>
          </p:cNvCxnSpPr>
          <p:nvPr/>
        </p:nvCxnSpPr>
        <p:spPr>
          <a:xfrm flipH="1" flipV="1" rot="10800000">
            <a:off x="5699520" y="2599920"/>
            <a:ext cx="2520" cy="2944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1" name=""/>
          <p:cNvCxnSpPr>
            <a:stCxn id="599" idx="1"/>
            <a:endCxn id="602" idx="1"/>
          </p:cNvCxnSpPr>
          <p:nvPr/>
        </p:nvCxnSpPr>
        <p:spPr>
          <a:xfrm flipH="1" flipV="1" rot="10800000">
            <a:off x="5699520" y="289296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2" name=""/>
          <p:cNvCxnSpPr>
            <a:stCxn id="602" idx="1"/>
            <a:endCxn id="604" idx="1"/>
          </p:cNvCxnSpPr>
          <p:nvPr/>
        </p:nvCxnSpPr>
        <p:spPr>
          <a:xfrm flipH="1" flipV="1" rot="10800000">
            <a:off x="5699520" y="3185640"/>
            <a:ext cx="2520" cy="588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3" name=""/>
          <p:cNvCxnSpPr>
            <a:stCxn id="591" idx="3"/>
            <a:endCxn id="603" idx="1"/>
          </p:cNvCxnSpPr>
          <p:nvPr/>
        </p:nvCxnSpPr>
        <p:spPr>
          <a:xfrm flipV="1">
            <a:off x="2565000" y="3479040"/>
            <a:ext cx="3135960" cy="252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4" name=""/>
          <p:cNvCxnSpPr>
            <a:stCxn id="605" idx="1"/>
            <a:endCxn id="606" idx="1"/>
          </p:cNvCxnSpPr>
          <p:nvPr/>
        </p:nvCxnSpPr>
        <p:spPr>
          <a:xfrm flipH="1" flipV="1" rot="10800000">
            <a:off x="5699520" y="456156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5" name=""/>
          <p:cNvCxnSpPr>
            <a:stCxn id="606" idx="1"/>
            <a:endCxn id="607" idx="1"/>
          </p:cNvCxnSpPr>
          <p:nvPr/>
        </p:nvCxnSpPr>
        <p:spPr>
          <a:xfrm flipH="1" flipV="1" rot="10800000">
            <a:off x="5699520" y="484020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6" name=""/>
          <p:cNvCxnSpPr>
            <a:stCxn id="607" idx="1"/>
            <a:endCxn id="608" idx="1"/>
          </p:cNvCxnSpPr>
          <p:nvPr/>
        </p:nvCxnSpPr>
        <p:spPr>
          <a:xfrm flipH="1" flipV="1" rot="10800000">
            <a:off x="5699520" y="511812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7" name=""/>
          <p:cNvCxnSpPr>
            <a:stCxn id="608" idx="1"/>
            <a:endCxn id="594" idx="1"/>
          </p:cNvCxnSpPr>
          <p:nvPr/>
        </p:nvCxnSpPr>
        <p:spPr>
          <a:xfrm flipH="1" flipV="1" rot="10800000">
            <a:off x="5699520" y="539496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8" name=""/>
          <p:cNvCxnSpPr>
            <a:stCxn id="594" idx="1"/>
            <a:endCxn id="595" idx="1"/>
          </p:cNvCxnSpPr>
          <p:nvPr/>
        </p:nvCxnSpPr>
        <p:spPr>
          <a:xfrm flipH="1" flipV="1" rot="10800000">
            <a:off x="5699520" y="5673240"/>
            <a:ext cx="2520" cy="277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9" name=""/>
          <p:cNvCxnSpPr>
            <a:stCxn id="595" idx="1"/>
            <a:endCxn id="596" idx="1"/>
          </p:cNvCxnSpPr>
          <p:nvPr/>
        </p:nvCxnSpPr>
        <p:spPr>
          <a:xfrm flipH="1" flipV="1" rot="10800000">
            <a:off x="5699520" y="594900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0" name=""/>
          <p:cNvCxnSpPr>
            <a:stCxn id="591" idx="2"/>
            <a:endCxn id="607" idx="1"/>
          </p:cNvCxnSpPr>
          <p:nvPr/>
        </p:nvCxnSpPr>
        <p:spPr>
          <a:xfrm flipH="1" rot="16200000">
            <a:off x="3276360" y="2693520"/>
            <a:ext cx="1205640" cy="3643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1" name=""/>
          <p:cNvCxnSpPr>
            <a:stCxn id="587" idx="2"/>
            <a:endCxn id="588" idx="1"/>
          </p:cNvCxnSpPr>
          <p:nvPr/>
        </p:nvCxnSpPr>
        <p:spPr>
          <a:xfrm>
            <a:off x="1072800" y="685440"/>
            <a:ext cx="47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2" name=""/>
          <p:cNvCxnSpPr>
            <a:stCxn id="588" idx="3"/>
            <a:endCxn id="597" idx="1"/>
          </p:cNvCxnSpPr>
          <p:nvPr/>
        </p:nvCxnSpPr>
        <p:spPr>
          <a:xfrm>
            <a:off x="2565000" y="685440"/>
            <a:ext cx="3135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3" name=""/>
          <p:cNvCxnSpPr>
            <a:stCxn id="597" idx="3"/>
            <a:endCxn id="598" idx="1"/>
          </p:cNvCxnSpPr>
          <p:nvPr/>
        </p:nvCxnSpPr>
        <p:spPr>
          <a:xfrm>
            <a:off x="7453080" y="685440"/>
            <a:ext cx="332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4" name=""/>
          <p:cNvCxnSpPr>
            <a:stCxn id="588" idx="2"/>
            <a:endCxn id="591" idx="0"/>
          </p:cNvCxnSpPr>
          <p:nvPr/>
        </p:nvCxnSpPr>
        <p:spPr>
          <a:xfrm>
            <a:off x="2057040" y="1117080"/>
            <a:ext cx="1080" cy="193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7:19:06Z</dcterms:created>
  <dc:creator>KPC</dc:creator>
  <dc:description/>
  <dc:language>en-US</dc:language>
  <cp:lastModifiedBy>KPC</cp:lastModifiedBy>
  <dcterms:modified xsi:type="dcterms:W3CDTF">2009-02-08T18:09:56Z</dcterms:modified>
  <cp:revision>245</cp:revision>
  <dc:subject>from Service Manual for 21, 22, 40, 41, 422, 441 </dc:subject>
  <dc:title>Monitor Heater Troubleshooting Flowcharts</dc:title>
</cp:coreProperties>
</file>