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388475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0BC4-91FD-4FC7-9329-41CB0432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F2BE-CF2C-462F-ACA6-ED63A4F2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B5D1-0C26-47CE-A40A-13C30213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C760-4119-477A-95CE-FD81059F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AE2-7C83-4ED3-BB95-A5497132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982-EBCF-4DB5-96B0-84EE7E82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4389-AB26-4626-8F8C-C2BBE12D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06EF-D769-4527-9455-44F679E9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CD4B-CD87-4142-9E71-B4FD193E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5B3C-7351-4D12-A24E-53426767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D7C-7F37-4A86-9B50-5718A8F6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CAE-5E70-4165-854A-D5BF8CBA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3CBE-5012-4F83-8A83-927BC7AEF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158920"/>
            <a:ext cx="27432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 441 H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CHE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available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plug inserted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there been a power interruption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play window shows 88.88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Circulation Fan stopp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there fuel in tank?  Is tank valve op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Fuel Constant Level Valve Set L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sed and lower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N/OFF switch 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peration mode on Manu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et temperature in High posi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usible Link Valve "open"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9560" y="5073480"/>
            <a:ext cx="5715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Air Damper in the following Flow Charts refers to the round disk that is installed over the flue pipe air intake fl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re different ones for the standard installation and installations with flue pipe extens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26" idx="3"/>
            <a:endCxn id="62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27" idx="1"/>
            <a:endCxn id="62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24591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than 1.3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024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3735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559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7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992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451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55960" y="1592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VDC or 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99200" y="2457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45160" y="18111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89520" y="13525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89520" y="1617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3, R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89520" y="5875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88080" y="441180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88080" y="47052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4 - C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89520" y="4992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0, R22 - R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89520" y="57913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8 - 21, R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88080" y="31827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88080" y="3460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88080" y="37386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88080" y="40165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9" idx="1"/>
            <a:endCxn id="651" idx="1"/>
          </p:cNvCxnSpPr>
          <p:nvPr/>
        </p:nvCxnSpPr>
        <p:spPr>
          <a:xfrm flipH="1" flipV="1" rot="10800000">
            <a:off x="5787720" y="3280320"/>
            <a:ext cx="216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51" idx="1"/>
            <a:endCxn id="652" idx="1"/>
          </p:cNvCxnSpPr>
          <p:nvPr/>
        </p:nvCxnSpPr>
        <p:spPr>
          <a:xfrm flipH="1" flipV="1" rot="10800000">
            <a:off x="5787720" y="383688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39" idx="2"/>
            <a:endCxn id="650" idx="1"/>
          </p:cNvCxnSpPr>
          <p:nvPr/>
        </p:nvCxnSpPr>
        <p:spPr>
          <a:xfrm flipH="1" rot="16200000">
            <a:off x="4524840" y="2295720"/>
            <a:ext cx="1102680" cy="1424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6" name=""/>
          <p:cNvSpPr/>
          <p:nvPr/>
        </p:nvSpPr>
        <p:spPr>
          <a:xfrm>
            <a:off x="5789520" y="188280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installation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89520" y="2236680"/>
            <a:ext cx="1752840" cy="284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wiring for fl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or and 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36" idx="3"/>
            <a:endCxn id="644" idx="1"/>
          </p:cNvCxnSpPr>
          <p:nvPr/>
        </p:nvCxnSpPr>
        <p:spPr>
          <a:xfrm flipV="1">
            <a:off x="4871520" y="685080"/>
            <a:ext cx="91836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39" idx="3"/>
            <a:endCxn id="656" idx="1"/>
          </p:cNvCxnSpPr>
          <p:nvPr/>
        </p:nvCxnSpPr>
        <p:spPr>
          <a:xfrm>
            <a:off x="4871520" y="2025360"/>
            <a:ext cx="918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stCxn id="642" idx="1"/>
            <a:endCxn id="643" idx="1"/>
          </p:cNvCxnSpPr>
          <p:nvPr/>
        </p:nvCxnSpPr>
        <p:spPr>
          <a:xfrm flipH="1" flipV="1" rot="10800000">
            <a:off x="5788440" y="1449720"/>
            <a:ext cx="2520" cy="266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1" name=""/>
          <p:cNvCxnSpPr>
            <a:stCxn id="643" idx="1"/>
            <a:endCxn id="657" idx="1"/>
          </p:cNvCxnSpPr>
          <p:nvPr/>
        </p:nvCxnSpPr>
        <p:spPr>
          <a:xfrm flipH="1" flipV="1" rot="10800000">
            <a:off x="5788440" y="1715040"/>
            <a:ext cx="2520" cy="664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2" name=""/>
          <p:cNvCxnSpPr>
            <a:stCxn id="636" idx="2"/>
            <a:endCxn id="639" idx="0"/>
          </p:cNvCxnSpPr>
          <p:nvPr/>
        </p:nvCxnSpPr>
        <p:spPr>
          <a:xfrm>
            <a:off x="4363560" y="1120680"/>
            <a:ext cx="1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7763040" y="2289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772400" y="19350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33" idx="2"/>
            <a:endCxn id="646" idx="1"/>
          </p:cNvCxnSpPr>
          <p:nvPr/>
        </p:nvCxnSpPr>
        <p:spPr>
          <a:xfrm flipH="1" rot="16200000">
            <a:off x="2535840" y="1551240"/>
            <a:ext cx="3683880" cy="2821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45" idx="1"/>
            <a:endCxn id="647" idx="1"/>
          </p:cNvCxnSpPr>
          <p:nvPr/>
        </p:nvCxnSpPr>
        <p:spPr>
          <a:xfrm flipH="1" flipV="1" rot="10800000">
            <a:off x="5787720" y="4510080"/>
            <a:ext cx="2160" cy="58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7" name=""/>
          <p:cNvSpPr/>
          <p:nvPr/>
        </p:nvSpPr>
        <p:spPr>
          <a:xfrm>
            <a:off x="7772400" y="44197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stCxn id="627" idx="2"/>
            <a:endCxn id="648" idx="1"/>
          </p:cNvCxnSpPr>
          <p:nvPr/>
        </p:nvCxnSpPr>
        <p:spPr>
          <a:xfrm flipH="1" rot="16200000">
            <a:off x="1307880" y="1408680"/>
            <a:ext cx="4772880" cy="4190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56" idx="3"/>
            <a:endCxn id="664" idx="1"/>
          </p:cNvCxnSpPr>
          <p:nvPr/>
        </p:nvCxnSpPr>
        <p:spPr>
          <a:xfrm>
            <a:off x="7542000" y="2025360"/>
            <a:ext cx="23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stCxn id="657" idx="3"/>
            <a:endCxn id="663" idx="1"/>
          </p:cNvCxnSpPr>
          <p:nvPr/>
        </p:nvCxnSpPr>
        <p:spPr>
          <a:xfrm>
            <a:off x="7542000" y="2379240"/>
            <a:ext cx="221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1" name=""/>
          <p:cNvCxnSpPr>
            <a:stCxn id="645" idx="3"/>
            <a:endCxn id="667" idx="1"/>
          </p:cNvCxnSpPr>
          <p:nvPr/>
        </p:nvCxnSpPr>
        <p:spPr>
          <a:xfrm>
            <a:off x="7540560" y="450972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27" idx="3"/>
            <a:endCxn id="633" idx="1"/>
          </p:cNvCxnSpPr>
          <p:nvPr/>
        </p:nvCxnSpPr>
        <p:spPr>
          <a:xfrm>
            <a:off x="2107800" y="685440"/>
            <a:ext cx="351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stCxn id="633" idx="3"/>
            <a:endCxn id="636" idx="1"/>
          </p:cNvCxnSpPr>
          <p:nvPr/>
        </p:nvCxnSpPr>
        <p:spPr>
          <a:xfrm>
            <a:off x="3475080" y="688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76640" y="685800"/>
            <a:ext cx="4419360" cy="28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ROD BYPASS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testing purposes:  a flame detector rod bypass circuit can be made up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sting of 2 insulated alligator clips, 2 - 6" pieces of insulated copper wir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1/4 watt 400 Volt diode, and 1 - 1/4 watt 100K resistor.  These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to be soldered together in sequence as shown in the diagram be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te component sequence &amp; polarity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ce the bypass circuit is made, turn the unit on.  Immediately after the prepu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 cycle, when the mode light comes on, disconnect the wires from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 and N pins on the PCB and replace with the bypass circuit.  The unit should t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nue functioning as though it had a good flame inside the burn chamber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service tests such as fuel flow can be check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WARNING, after all tests are completed, replace original flame rod wire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it is a vital safety iss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05240" y="4114800"/>
            <a:ext cx="3774960" cy="906480"/>
            <a:chOff x="2505240" y="4114800"/>
            <a:chExt cx="3774960" cy="906480"/>
          </a:xfrm>
        </p:grpSpPr>
        <p:sp>
          <p:nvSpPr>
            <p:cNvPr id="678" name=""/>
            <p:cNvSpPr/>
            <p:nvPr/>
          </p:nvSpPr>
          <p:spPr>
            <a:xfrm>
              <a:off x="250524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2300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352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79088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5095800" y="4487760"/>
              <a:ext cx="763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3404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257720" y="4371840"/>
              <a:ext cx="763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38600" y="437184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448596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3588840" y="4373640"/>
              <a:ext cx="27324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40120" y="4351320"/>
              <a:ext cx="180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9" name=""/>
            <p:cNvCxnSpPr>
              <a:stCxn id="678" idx="6"/>
              <a:endCxn id="687" idx="3"/>
            </p:cNvCxnSpPr>
            <p:nvPr/>
          </p:nvCxnSpPr>
          <p:spPr>
            <a:xfrm flipV="1">
              <a:off x="2962080" y="4485960"/>
              <a:ext cx="6483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0" name=""/>
            <p:cNvCxnSpPr>
              <a:stCxn id="687" idx="0"/>
              <a:endCxn id="684" idx="0"/>
            </p:cNvCxnSpPr>
            <p:nvPr/>
          </p:nvCxnSpPr>
          <p:spPr>
            <a:xfrm>
              <a:off x="3838680" y="4485960"/>
              <a:ext cx="419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1" name=""/>
            <p:cNvCxnSpPr>
              <a:stCxn id="682" idx="0"/>
              <a:endCxn id="679" idx="2"/>
            </p:cNvCxnSpPr>
            <p:nvPr/>
          </p:nvCxnSpPr>
          <p:spPr>
            <a:xfrm>
              <a:off x="5172120" y="4487400"/>
              <a:ext cx="65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2" name=""/>
            <p:cNvSpPr/>
            <p:nvPr/>
          </p:nvSpPr>
          <p:spPr>
            <a:xfrm>
              <a:off x="3423240" y="4114800"/>
              <a:ext cx="53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N40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28720" y="411480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29120" y="4792680"/>
              <a:ext cx="533520" cy="2286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endCxn id="679" idx="3"/>
            </p:cNvCxnSpPr>
            <p:nvPr/>
          </p:nvCxnSpPr>
          <p:spPr>
            <a:xfrm flipV="1">
              <a:off x="4562640" y="4649760"/>
              <a:ext cx="1327680" cy="29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6" name=""/>
            <p:cNvCxnSpPr>
              <a:stCxn id="694" idx="1"/>
              <a:endCxn id="678" idx="5"/>
            </p:cNvCxnSpPr>
            <p:nvPr/>
          </p:nvCxnSpPr>
          <p:spPr>
            <a:xfrm rot="10800000">
              <a:off x="2894760" y="4649040"/>
              <a:ext cx="1134360" cy="257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7" name=""/>
          <p:cNvGrpSpPr/>
          <p:nvPr/>
        </p:nvGrpSpPr>
        <p:grpSpPr>
          <a:xfrm>
            <a:off x="6505560" y="4487760"/>
            <a:ext cx="504360" cy="550800"/>
            <a:chOff x="6505560" y="4487760"/>
            <a:chExt cx="504360" cy="550800"/>
          </a:xfrm>
        </p:grpSpPr>
        <p:sp>
          <p:nvSpPr>
            <p:cNvPr id="698" name=""/>
            <p:cNvSpPr/>
            <p:nvPr/>
          </p:nvSpPr>
          <p:spPr>
            <a:xfrm>
              <a:off x="6629040" y="4886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05360" y="49622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81680" y="5038560"/>
              <a:ext cx="7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19840" y="448776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05560" y="448776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471960" y="3603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8040" y="80496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of 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:  High--Low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mpro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598320"/>
            <a:ext cx="685800" cy="93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 10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istor to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s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923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79840" y="1430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86000" y="662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911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088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7672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fuel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43680" y="727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7556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5140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spe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97440" y="3390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7440" y="36831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97440" y="42670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97440" y="3975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lation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9240" y="45594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coupler IC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97440" y="31003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97440" y="387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97440" y="677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7440" y="969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8, I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97440" y="12621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6" name=""/>
          <p:cNvCxnSpPr>
            <a:stCxn id="722" idx="1"/>
            <a:endCxn id="724" idx="1"/>
          </p:cNvCxnSpPr>
          <p:nvPr/>
        </p:nvCxnSpPr>
        <p:spPr>
          <a:xfrm flipH="1" flipV="1" rot="10800000">
            <a:off x="5796360" y="484560"/>
            <a:ext cx="2520" cy="5835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24" idx="1"/>
            <a:endCxn id="725" idx="1"/>
          </p:cNvCxnSpPr>
          <p:nvPr/>
        </p:nvCxnSpPr>
        <p:spPr>
          <a:xfrm flipH="1" flipV="1" rot="10800000">
            <a:off x="5796360" y="1067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8" name=""/>
          <p:cNvSpPr/>
          <p:nvPr/>
        </p:nvSpPr>
        <p:spPr>
          <a:xfrm>
            <a:off x="5797440" y="242892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16" idx="1"/>
            <a:endCxn id="717" idx="1"/>
          </p:cNvCxnSpPr>
          <p:nvPr/>
        </p:nvCxnSpPr>
        <p:spPr>
          <a:xfrm flipH="1" flipV="1" rot="10800000">
            <a:off x="5796360" y="3488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81760" y="51498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1" name=""/>
          <p:cNvCxnSpPr>
            <a:stCxn id="732" idx="3"/>
            <a:endCxn id="730" idx="1"/>
          </p:cNvCxnSpPr>
          <p:nvPr/>
        </p:nvCxnSpPr>
        <p:spPr>
          <a:xfrm>
            <a:off x="7549920" y="523980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3" name=""/>
          <p:cNvSpPr/>
          <p:nvPr/>
        </p:nvSpPr>
        <p:spPr>
          <a:xfrm>
            <a:off x="5797440" y="1554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, R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97440" y="18446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797440" y="21366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97440" y="2808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stCxn id="733" idx="1"/>
            <a:endCxn id="735" idx="1"/>
          </p:cNvCxnSpPr>
          <p:nvPr/>
        </p:nvCxnSpPr>
        <p:spPr>
          <a:xfrm flipH="1" flipV="1" rot="10800000">
            <a:off x="5796360" y="1652400"/>
            <a:ext cx="2520" cy="58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7756560" y="208296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72400" y="275436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>
            <a:stCxn id="736" idx="1"/>
            <a:endCxn id="728" idx="1"/>
          </p:cNvCxnSpPr>
          <p:nvPr/>
        </p:nvCxnSpPr>
        <p:spPr>
          <a:xfrm flipH="1" rot="10800000">
            <a:off x="5796360" y="2571120"/>
            <a:ext cx="2520" cy="335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"/>
          <p:cNvCxnSpPr>
            <a:stCxn id="728" idx="1"/>
            <a:endCxn id="734" idx="1"/>
          </p:cNvCxnSpPr>
          <p:nvPr/>
        </p:nvCxnSpPr>
        <p:spPr>
          <a:xfrm flipH="1" rot="10800000">
            <a:off x="5796360" y="1942560"/>
            <a:ext cx="2520" cy="629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33" idx="1"/>
            <a:endCxn id="723" idx="1"/>
          </p:cNvCxnSpPr>
          <p:nvPr/>
        </p:nvCxnSpPr>
        <p:spPr>
          <a:xfrm flipH="1" rot="10800000">
            <a:off x="5796360" y="775440"/>
            <a:ext cx="2520" cy="877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>
            <a:off x="7781760" y="39211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715" idx="2"/>
            <a:endCxn id="716" idx="1"/>
          </p:cNvCxnSpPr>
          <p:nvPr/>
        </p:nvCxnSpPr>
        <p:spPr>
          <a:xfrm flipH="1" rot="16200000">
            <a:off x="4383720" y="2075400"/>
            <a:ext cx="19900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5" name=""/>
          <p:cNvCxnSpPr>
            <a:stCxn id="721" idx="1"/>
            <a:endCxn id="719" idx="1"/>
          </p:cNvCxnSpPr>
          <p:nvPr/>
        </p:nvCxnSpPr>
        <p:spPr>
          <a:xfrm flipH="1" flipV="1" rot="10800000">
            <a:off x="5796360" y="319788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799240" y="48499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97440" y="5141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32" idx="1"/>
            <a:endCxn id="718" idx="1"/>
          </p:cNvCxnSpPr>
          <p:nvPr/>
        </p:nvCxnSpPr>
        <p:spPr>
          <a:xfrm flipH="1" rot="10800000">
            <a:off x="5796360" y="436500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12" idx="2"/>
            <a:endCxn id="720" idx="1"/>
          </p:cNvCxnSpPr>
          <p:nvPr/>
        </p:nvCxnSpPr>
        <p:spPr>
          <a:xfrm flipH="1" rot="16200000">
            <a:off x="3213000" y="2071080"/>
            <a:ext cx="3158280" cy="201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9" name=""/>
          <p:cNvCxnSpPr>
            <a:stCxn id="746" idx="1"/>
            <a:endCxn id="720" idx="1"/>
          </p:cNvCxnSpPr>
          <p:nvPr/>
        </p:nvCxnSpPr>
        <p:spPr>
          <a:xfrm flipH="1" rot="10800000">
            <a:off x="5798880" y="4656960"/>
            <a:ext cx="2160" cy="291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2992320" y="531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79840" y="5894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86000" y="5126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ppro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VDC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4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99240" y="5433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>
            <a:stCxn id="753" idx="1"/>
            <a:endCxn id="752" idx="3"/>
          </p:cNvCxnSpPr>
          <p:nvPr/>
        </p:nvCxnSpPr>
        <p:spPr>
          <a:xfrm flipH="1">
            <a:off x="3121920" y="5532120"/>
            <a:ext cx="267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5" name=""/>
          <p:cNvSpPr/>
          <p:nvPr/>
        </p:nvSpPr>
        <p:spPr>
          <a:xfrm>
            <a:off x="5799240" y="57261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2, R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99240" y="6018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55" idx="1"/>
            <a:endCxn id="756" idx="1"/>
          </p:cNvCxnSpPr>
          <p:nvPr/>
        </p:nvCxnSpPr>
        <p:spPr>
          <a:xfrm flipH="1" flipV="1" rot="10800000">
            <a:off x="5798880" y="5824080"/>
            <a:ext cx="2160" cy="293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8" name=""/>
          <p:cNvCxnSpPr>
            <a:stCxn id="752" idx="2"/>
            <a:endCxn id="756" idx="1"/>
          </p:cNvCxnSpPr>
          <p:nvPr/>
        </p:nvCxnSpPr>
        <p:spPr>
          <a:xfrm flipH="1" rot="16200000">
            <a:off x="4161240" y="4479480"/>
            <a:ext cx="180360" cy="3094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9" name=""/>
          <p:cNvCxnSpPr>
            <a:stCxn id="709" idx="2"/>
            <a:endCxn id="752" idx="0"/>
          </p:cNvCxnSpPr>
          <p:nvPr/>
        </p:nvCxnSpPr>
        <p:spPr>
          <a:xfrm>
            <a:off x="2704680" y="1472760"/>
            <a:ext cx="1080" cy="365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0" name=""/>
          <p:cNvCxnSpPr>
            <a:stCxn id="719" idx="3"/>
            <a:endCxn id="743" idx="1"/>
          </p:cNvCxnSpPr>
          <p:nvPr/>
        </p:nvCxnSpPr>
        <p:spPr>
          <a:xfrm>
            <a:off x="7549920" y="407304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35" idx="3"/>
            <a:endCxn id="738" idx="1"/>
          </p:cNvCxnSpPr>
          <p:nvPr/>
        </p:nvCxnSpPr>
        <p:spPr>
          <a:xfrm>
            <a:off x="7549920" y="22348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36" idx="3"/>
            <a:endCxn id="739" idx="1"/>
          </p:cNvCxnSpPr>
          <p:nvPr/>
        </p:nvCxnSpPr>
        <p:spPr>
          <a:xfrm>
            <a:off x="7549920" y="2906280"/>
            <a:ext cx="22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3" name=""/>
          <p:cNvSpPr/>
          <p:nvPr/>
        </p:nvSpPr>
        <p:spPr>
          <a:xfrm>
            <a:off x="7756560" y="241920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28" idx="3"/>
            <a:endCxn id="763" idx="1"/>
          </p:cNvCxnSpPr>
          <p:nvPr/>
        </p:nvCxnSpPr>
        <p:spPr>
          <a:xfrm>
            <a:off x="7549920" y="25714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5" name=""/>
          <p:cNvCxnSpPr>
            <a:stCxn id="712" idx="3"/>
            <a:endCxn id="715" idx="1"/>
          </p:cNvCxnSpPr>
          <p:nvPr/>
        </p:nvCxnSpPr>
        <p:spPr>
          <a:xfrm>
            <a:off x="4292280" y="1068120"/>
            <a:ext cx="1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6" name=""/>
          <p:cNvCxnSpPr>
            <a:stCxn id="709" idx="3"/>
            <a:endCxn id="712" idx="1"/>
          </p:cNvCxnSpPr>
          <p:nvPr/>
        </p:nvCxnSpPr>
        <p:spPr>
          <a:xfrm>
            <a:off x="3122640" y="1068120"/>
            <a:ext cx="15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06" idx="3"/>
            <a:endCxn id="709" idx="1"/>
          </p:cNvCxnSpPr>
          <p:nvPr/>
        </p:nvCxnSpPr>
        <p:spPr>
          <a:xfrm>
            <a:off x="2133360" y="10681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8" name=""/>
          <p:cNvCxnSpPr>
            <a:stCxn id="705" idx="3"/>
            <a:endCxn id="706" idx="1"/>
          </p:cNvCxnSpPr>
          <p:nvPr/>
        </p:nvCxnSpPr>
        <p:spPr>
          <a:xfrm>
            <a:off x="1319040" y="1064880"/>
            <a:ext cx="12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9" name=""/>
          <p:cNvCxnSpPr>
            <a:stCxn id="715" idx="3"/>
            <a:endCxn id="724" idx="1"/>
          </p:cNvCxnSpPr>
          <p:nvPr/>
        </p:nvCxnSpPr>
        <p:spPr>
          <a:xfrm>
            <a:off x="5466960" y="106812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6120" y="1077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3640" y="1600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9120" y="1265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92840" y="21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48200" y="8398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8480" y="12193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4280" y="9889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R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p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82600"/>
            <a:ext cx="1523880" cy="20239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visu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ing window or feel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 after 3.5 minu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preheat. 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uld  be warm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uc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9480" y="68580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lam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9480" y="1373040"/>
            <a:ext cx="914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3360" y="1760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3800" y="2214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endCxn id="50" idx="1"/>
          </p:cNvCxnSpPr>
          <p:nvPr/>
        </p:nvCxnSpPr>
        <p:spPr>
          <a:xfrm>
            <a:off x="985320" y="1293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50" idx="3"/>
            <a:endCxn id="51" idx="1"/>
          </p:cNvCxnSpPr>
          <p:nvPr/>
        </p:nvCxnSpPr>
        <p:spPr>
          <a:xfrm>
            <a:off x="2128320" y="12938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1" idx="3"/>
            <a:endCxn id="52" idx="1"/>
          </p:cNvCxnSpPr>
          <p:nvPr/>
        </p:nvCxnSpPr>
        <p:spPr>
          <a:xfrm flipV="1">
            <a:off x="3809880" y="990360"/>
            <a:ext cx="310320" cy="305280"/>
          </a:xfrm>
          <a:prstGeom prst="bentConnector3">
            <a:avLst>
              <a:gd name="adj1" fmla="val 4970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513720" y="781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9480" y="2363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48200" y="25052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940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182600"/>
            <a:ext cx="685800" cy="2192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03840" y="3430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73840" y="233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2" idx="3"/>
            <a:endCxn id="67" idx="1"/>
          </p:cNvCxnSpPr>
          <p:nvPr/>
        </p:nvCxnSpPr>
        <p:spPr>
          <a:xfrm flipV="1">
            <a:off x="5033520" y="754920"/>
            <a:ext cx="670680" cy="23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 flipV="1">
            <a:off x="7456320" y="385560"/>
            <a:ext cx="31788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2" idx="2"/>
            <a:endCxn id="53" idx="0"/>
          </p:cNvCxnSpPr>
          <p:nvPr/>
        </p:nvCxnSpPr>
        <p:spPr>
          <a:xfrm>
            <a:off x="4576320" y="1295280"/>
            <a:ext cx="1080" cy="7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53" idx="2"/>
            <a:endCxn id="60" idx="0"/>
          </p:cNvCxnSpPr>
          <p:nvPr/>
        </p:nvCxnSpPr>
        <p:spPr>
          <a:xfrm>
            <a:off x="4576320" y="22384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5703840" y="62532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Flame Sensor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3840" y="6048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03840" y="969840"/>
            <a:ext cx="1752480" cy="276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 touching bur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3840" y="885960"/>
            <a:ext cx="1143000" cy="215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3"/>
            <a:endCxn id="71" idx="1"/>
          </p:cNvCxnSpPr>
          <p:nvPr/>
        </p:nvCxnSpPr>
        <p:spPr>
          <a:xfrm flipV="1">
            <a:off x="7456320" y="712080"/>
            <a:ext cx="31788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2" idx="3"/>
            <a:endCxn id="73" idx="1"/>
          </p:cNvCxnSpPr>
          <p:nvPr/>
        </p:nvCxnSpPr>
        <p:spPr>
          <a:xfrm flipV="1">
            <a:off x="7456320" y="993240"/>
            <a:ext cx="3178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4" idx="1"/>
            <a:endCxn id="72" idx="1"/>
          </p:cNvCxnSpPr>
          <p:nvPr/>
        </p:nvCxnSpPr>
        <p:spPr>
          <a:xfrm flipH="1" flipV="1" rot="10800000">
            <a:off x="5702760" y="441000"/>
            <a:ext cx="2520" cy="667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5703840" y="131616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en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3840" y="117000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 flipV="1">
            <a:off x="7456320" y="1321920"/>
            <a:ext cx="31788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"/>
          <p:cNvSpPr/>
          <p:nvPr/>
        </p:nvSpPr>
        <p:spPr>
          <a:xfrm>
            <a:off x="5703840" y="159372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73840" y="1541520"/>
            <a:ext cx="1144800" cy="193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03840" y="1895400"/>
            <a:ext cx="1752480" cy="24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Constant Level Valve safe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3840" y="1803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the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tant 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3"/>
            <a:endCxn id="81" idx="1"/>
          </p:cNvCxnSpPr>
          <p:nvPr/>
        </p:nvCxnSpPr>
        <p:spPr>
          <a:xfrm flipV="1">
            <a:off x="7456320" y="1637640"/>
            <a:ext cx="31788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2" idx="3"/>
            <a:endCxn id="83" idx="1"/>
          </p:cNvCxnSpPr>
          <p:nvPr/>
        </p:nvCxnSpPr>
        <p:spPr>
          <a:xfrm flipV="1">
            <a:off x="7456320" y="1955160"/>
            <a:ext cx="3178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7" idx="1"/>
            <a:endCxn id="82" idx="1"/>
          </p:cNvCxnSpPr>
          <p:nvPr/>
        </p:nvCxnSpPr>
        <p:spPr>
          <a:xfrm flipH="1" flipV="1" rot="10800000">
            <a:off x="5702760" y="1413360"/>
            <a:ext cx="2520" cy="602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53" idx="3"/>
            <a:endCxn id="80" idx="1"/>
          </p:cNvCxnSpPr>
          <p:nvPr/>
        </p:nvCxnSpPr>
        <p:spPr>
          <a:xfrm flipV="1">
            <a:off x="5033520" y="1706040"/>
            <a:ext cx="670680" cy="10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5703840" y="23194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73840" y="21747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8" idx="3"/>
            <a:endCxn id="89" idx="1"/>
          </p:cNvCxnSpPr>
          <p:nvPr/>
        </p:nvCxnSpPr>
        <p:spPr>
          <a:xfrm flipV="1">
            <a:off x="7456320" y="2326680"/>
            <a:ext cx="317880" cy="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5703840" y="2602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73840" y="2548080"/>
            <a:ext cx="11430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03840" y="2916360"/>
            <a:ext cx="1752480" cy="137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3840" y="291924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1" idx="3"/>
            <a:endCxn id="92" idx="1"/>
          </p:cNvCxnSpPr>
          <p:nvPr/>
        </p:nvCxnSpPr>
        <p:spPr>
          <a:xfrm>
            <a:off x="7456320" y="2666520"/>
            <a:ext cx="3178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3" idx="3"/>
            <a:endCxn id="94" idx="1"/>
          </p:cNvCxnSpPr>
          <p:nvPr/>
        </p:nvCxnSpPr>
        <p:spPr>
          <a:xfrm>
            <a:off x="7456320" y="2986200"/>
            <a:ext cx="317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8" idx="1"/>
            <a:endCxn id="91" idx="1"/>
          </p:cNvCxnSpPr>
          <p:nvPr/>
        </p:nvCxnSpPr>
        <p:spPr>
          <a:xfrm flipH="1" flipV="1" rot="10800000">
            <a:off x="5702760" y="2417400"/>
            <a:ext cx="2520" cy="249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5703840" y="388620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3840" y="380052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99" idx="1"/>
          </p:cNvCxnSpPr>
          <p:nvPr/>
        </p:nvCxnSpPr>
        <p:spPr>
          <a:xfrm flipV="1">
            <a:off x="7456320" y="3890160"/>
            <a:ext cx="3178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5703840" y="42670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3840" y="40482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03840" y="455760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3840" y="441972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1" idx="3"/>
            <a:endCxn id="102" idx="1"/>
          </p:cNvCxnSpPr>
          <p:nvPr/>
        </p:nvCxnSpPr>
        <p:spPr>
          <a:xfrm flipV="1">
            <a:off x="7456320" y="4199760"/>
            <a:ext cx="317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3" idx="3"/>
            <a:endCxn id="104" idx="1"/>
          </p:cNvCxnSpPr>
          <p:nvPr/>
        </p:nvCxnSpPr>
        <p:spPr>
          <a:xfrm flipV="1">
            <a:off x="7456320" y="4495320"/>
            <a:ext cx="317880" cy="13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1" idx="1"/>
            <a:endCxn id="60" idx="3"/>
          </p:cNvCxnSpPr>
          <p:nvPr/>
        </p:nvCxnSpPr>
        <p:spPr>
          <a:xfrm flipV="1" rot="10800000">
            <a:off x="5033160" y="2665800"/>
            <a:ext cx="6706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3" idx="1"/>
            <a:endCxn id="60" idx="2"/>
          </p:cNvCxnSpPr>
          <p:nvPr/>
        </p:nvCxnSpPr>
        <p:spPr>
          <a:xfrm rot="10800000">
            <a:off x="4575960" y="2972520"/>
            <a:ext cx="1127880" cy="1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2286000" y="2417760"/>
            <a:ext cx="1523880" cy="725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Push ON/OFF Switch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Remove Igniter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Disconnect wiring fo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Pu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Push ON/OFF Switch O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7720" y="33940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2200" y="38336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3051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3171960"/>
            <a:ext cx="1752480" cy="271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dhering to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interi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3840" y="31399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ently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sh, 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3840" y="3516480"/>
            <a:ext cx="1752480" cy="179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73840" y="3511440"/>
            <a:ext cx="1144800" cy="222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1"/>
            <a:endCxn id="113" idx="1"/>
          </p:cNvCxnSpPr>
          <p:nvPr/>
        </p:nvCxnSpPr>
        <p:spPr>
          <a:xfrm flipH="1" rot="10800000">
            <a:off x="5702760" y="3307680"/>
            <a:ext cx="2520" cy="299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3" idx="3"/>
            <a:endCxn id="114" idx="1"/>
          </p:cNvCxnSpPr>
          <p:nvPr/>
        </p:nvCxnSpPr>
        <p:spPr>
          <a:xfrm flipV="1">
            <a:off x="7456320" y="329220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5" idx="3"/>
            <a:endCxn id="116" idx="1"/>
          </p:cNvCxnSpPr>
          <p:nvPr/>
        </p:nvCxnSpPr>
        <p:spPr>
          <a:xfrm>
            <a:off x="7456320" y="360684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2" idx="0"/>
            <a:endCxn id="109" idx="2"/>
          </p:cNvCxnSpPr>
          <p:nvPr/>
        </p:nvCxnSpPr>
        <p:spPr>
          <a:xfrm flipV="1">
            <a:off x="3047760" y="314280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3292560" y="4094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B" pins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2" idx="3"/>
            <a:endCxn id="115" idx="1"/>
          </p:cNvCxnSpPr>
          <p:nvPr/>
        </p:nvCxnSpPr>
        <p:spPr>
          <a:xfrm flipV="1">
            <a:off x="3504960" y="3606120"/>
            <a:ext cx="219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98" idx="1"/>
            <a:endCxn id="121" idx="3"/>
          </p:cNvCxnSpPr>
          <p:nvPr/>
        </p:nvCxnSpPr>
        <p:spPr>
          <a:xfrm flipV="1" rot="10800000">
            <a:off x="4308480" y="3965040"/>
            <a:ext cx="1395720" cy="563040"/>
          </a:xfrm>
          <a:prstGeom prst="bentConnector3">
            <a:avLst>
              <a:gd name="adj1" fmla="val 684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4262400" y="4352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49920" y="4892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09" idx="0"/>
            <a:endCxn id="51" idx="2"/>
          </p:cNvCxnSpPr>
          <p:nvPr/>
        </p:nvCxnSpPr>
        <p:spPr>
          <a:xfrm flipV="1">
            <a:off x="3047760" y="2305800"/>
            <a:ext cx="108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1" idx="0"/>
            <a:endCxn id="112" idx="2"/>
          </p:cNvCxnSpPr>
          <p:nvPr/>
        </p:nvCxnSpPr>
        <p:spPr>
          <a:xfrm flipV="1" rot="16200000">
            <a:off x="3333960" y="3627360"/>
            <a:ext cx="180360" cy="75312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3840" y="4822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 at "B" plu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3840" y="46404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PCB.  Replace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29" idx="1"/>
          </p:cNvCxnSpPr>
          <p:nvPr/>
        </p:nvCxnSpPr>
        <p:spPr>
          <a:xfrm flipV="1">
            <a:off x="7456320" y="4791960"/>
            <a:ext cx="317880" cy="10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28" idx="1"/>
            <a:endCxn id="101" idx="1"/>
          </p:cNvCxnSpPr>
          <p:nvPr/>
        </p:nvCxnSpPr>
        <p:spPr>
          <a:xfrm flipH="1" rot="10800000">
            <a:off x="5702760" y="4342680"/>
            <a:ext cx="252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03" idx="1"/>
            <a:endCxn id="101" idx="1"/>
          </p:cNvCxnSpPr>
          <p:nvPr/>
        </p:nvCxnSpPr>
        <p:spPr>
          <a:xfrm flipH="1" rot="10800000">
            <a:off x="5702760" y="4342680"/>
            <a:ext cx="2520" cy="289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21" idx="2"/>
            <a:endCxn id="128" idx="1"/>
          </p:cNvCxnSpPr>
          <p:nvPr/>
        </p:nvCxnSpPr>
        <p:spPr>
          <a:xfrm flipH="1" flipV="1" rot="5400000">
            <a:off x="4720680" y="3976920"/>
            <a:ext cx="61200" cy="1904040"/>
          </a:xfrm>
          <a:prstGeom prst="bentConnector4">
            <a:avLst>
              <a:gd name="adj1" fmla="val -220710"/>
              <a:gd name="adj2" fmla="val 633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703840" y="57913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03840" y="601488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Fuse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6276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 circuit of lead w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3840" y="53085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03840" y="553716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on Auto operation mod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6120" y="387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3640" y="4444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4280" y="37893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49370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4360" y="545796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4280" y="48481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6720" y="603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30080" y="635940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30400" y="563868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; plug in p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3"/>
            <a:endCxn id="137" idx="1"/>
          </p:cNvCxnSpPr>
          <p:nvPr/>
        </p:nvCxnSpPr>
        <p:spPr>
          <a:xfrm>
            <a:off x="2128320" y="4093920"/>
            <a:ext cx="3575880" cy="1291320"/>
          </a:xfrm>
          <a:prstGeom prst="bentConnector3">
            <a:avLst>
              <a:gd name="adj1" fmla="val 167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8" idx="1"/>
            <a:endCxn id="137" idx="1"/>
          </p:cNvCxnSpPr>
          <p:nvPr/>
        </p:nvCxnSpPr>
        <p:spPr>
          <a:xfrm flipH="1" rot="10800000">
            <a:off x="5702760" y="5384160"/>
            <a:ext cx="2520" cy="22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3"/>
            <a:endCxn id="135" idx="1"/>
          </p:cNvCxnSpPr>
          <p:nvPr/>
        </p:nvCxnSpPr>
        <p:spPr>
          <a:xfrm>
            <a:off x="2212560" y="6033600"/>
            <a:ext cx="3491640" cy="565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5703840" y="649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7" idx="2"/>
            <a:endCxn id="151" idx="1"/>
          </p:cNvCxnSpPr>
          <p:nvPr/>
        </p:nvCxnSpPr>
        <p:spPr>
          <a:xfrm flipH="1" rot="16200000">
            <a:off x="3614400" y="4485240"/>
            <a:ext cx="145440" cy="4033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7773840" y="64976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3840" y="50115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3840" y="56307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3840" y="53848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t in Manual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3840" y="60040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ave in new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37" idx="3"/>
            <a:endCxn id="154" idx="1"/>
          </p:cNvCxnSpPr>
          <p:nvPr/>
        </p:nvCxnSpPr>
        <p:spPr>
          <a:xfrm flipV="1">
            <a:off x="7456320" y="5163480"/>
            <a:ext cx="3178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38" idx="3"/>
            <a:endCxn id="156" idx="1"/>
          </p:cNvCxnSpPr>
          <p:nvPr/>
        </p:nvCxnSpPr>
        <p:spPr>
          <a:xfrm flipV="1">
            <a:off x="7456320" y="5474520"/>
            <a:ext cx="3178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34" idx="3"/>
            <a:endCxn id="155" idx="1"/>
          </p:cNvCxnSpPr>
          <p:nvPr/>
        </p:nvCxnSpPr>
        <p:spPr>
          <a:xfrm flipV="1">
            <a:off x="7456320" y="5782680"/>
            <a:ext cx="317880" cy="8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35" idx="3"/>
            <a:endCxn id="157" idx="1"/>
          </p:cNvCxnSpPr>
          <p:nvPr/>
        </p:nvCxnSpPr>
        <p:spPr>
          <a:xfrm>
            <a:off x="7456320" y="6089400"/>
            <a:ext cx="3178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1" idx="3"/>
            <a:endCxn id="153" idx="1"/>
          </p:cNvCxnSpPr>
          <p:nvPr/>
        </p:nvCxnSpPr>
        <p:spPr>
          <a:xfrm>
            <a:off x="7456320" y="6573600"/>
            <a:ext cx="3178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7773840" y="62499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36" idx="3"/>
            <a:endCxn id="163" idx="1"/>
          </p:cNvCxnSpPr>
          <p:nvPr/>
        </p:nvCxnSpPr>
        <p:spPr>
          <a:xfrm flipV="1">
            <a:off x="7456320" y="633996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82" idx="1"/>
            <a:endCxn id="80" idx="1"/>
          </p:cNvCxnSpPr>
          <p:nvPr/>
        </p:nvCxnSpPr>
        <p:spPr>
          <a:xfrm flipH="1" rot="10800000">
            <a:off x="5702760" y="1705680"/>
            <a:ext cx="2520" cy="310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72" idx="1"/>
            <a:endCxn id="67" idx="1"/>
          </p:cNvCxnSpPr>
          <p:nvPr/>
        </p:nvCxnSpPr>
        <p:spPr>
          <a:xfrm flipH="1" rot="10800000">
            <a:off x="5702760" y="754920"/>
            <a:ext cx="2520" cy="353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1" idx="1"/>
            <a:endCxn id="136" idx="1"/>
          </p:cNvCxnSpPr>
          <p:nvPr/>
        </p:nvCxnSpPr>
        <p:spPr>
          <a:xfrm flipH="1" rot="10800000">
            <a:off x="5702760" y="6352560"/>
            <a:ext cx="252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50" idx="2"/>
            <a:endCxn id="141" idx="0"/>
          </p:cNvCxnSpPr>
          <p:nvPr/>
        </p:nvCxnSpPr>
        <p:spPr>
          <a:xfrm>
            <a:off x="1671120" y="1598400"/>
            <a:ext cx="1080" cy="2191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41" idx="2"/>
            <a:endCxn id="144" idx="0"/>
          </p:cNvCxnSpPr>
          <p:nvPr/>
        </p:nvCxnSpPr>
        <p:spPr>
          <a:xfrm>
            <a:off x="1671120" y="4398840"/>
            <a:ext cx="108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44" idx="2"/>
            <a:endCxn id="147" idx="0"/>
          </p:cNvCxnSpPr>
          <p:nvPr/>
        </p:nvCxnSpPr>
        <p:spPr>
          <a:xfrm>
            <a:off x="1671120" y="5457960"/>
            <a:ext cx="1080" cy="18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34" idx="1"/>
            <a:endCxn id="144" idx="3"/>
          </p:cNvCxnSpPr>
          <p:nvPr/>
        </p:nvCxnSpPr>
        <p:spPr>
          <a:xfrm rot="10800000">
            <a:off x="2127960" y="5152320"/>
            <a:ext cx="3575880" cy="714960"/>
          </a:xfrm>
          <a:prstGeom prst="bentConnector3">
            <a:avLst>
              <a:gd name="adj1" fmla="val 912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04920" y="236376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8612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3640" y="9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8320" y="4525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8640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25920" y="476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2128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4280" y="384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fuel li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4280" y="3651120"/>
            <a:ext cx="2941920" cy="1687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GENERAL CHECKS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p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head too low?  See Section 2: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using a Lifter, check Lifter installation specifica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line length 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570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opera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89400" y="1496880"/>
            <a:ext cx="55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0800" y="20350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endCxn id="180" idx="1"/>
          </p:cNvCxnSpPr>
          <p:nvPr/>
        </p:nvCxnSpPr>
        <p:spPr>
          <a:xfrm>
            <a:off x="985320" y="6886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0" idx="3"/>
          </p:cNvCxnSpPr>
          <p:nvPr/>
        </p:nvCxnSpPr>
        <p:spPr>
          <a:xfrm>
            <a:off x="2128320" y="6890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13720" y="1760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 feed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6920" y="27792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 gathering in fuel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76920" y="560520"/>
            <a:ext cx="1752480" cy="25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fed because of su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sion of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51600" y="2286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harg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76920" y="905040"/>
            <a:ext cx="1752480" cy="345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 joint clogged (Fuel Line pas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geway into 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ar base of Burner 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6920" y="5810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burner j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2" idx="3"/>
            <a:endCxn id="193" idx="1"/>
          </p:cNvCxnSpPr>
          <p:nvPr/>
        </p:nvCxnSpPr>
        <p:spPr>
          <a:xfrm flipV="1">
            <a:off x="7529400" y="688680"/>
            <a:ext cx="31788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5776920" y="1311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closed on M-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50160" y="851040"/>
            <a:ext cx="1144440" cy="37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handl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76920" y="155736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 safety on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1600" y="1268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76920" y="185112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6920" y="2016000"/>
            <a:ext cx="1143000" cy="563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ighten fuel lin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air pocket,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76920" y="2035080"/>
            <a:ext cx="175248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6920" y="1611360"/>
            <a:ext cx="11430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84840" y="415116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ent in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84840" y="279576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entering into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76920" y="3325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hor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5480" y="4775040"/>
            <a:ext cx="114444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46920" y="2639880"/>
            <a:ext cx="1144800" cy="436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sh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6920" y="3149640"/>
            <a:ext cx="1149480" cy="382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Push ON/OF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utton to "OFF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fuel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Turn heater 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58840" y="2511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76920" y="35910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heat cond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83400" y="49687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3400" y="519264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84840" y="442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83400" y="4714920"/>
            <a:ext cx="1752480" cy="149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65400" y="2662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52920" y="32288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95960" y="4191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1880" y="409104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31616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wiring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"K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se flue pi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56640" y="51865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5480" y="43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56640" y="5892840"/>
            <a:ext cx="1144440" cy="5871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ow heater to c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ghte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0280" y="255600"/>
            <a:ext cx="10717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th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3"/>
            <a:endCxn id="190" idx="1"/>
          </p:cNvCxnSpPr>
          <p:nvPr/>
        </p:nvCxnSpPr>
        <p:spPr>
          <a:xfrm>
            <a:off x="4571640" y="689040"/>
            <a:ext cx="1205640" cy="216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190" idx="1"/>
            <a:endCxn id="189" idx="1"/>
          </p:cNvCxnSpPr>
          <p:nvPr/>
        </p:nvCxnSpPr>
        <p:spPr>
          <a:xfrm flipH="1" rot="10800000">
            <a:off x="5776560" y="375480"/>
            <a:ext cx="2160" cy="315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189" idx="3"/>
            <a:endCxn id="191" idx="1"/>
          </p:cNvCxnSpPr>
          <p:nvPr/>
        </p:nvCxnSpPr>
        <p:spPr>
          <a:xfrm flipV="1">
            <a:off x="7529040" y="336240"/>
            <a:ext cx="32292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6" idx="2"/>
            <a:endCxn id="195" idx="1"/>
          </p:cNvCxnSpPr>
          <p:nvPr/>
        </p:nvCxnSpPr>
        <p:spPr>
          <a:xfrm flipH="1" rot="16200000">
            <a:off x="4761720" y="394560"/>
            <a:ext cx="289440" cy="1740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192" idx="1"/>
            <a:endCxn id="197" idx="1"/>
          </p:cNvCxnSpPr>
          <p:nvPr/>
        </p:nvCxnSpPr>
        <p:spPr>
          <a:xfrm flipH="1" flipV="1" rot="10800000">
            <a:off x="5776560" y="1076760"/>
            <a:ext cx="2160" cy="592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195" idx="3"/>
            <a:endCxn id="196" idx="1"/>
          </p:cNvCxnSpPr>
          <p:nvPr/>
        </p:nvCxnSpPr>
        <p:spPr>
          <a:xfrm flipV="1">
            <a:off x="7529040" y="1039320"/>
            <a:ext cx="32148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197" idx="3"/>
            <a:endCxn id="198" idx="1"/>
          </p:cNvCxnSpPr>
          <p:nvPr/>
        </p:nvCxnSpPr>
        <p:spPr>
          <a:xfrm flipV="1">
            <a:off x="7529040" y="1420560"/>
            <a:ext cx="32292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190" idx="3"/>
            <a:endCxn id="191" idx="1"/>
          </p:cNvCxnSpPr>
          <p:nvPr/>
        </p:nvCxnSpPr>
        <p:spPr>
          <a:xfrm flipV="1">
            <a:off x="7529040" y="335880"/>
            <a:ext cx="32292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0" idx="2"/>
            <a:endCxn id="201" idx="1"/>
          </p:cNvCxnSpPr>
          <p:nvPr/>
        </p:nvCxnSpPr>
        <p:spPr>
          <a:xfrm flipH="1" flipV="1" rot="5400000">
            <a:off x="4300200" y="630360"/>
            <a:ext cx="2520" cy="2950200"/>
          </a:xfrm>
          <a:prstGeom prst="bentConnector4">
            <a:avLst>
              <a:gd name="adj1" fmla="val -6900000"/>
              <a:gd name="adj2" fmla="val 592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0" idx="3"/>
            <a:endCxn id="199" idx="1"/>
          </p:cNvCxnSpPr>
          <p:nvPr/>
        </p:nvCxnSpPr>
        <p:spPr>
          <a:xfrm>
            <a:off x="3368520" y="1711080"/>
            <a:ext cx="2409120" cy="20556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182" idx="2"/>
            <a:endCxn id="220" idx="0"/>
          </p:cNvCxnSpPr>
          <p:nvPr/>
        </p:nvCxnSpPr>
        <p:spPr>
          <a:xfrm>
            <a:off x="2822400" y="1122480"/>
            <a:ext cx="57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182" idx="3"/>
            <a:endCxn id="226" idx="1"/>
          </p:cNvCxnSpPr>
          <p:nvPr/>
        </p:nvCxnSpPr>
        <p:spPr>
          <a:xfrm flipV="1">
            <a:off x="3357720" y="688680"/>
            <a:ext cx="143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5778360" y="2255760"/>
            <a:ext cx="175284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180" idx="2"/>
            <a:endCxn id="239" idx="1"/>
          </p:cNvCxnSpPr>
          <p:nvPr/>
        </p:nvCxnSpPr>
        <p:spPr>
          <a:xfrm flipH="1" rot="16200000">
            <a:off x="3058920" y="-394200"/>
            <a:ext cx="1332720" cy="4107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7851600" y="179532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replace wi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199" idx="3"/>
            <a:endCxn id="202" idx="1"/>
          </p:cNvCxnSpPr>
          <p:nvPr/>
        </p:nvCxnSpPr>
        <p:spPr>
          <a:xfrm flipV="1">
            <a:off x="7529400" y="1686960"/>
            <a:ext cx="317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01" idx="3"/>
            <a:endCxn id="241" idx="1"/>
          </p:cNvCxnSpPr>
          <p:nvPr/>
        </p:nvCxnSpPr>
        <p:spPr>
          <a:xfrm flipV="1">
            <a:off x="7529040" y="1871280"/>
            <a:ext cx="32292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39" idx="3"/>
            <a:endCxn id="200" idx="1"/>
          </p:cNvCxnSpPr>
          <p:nvPr/>
        </p:nvCxnSpPr>
        <p:spPr>
          <a:xfrm flipV="1">
            <a:off x="7530840" y="2297880"/>
            <a:ext cx="316440" cy="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513720" y="2325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38520"/>
            <a:ext cx="685800" cy="411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inguish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05" idx="1"/>
            <a:endCxn id="210" idx="1"/>
          </p:cNvCxnSpPr>
          <p:nvPr/>
        </p:nvCxnSpPr>
        <p:spPr>
          <a:xfrm flipH="1" flipV="1" rot="10800000">
            <a:off x="5776560" y="34117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09" idx="3"/>
            <a:endCxn id="204" idx="1"/>
          </p:cNvCxnSpPr>
          <p:nvPr/>
        </p:nvCxnSpPr>
        <p:spPr>
          <a:xfrm flipV="1">
            <a:off x="2174760" y="2883960"/>
            <a:ext cx="3610800" cy="612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09" idx="2"/>
            <a:endCxn id="205" idx="1"/>
          </p:cNvCxnSpPr>
          <p:nvPr/>
        </p:nvCxnSpPr>
        <p:spPr>
          <a:xfrm flipH="1" rot="16200000">
            <a:off x="3702600" y="1339560"/>
            <a:ext cx="37440" cy="4110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7851600" y="3591000"/>
            <a:ext cx="1149480" cy="663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Unplug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move air-flo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bstructions and/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termine cause o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verhea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Replace cover &amp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04" idx="3"/>
            <a:endCxn id="207" idx="1"/>
          </p:cNvCxnSpPr>
          <p:nvPr/>
        </p:nvCxnSpPr>
        <p:spPr>
          <a:xfrm flipV="1">
            <a:off x="7537320" y="2858760"/>
            <a:ext cx="31032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05" idx="3"/>
            <a:endCxn id="208" idx="1"/>
          </p:cNvCxnSpPr>
          <p:nvPr/>
        </p:nvCxnSpPr>
        <p:spPr>
          <a:xfrm flipV="1">
            <a:off x="7529400" y="3340800"/>
            <a:ext cx="3178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10" idx="3"/>
            <a:endCxn id="250" idx="1"/>
          </p:cNvCxnSpPr>
          <p:nvPr/>
        </p:nvCxnSpPr>
        <p:spPr>
          <a:xfrm>
            <a:off x="7529040" y="3679920"/>
            <a:ext cx="3229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6" idx="3"/>
            <a:endCxn id="209" idx="1"/>
          </p:cNvCxnSpPr>
          <p:nvPr/>
        </p:nvCxnSpPr>
        <p:spPr>
          <a:xfrm>
            <a:off x="990360" y="2944440"/>
            <a:ext cx="168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509040" y="3876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4227480"/>
            <a:ext cx="685800" cy="534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incr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3"/>
            <a:endCxn id="181" idx="1"/>
          </p:cNvCxnSpPr>
          <p:nvPr/>
        </p:nvCxnSpPr>
        <p:spPr>
          <a:xfrm>
            <a:off x="990360" y="4495320"/>
            <a:ext cx="224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endCxn id="218" idx="1"/>
          </p:cNvCxnSpPr>
          <p:nvPr/>
        </p:nvCxnSpPr>
        <p:spPr>
          <a:xfrm>
            <a:off x="4156200" y="449532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18" idx="3"/>
            <a:endCxn id="214" idx="1"/>
          </p:cNvCxnSpPr>
          <p:nvPr/>
        </p:nvCxnSpPr>
        <p:spPr>
          <a:xfrm>
            <a:off x="5310360" y="4495680"/>
            <a:ext cx="475200" cy="8640"/>
          </a:xfrm>
          <a:prstGeom prst="bentConnector3">
            <a:avLst>
              <a:gd name="adj1" fmla="val 498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/>
          <p:nvPr/>
        </p:nvCxnSpPr>
        <p:spPr>
          <a:xfrm flipH="1" rot="10800000">
            <a:off x="5784480" y="4230720"/>
            <a:ext cx="2160" cy="273240"/>
          </a:xfrm>
          <a:prstGeom prst="bentConnector3">
            <a:avLst>
              <a:gd name="adj1" fmla="val -149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098880" y="550692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56640" y="45356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56640" y="559908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00560" y="423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89880" y="48895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18" idx="2"/>
            <a:endCxn id="211" idx="1"/>
          </p:cNvCxnSpPr>
          <p:nvPr/>
        </p:nvCxnSpPr>
        <p:spPr>
          <a:xfrm flipH="1" rot="16200000">
            <a:off x="5196240" y="4456800"/>
            <a:ext cx="244800" cy="930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15" idx="1"/>
            <a:endCxn id="212" idx="1"/>
          </p:cNvCxnSpPr>
          <p:nvPr/>
        </p:nvCxnSpPr>
        <p:spPr>
          <a:xfrm flipH="1" flipV="1" rot="10800000">
            <a:off x="5783040" y="4788360"/>
            <a:ext cx="2160" cy="478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7856640" y="49417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03" idx="3"/>
            <a:endCxn id="223" idx="1"/>
          </p:cNvCxnSpPr>
          <p:nvPr/>
        </p:nvCxnSpPr>
        <p:spPr>
          <a:xfrm>
            <a:off x="7537320" y="4230360"/>
            <a:ext cx="3088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14" idx="3"/>
            <a:endCxn id="262" idx="1"/>
          </p:cNvCxnSpPr>
          <p:nvPr/>
        </p:nvCxnSpPr>
        <p:spPr>
          <a:xfrm>
            <a:off x="7536960" y="4503600"/>
            <a:ext cx="32004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15" idx="3"/>
            <a:endCxn id="206" idx="1"/>
          </p:cNvCxnSpPr>
          <p:nvPr/>
        </p:nvCxnSpPr>
        <p:spPr>
          <a:xfrm>
            <a:off x="7535880" y="4789440"/>
            <a:ext cx="310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11" idx="3"/>
            <a:endCxn id="268" idx="1"/>
          </p:cNvCxnSpPr>
          <p:nvPr/>
        </p:nvCxnSpPr>
        <p:spPr>
          <a:xfrm flipV="1">
            <a:off x="7535520" y="5031720"/>
            <a:ext cx="32148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12" idx="3"/>
            <a:endCxn id="222" idx="1"/>
          </p:cNvCxnSpPr>
          <p:nvPr/>
        </p:nvCxnSpPr>
        <p:spPr>
          <a:xfrm>
            <a:off x="7535520" y="5266800"/>
            <a:ext cx="3214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181" idx="2"/>
            <a:endCxn id="213" idx="1"/>
          </p:cNvCxnSpPr>
          <p:nvPr/>
        </p:nvCxnSpPr>
        <p:spPr>
          <a:xfrm flipH="1" rot="16200000">
            <a:off x="4060080" y="3964320"/>
            <a:ext cx="351360" cy="3099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13" idx="3"/>
            <a:endCxn id="263" idx="1"/>
          </p:cNvCxnSpPr>
          <p:nvPr/>
        </p:nvCxnSpPr>
        <p:spPr>
          <a:xfrm>
            <a:off x="7536960" y="5689080"/>
            <a:ext cx="3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526680" y="55674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7520" y="5979960"/>
            <a:ext cx="2368440" cy="411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or flame; sounds of  combustion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t the reat of the heater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not a failure, but is apt to occ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7" idx="3"/>
            <a:endCxn id="221" idx="1"/>
          </p:cNvCxnSpPr>
          <p:nvPr/>
        </p:nvCxnSpPr>
        <p:spPr>
          <a:xfrm>
            <a:off x="2685960" y="6186240"/>
            <a:ext cx="309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21" idx="3"/>
            <a:endCxn id="224" idx="1"/>
          </p:cNvCxnSpPr>
          <p:nvPr/>
        </p:nvCxnSpPr>
        <p:spPr>
          <a:xfrm>
            <a:off x="7535520" y="6186240"/>
            <a:ext cx="32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48640" y="30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88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 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or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as wasps n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exhaust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63520" y="42908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 too lo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Usually 0.5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m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83400" y="892080"/>
            <a:ext cx="1752480" cy="1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58080" y="846000"/>
            <a:ext cx="1143000" cy="28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5480" y="5508720"/>
            <a:ext cx="1143000" cy="361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need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70680" y="17319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out intak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 du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181944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ake or exhaust line clogg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84840" y="399744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84840" y="267984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olenoid Pump malfunctio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5480" y="6110280"/>
            <a:ext cx="114444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03880" y="5508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gged air supply or exhaust 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much air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30920" y="1312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12160" y="711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02000" y="6904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mounted incorrec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56640" y="30211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c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ing to specif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4" idx="3"/>
            <a:endCxn id="285" idx="1"/>
          </p:cNvCxnSpPr>
          <p:nvPr/>
        </p:nvCxnSpPr>
        <p:spPr>
          <a:xfrm>
            <a:off x="7535520" y="99036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513720" y="4156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1920" y="4468680"/>
            <a:ext cx="685800" cy="509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ise is m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67004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70680" y="37497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70680" y="3986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64560" y="26798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oke produ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700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lue pipe too lo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have too many bend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ection 2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658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29160" y="16365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293" idx="3"/>
            <a:endCxn id="284" idx="1"/>
          </p:cNvCxnSpPr>
          <p:nvPr/>
        </p:nvCxnSpPr>
        <p:spPr>
          <a:xfrm>
            <a:off x="5419800" y="984240"/>
            <a:ext cx="364320" cy="720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4332240" y="1450800"/>
            <a:ext cx="1157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outs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flue pipe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w of air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32240" y="233532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57880" y="2579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36960" y="2227320"/>
            <a:ext cx="6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16239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5" idx="2"/>
          </p:cNvCxnSpPr>
          <p:nvPr/>
        </p:nvCxnSpPr>
        <p:spPr>
          <a:xfrm flipH="1" flipV="1" rot="5400000">
            <a:off x="6371280" y="1726560"/>
            <a:ext cx="13320" cy="2934360"/>
          </a:xfrm>
          <a:prstGeom prst="bentConnector4">
            <a:avLst>
              <a:gd name="adj1" fmla="val -461111"/>
              <a:gd name="adj2" fmla="val 598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4" idx="3"/>
            <a:endCxn id="288" idx="1"/>
          </p:cNvCxnSpPr>
          <p:nvPr/>
        </p:nvCxnSpPr>
        <p:spPr>
          <a:xfrm>
            <a:off x="5489640" y="188388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288" idx="3"/>
            <a:endCxn id="287" idx="1"/>
          </p:cNvCxnSpPr>
          <p:nvPr/>
        </p:nvCxnSpPr>
        <p:spPr>
          <a:xfrm>
            <a:off x="7543800" y="188388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0" idx="3"/>
            <a:endCxn id="308" idx="1"/>
          </p:cNvCxnSpPr>
          <p:nvPr/>
        </p:nvCxnSpPr>
        <p:spPr>
          <a:xfrm>
            <a:off x="7536960" y="2768760"/>
            <a:ext cx="327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3"/>
            <a:endCxn id="290" idx="1"/>
          </p:cNvCxnSpPr>
          <p:nvPr/>
        </p:nvCxnSpPr>
        <p:spPr>
          <a:xfrm>
            <a:off x="5489640" y="2768400"/>
            <a:ext cx="29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09" idx="3"/>
            <a:endCxn id="310" idx="1"/>
          </p:cNvCxnSpPr>
          <p:nvPr/>
        </p:nvCxnSpPr>
        <p:spPr>
          <a:xfrm>
            <a:off x="1163520" y="983880"/>
            <a:ext cx="107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0" idx="3"/>
            <a:endCxn id="281" idx="1"/>
          </p:cNvCxnSpPr>
          <p:nvPr/>
        </p:nvCxnSpPr>
        <p:spPr>
          <a:xfrm>
            <a:off x="2719440" y="98388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281" idx="3"/>
            <a:endCxn id="293" idx="1"/>
          </p:cNvCxnSpPr>
          <p:nvPr/>
        </p:nvCxnSpPr>
        <p:spPr>
          <a:xfrm>
            <a:off x="4277880" y="983880"/>
            <a:ext cx="12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293" idx="2"/>
            <a:endCxn id="314" idx="0"/>
          </p:cNvCxnSpPr>
          <p:nvPr/>
        </p:nvCxnSpPr>
        <p:spPr>
          <a:xfrm>
            <a:off x="4911480" y="1415520"/>
            <a:ext cx="108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4" idx="2"/>
            <a:endCxn id="315" idx="0"/>
          </p:cNvCxnSpPr>
          <p:nvPr/>
        </p:nvCxnSpPr>
        <p:spPr>
          <a:xfrm>
            <a:off x="4911480" y="2315880"/>
            <a:ext cx="10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281" idx="2"/>
            <a:endCxn id="291" idx="1"/>
          </p:cNvCxnSpPr>
          <p:nvPr/>
        </p:nvCxnSpPr>
        <p:spPr>
          <a:xfrm flipH="1" rot="16200000">
            <a:off x="3767760" y="1468440"/>
            <a:ext cx="1810440" cy="223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291" idx="1"/>
            <a:endCxn id="294" idx="1"/>
          </p:cNvCxnSpPr>
          <p:nvPr/>
        </p:nvCxnSpPr>
        <p:spPr>
          <a:xfrm flipH="1" flipV="1" rot="10800000">
            <a:off x="5790960" y="34909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10" idx="2"/>
            <a:endCxn id="289" idx="1"/>
          </p:cNvCxnSpPr>
          <p:nvPr/>
        </p:nvCxnSpPr>
        <p:spPr>
          <a:xfrm flipH="1" rot="16200000">
            <a:off x="2693160" y="984600"/>
            <a:ext cx="2394720" cy="3790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7870680" y="3405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291" idx="3"/>
            <a:endCxn id="332" idx="1"/>
          </p:cNvCxnSpPr>
          <p:nvPr/>
        </p:nvCxnSpPr>
        <p:spPr>
          <a:xfrm>
            <a:off x="7543800" y="3492000"/>
            <a:ext cx="327600" cy="6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>
            <a:stCxn id="294" idx="3"/>
            <a:endCxn id="306" idx="1"/>
          </p:cNvCxnSpPr>
          <p:nvPr/>
        </p:nvCxnSpPr>
        <p:spPr>
          <a:xfrm>
            <a:off x="7543800" y="3758760"/>
            <a:ext cx="327600" cy="8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289" idx="3"/>
            <a:endCxn id="307" idx="1"/>
          </p:cNvCxnSpPr>
          <p:nvPr/>
        </p:nvCxnSpPr>
        <p:spPr>
          <a:xfrm>
            <a:off x="7537320" y="4076280"/>
            <a:ext cx="334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3265560" y="4290840"/>
            <a:ext cx="115704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2548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548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112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5480" y="46339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ymptom #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36" idx="3"/>
            <a:endCxn id="341" idx="1"/>
          </p:cNvCxnSpPr>
          <p:nvPr/>
        </p:nvCxnSpPr>
        <p:spPr>
          <a:xfrm>
            <a:off x="4422600" y="4723920"/>
            <a:ext cx="342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6" idx="2"/>
            <a:endCxn id="295" idx="1"/>
          </p:cNvCxnSpPr>
          <p:nvPr/>
        </p:nvCxnSpPr>
        <p:spPr>
          <a:xfrm flipH="1" rot="16200000">
            <a:off x="4547160" y="4452480"/>
            <a:ext cx="533880" cy="1940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282" idx="2"/>
            <a:endCxn id="299" idx="1"/>
          </p:cNvCxnSpPr>
          <p:nvPr/>
        </p:nvCxnSpPr>
        <p:spPr>
          <a:xfrm flipH="1" rot="16200000">
            <a:off x="3226680" y="3629520"/>
            <a:ext cx="1031040" cy="4083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295" idx="3"/>
            <a:endCxn id="286" idx="1"/>
          </p:cNvCxnSpPr>
          <p:nvPr/>
        </p:nvCxnSpPr>
        <p:spPr>
          <a:xfrm>
            <a:off x="7537320" y="5689080"/>
            <a:ext cx="308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299" idx="3"/>
            <a:endCxn id="292" idx="1"/>
          </p:cNvCxnSpPr>
          <p:nvPr/>
        </p:nvCxnSpPr>
        <p:spPr>
          <a:xfrm>
            <a:off x="7535880" y="618624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04" idx="3"/>
            <a:endCxn id="282" idx="1"/>
          </p:cNvCxnSpPr>
          <p:nvPr/>
        </p:nvCxnSpPr>
        <p:spPr>
          <a:xfrm>
            <a:off x="1017360" y="4723920"/>
            <a:ext cx="14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282" idx="3"/>
            <a:endCxn id="336" idx="1"/>
          </p:cNvCxnSpPr>
          <p:nvPr/>
        </p:nvCxnSpPr>
        <p:spPr>
          <a:xfrm>
            <a:off x="2235240" y="472392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078520" y="18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1320" y="149688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insta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2795760"/>
            <a:ext cx="1752480" cy="495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s only a small amount of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e to dust or bubbles in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iver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5480" y="179532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183996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brok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26044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eaks from Igniter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4549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5920" y="11937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exte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ole area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41292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232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43440" y="19954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18480" y="2844720"/>
            <a:ext cx="1144440" cy="399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 customer ab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&amp; reset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56640" y="454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56640" y="412920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560" y="919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55680" y="260280"/>
            <a:ext cx="1938240" cy="2732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pure kerose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heater mount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xternal fuel tank too low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ection 2: INSTAL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s need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ymptom #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an obstruction i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Air System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5040" y="135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71600" y="31114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86080" y="261144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S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 &amp;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6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91000" y="1303200"/>
            <a:ext cx="889200" cy="644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7824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6680" y="136692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wind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smo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ru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18480" y="14158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45480" y="21970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gaske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ly install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65680" y="3833640"/>
            <a:ext cx="12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Flame does not ext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55920" y="2793960"/>
            <a:ext cx="107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Flame exte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65" idx="2"/>
            <a:endCxn id="355" idx="1"/>
          </p:cNvCxnSpPr>
          <p:nvPr/>
        </p:nvCxnSpPr>
        <p:spPr>
          <a:xfrm flipH="1" rot="16200000">
            <a:off x="3184920" y="2031480"/>
            <a:ext cx="1645560" cy="356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68" idx="2"/>
            <a:endCxn id="357" idx="1"/>
          </p:cNvCxnSpPr>
          <p:nvPr/>
        </p:nvCxnSpPr>
        <p:spPr>
          <a:xfrm flipH="1" rot="16200000">
            <a:off x="4456800" y="2884320"/>
            <a:ext cx="742320" cy="1926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68" idx="3"/>
            <a:endCxn id="351" idx="1"/>
          </p:cNvCxnSpPr>
          <p:nvPr/>
        </p:nvCxnSpPr>
        <p:spPr>
          <a:xfrm flipV="1">
            <a:off x="4443480" y="3042360"/>
            <a:ext cx="1348560" cy="252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69" idx="2"/>
            <a:endCxn id="354" idx="1"/>
          </p:cNvCxnSpPr>
          <p:nvPr/>
        </p:nvCxnSpPr>
        <p:spPr>
          <a:xfrm flipH="1" rot="16200000">
            <a:off x="5161680" y="1720440"/>
            <a:ext cx="402120" cy="856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53" idx="1"/>
            <a:endCxn id="350" idx="1"/>
          </p:cNvCxnSpPr>
          <p:nvPr/>
        </p:nvCxnSpPr>
        <p:spPr>
          <a:xfrm flipH="1" rot="10800000">
            <a:off x="5790960" y="162720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69" idx="3"/>
            <a:endCxn id="350" idx="1"/>
          </p:cNvCxnSpPr>
          <p:nvPr/>
        </p:nvCxnSpPr>
        <p:spPr>
          <a:xfrm>
            <a:off x="5380200" y="1625760"/>
            <a:ext cx="411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50" idx="3"/>
            <a:endCxn id="372" idx="1"/>
          </p:cNvCxnSpPr>
          <p:nvPr/>
        </p:nvCxnSpPr>
        <p:spPr>
          <a:xfrm flipV="1">
            <a:off x="7543440" y="1567800"/>
            <a:ext cx="275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53" idx="3"/>
            <a:endCxn id="352" idx="1"/>
          </p:cNvCxnSpPr>
          <p:nvPr/>
        </p:nvCxnSpPr>
        <p:spPr>
          <a:xfrm>
            <a:off x="7543800" y="1904760"/>
            <a:ext cx="30240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54" idx="3"/>
            <a:endCxn id="373" idx="1"/>
          </p:cNvCxnSpPr>
          <p:nvPr/>
        </p:nvCxnSpPr>
        <p:spPr>
          <a:xfrm>
            <a:off x="7543800" y="234900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351" idx="3"/>
            <a:endCxn id="360" idx="1"/>
          </p:cNvCxnSpPr>
          <p:nvPr/>
        </p:nvCxnSpPr>
        <p:spPr>
          <a:xfrm>
            <a:off x="7543440" y="3042720"/>
            <a:ext cx="275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56" idx="2"/>
            <a:endCxn id="368" idx="0"/>
          </p:cNvCxnSpPr>
          <p:nvPr/>
        </p:nvCxnSpPr>
        <p:spPr>
          <a:xfrm>
            <a:off x="3863520" y="2058480"/>
            <a:ext cx="252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56" idx="3"/>
            <a:endCxn id="369" idx="1"/>
          </p:cNvCxnSpPr>
          <p:nvPr/>
        </p:nvCxnSpPr>
        <p:spPr>
          <a:xfrm flipV="1">
            <a:off x="4371480" y="1625400"/>
            <a:ext cx="119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65" idx="3"/>
            <a:endCxn id="356" idx="1"/>
          </p:cNvCxnSpPr>
          <p:nvPr/>
        </p:nvCxnSpPr>
        <p:spPr>
          <a:xfrm>
            <a:off x="3193920" y="1626840"/>
            <a:ext cx="16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71" idx="3"/>
            <a:endCxn id="365" idx="1"/>
          </p:cNvCxnSpPr>
          <p:nvPr/>
        </p:nvCxnSpPr>
        <p:spPr>
          <a:xfrm>
            <a:off x="1147680" y="162684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57" idx="3"/>
            <a:endCxn id="363" idx="1"/>
          </p:cNvCxnSpPr>
          <p:nvPr/>
        </p:nvCxnSpPr>
        <p:spPr>
          <a:xfrm>
            <a:off x="7543440" y="4218120"/>
            <a:ext cx="313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55" idx="3"/>
            <a:endCxn id="362" idx="1"/>
          </p:cNvCxnSpPr>
          <p:nvPr/>
        </p:nvCxnSpPr>
        <p:spPr>
          <a:xfrm>
            <a:off x="7543440" y="4636800"/>
            <a:ext cx="3135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651400" y="1711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83400" y="782640"/>
            <a:ext cx="1752480" cy="403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curtain or other ob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s circulation air inl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83400" y="2413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stacle covers circulating air out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84840" y="312408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rinted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3680" y="103356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ep curtain from 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9840" y="204480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43160" y="2209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37000" y="30160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34320" y="23875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a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2240" y="36702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or replace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64560" y="31240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Overhe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mostat 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2240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ndow curtain t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se to the rear of the un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ard dust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96" idx="3"/>
            <a:endCxn id="406" idx="1"/>
          </p:cNvCxnSpPr>
          <p:nvPr/>
        </p:nvCxnSpPr>
        <p:spPr>
          <a:xfrm>
            <a:off x="7536960" y="3212640"/>
            <a:ext cx="327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0" name=""/>
          <p:cNvCxnSpPr>
            <a:stCxn id="407" idx="3"/>
            <a:endCxn id="408" idx="1"/>
          </p:cNvCxnSpPr>
          <p:nvPr/>
        </p:nvCxnSpPr>
        <p:spPr>
          <a:xfrm>
            <a:off x="1163520" y="983880"/>
            <a:ext cx="75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7843680" y="800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u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73560" y="6318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42240" y="34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08" idx="3"/>
            <a:endCxn id="394" idx="1"/>
          </p:cNvCxnSpPr>
          <p:nvPr/>
        </p:nvCxnSpPr>
        <p:spPr>
          <a:xfrm>
            <a:off x="3371400" y="983880"/>
            <a:ext cx="24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394" idx="3"/>
            <a:endCxn id="411" idx="1"/>
          </p:cNvCxnSpPr>
          <p:nvPr/>
        </p:nvCxnSpPr>
        <p:spPr>
          <a:xfrm flipV="1">
            <a:off x="7535520" y="890280"/>
            <a:ext cx="30852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394" idx="3"/>
            <a:endCxn id="398" idx="1"/>
          </p:cNvCxnSpPr>
          <p:nvPr/>
        </p:nvCxnSpPr>
        <p:spPr>
          <a:xfrm>
            <a:off x="7535520" y="984240"/>
            <a:ext cx="30852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08" idx="2"/>
            <a:endCxn id="399" idx="0"/>
          </p:cNvCxnSpPr>
          <p:nvPr/>
        </p:nvCxnSpPr>
        <p:spPr>
          <a:xfrm>
            <a:off x="2647440" y="168264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399" idx="3"/>
            <a:endCxn id="395" idx="1"/>
          </p:cNvCxnSpPr>
          <p:nvPr/>
        </p:nvCxnSpPr>
        <p:spPr>
          <a:xfrm>
            <a:off x="3156120" y="2477880"/>
            <a:ext cx="262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396" idx="1"/>
            <a:endCxn id="400" idx="1"/>
          </p:cNvCxnSpPr>
          <p:nvPr/>
        </p:nvCxnSpPr>
        <p:spPr>
          <a:xfrm flipH="1" flipV="1" rot="10800000">
            <a:off x="5784480" y="3211560"/>
            <a:ext cx="7200" cy="546480"/>
          </a:xfrm>
          <a:prstGeom prst="bentConnector3">
            <a:avLst>
              <a:gd name="adj1" fmla="val -36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399" idx="2"/>
            <a:endCxn id="397" idx="1"/>
          </p:cNvCxnSpPr>
          <p:nvPr/>
        </p:nvCxnSpPr>
        <p:spPr>
          <a:xfrm flipH="1" rot="16200000">
            <a:off x="3928320" y="1629000"/>
            <a:ext cx="583200" cy="314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397" idx="3"/>
            <a:endCxn id="413" idx="1"/>
          </p:cNvCxnSpPr>
          <p:nvPr/>
        </p:nvCxnSpPr>
        <p:spPr>
          <a:xfrm>
            <a:off x="7543440" y="3492000"/>
            <a:ext cx="299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00" idx="3"/>
            <a:endCxn id="405" idx="1"/>
          </p:cNvCxnSpPr>
          <p:nvPr/>
        </p:nvCxnSpPr>
        <p:spPr>
          <a:xfrm>
            <a:off x="7543440" y="3758760"/>
            <a:ext cx="29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395" idx="3"/>
            <a:endCxn id="404" idx="1"/>
          </p:cNvCxnSpPr>
          <p:nvPr/>
        </p:nvCxnSpPr>
        <p:spPr>
          <a:xfrm>
            <a:off x="7535520" y="247788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25360" y="25236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88 blink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86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6860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7648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3344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47960" y="39164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3080" y="39211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35480" y="4435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92800" y="44402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17760" y="361944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-in, does vol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7 turn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16440" y="370368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-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70960" y="57164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02400" y="455148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70960" y="337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ll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51200" y="1327320"/>
            <a:ext cx="717480" cy="357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ON/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 to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69160" y="222408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65080" y="1001880"/>
            <a:ext cx="430200" cy="309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772400" y="5986440"/>
            <a:ext cx="1144440" cy="22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16440" y="3394080"/>
            <a:ext cx="175284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19680" y="388800"/>
            <a:ext cx="175284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8 - R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9680" y="612720"/>
            <a:ext cx="175284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21480" y="13111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65480" y="1905120"/>
            <a:ext cx="1913040" cy="51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the connector CN1 of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from PCB and t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mper pins T1 &amp; T6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21480" y="15318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36" idx="3"/>
            <a:endCxn id="437" idx="1"/>
          </p:cNvCxnSpPr>
          <p:nvPr/>
        </p:nvCxnSpPr>
        <p:spPr>
          <a:xfrm flipV="1">
            <a:off x="4475160" y="3801240"/>
            <a:ext cx="1242000" cy="3373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2" name=""/>
          <p:cNvSpPr/>
          <p:nvPr/>
        </p:nvSpPr>
        <p:spPr>
          <a:xfrm>
            <a:off x="5702400" y="39830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02400" y="42670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9 - R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02400" y="4819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witch SW1 (Res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02400" y="51973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02400" y="54482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2" idx="1"/>
            <a:endCxn id="439" idx="1"/>
          </p:cNvCxnSpPr>
          <p:nvPr/>
        </p:nvCxnSpPr>
        <p:spPr>
          <a:xfrm flipH="1" flipV="1" rot="10800000">
            <a:off x="5702040" y="4079880"/>
            <a:ext cx="2160" cy="568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1"/>
            <a:endCxn id="454" idx="1"/>
          </p:cNvCxnSpPr>
          <p:nvPr/>
        </p:nvCxnSpPr>
        <p:spPr>
          <a:xfrm flipH="1" flipV="1" rot="10800000">
            <a:off x="5702040" y="4365360"/>
            <a:ext cx="2160" cy="5529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36" idx="2"/>
            <a:endCxn id="454" idx="1"/>
          </p:cNvCxnSpPr>
          <p:nvPr/>
        </p:nvCxnSpPr>
        <p:spPr>
          <a:xfrm flipH="1" rot="16200000">
            <a:off x="4669560" y="3884760"/>
            <a:ext cx="261000" cy="1805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6" idx="1"/>
            <a:endCxn id="455" idx="1"/>
          </p:cNvCxnSpPr>
          <p:nvPr/>
        </p:nvCxnSpPr>
        <p:spPr>
          <a:xfrm flipH="1" rot="10800000">
            <a:off x="5702040" y="5295240"/>
            <a:ext cx="2160" cy="251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31" idx="2"/>
            <a:endCxn id="455" idx="1"/>
          </p:cNvCxnSpPr>
          <p:nvPr/>
        </p:nvCxnSpPr>
        <p:spPr>
          <a:xfrm flipH="1" rot="16200000">
            <a:off x="3768480" y="3361680"/>
            <a:ext cx="856440" cy="3012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2" name=""/>
          <p:cNvSpPr/>
          <p:nvPr/>
        </p:nvSpPr>
        <p:spPr>
          <a:xfrm>
            <a:off x="4437000" y="3924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99160" y="4703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02400" y="57355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1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2400" y="59864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03840" y="62373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6 - D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03840" y="651204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30" idx="2"/>
            <a:endCxn id="464" idx="1"/>
          </p:cNvCxnSpPr>
          <p:nvPr/>
        </p:nvCxnSpPr>
        <p:spPr>
          <a:xfrm flipH="1" rot="16200000">
            <a:off x="2971080" y="3102480"/>
            <a:ext cx="1394640" cy="406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4" idx="1"/>
            <a:endCxn id="466" idx="1"/>
          </p:cNvCxnSpPr>
          <p:nvPr/>
        </p:nvCxnSpPr>
        <p:spPr>
          <a:xfrm flipH="1" flipV="1" rot="10800000">
            <a:off x="5702040" y="5832720"/>
            <a:ext cx="2160" cy="501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5" idx="1"/>
            <a:endCxn id="467" idx="1"/>
          </p:cNvCxnSpPr>
          <p:nvPr/>
        </p:nvCxnSpPr>
        <p:spPr>
          <a:xfrm flipH="1" flipV="1" rot="10800000">
            <a:off x="5702040" y="6084360"/>
            <a:ext cx="2160" cy="526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27" idx="2"/>
            <a:endCxn id="430" idx="0"/>
          </p:cNvCxnSpPr>
          <p:nvPr/>
        </p:nvCxnSpPr>
        <p:spPr>
          <a:xfrm>
            <a:off x="1633320" y="1117080"/>
            <a:ext cx="1080" cy="271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3317760" y="504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48400" y="9921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89040" y="38088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64080" y="38268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mpty 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t? 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6724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62680" y="882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46" idx="1"/>
            <a:endCxn id="447" idx="1"/>
          </p:cNvCxnSpPr>
          <p:nvPr/>
        </p:nvCxnSpPr>
        <p:spPr>
          <a:xfrm flipH="1" flipV="1" rot="10800000">
            <a:off x="5718600" y="464040"/>
            <a:ext cx="252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4" idx="2"/>
            <a:endCxn id="445" idx="1"/>
          </p:cNvCxnSpPr>
          <p:nvPr/>
        </p:nvCxnSpPr>
        <p:spPr>
          <a:xfrm flipH="1" rot="16200000">
            <a:off x="3090600" y="845280"/>
            <a:ext cx="2480400" cy="2770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"/>
          <p:cNvSpPr/>
          <p:nvPr/>
        </p:nvSpPr>
        <p:spPr>
          <a:xfrm>
            <a:off x="3409920" y="1027080"/>
            <a:ext cx="1424160" cy="716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ed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 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97440" y="1193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24520" y="1727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64080" y="255096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er start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60760" y="2641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3440" y="3052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21480" y="1096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6" idx="1"/>
            <a:endCxn id="450" idx="1"/>
          </p:cNvCxnSpPr>
          <p:nvPr/>
        </p:nvCxnSpPr>
        <p:spPr>
          <a:xfrm flipH="1" flipV="1" rot="10800000">
            <a:off x="5721120" y="1172880"/>
            <a:ext cx="2160" cy="435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0" idx="3"/>
            <a:endCxn id="448" idx="1"/>
          </p:cNvCxnSpPr>
          <p:nvPr/>
        </p:nvCxnSpPr>
        <p:spPr>
          <a:xfrm>
            <a:off x="4833720" y="1386000"/>
            <a:ext cx="8881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5718240" y="23004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operation 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8240" y="28130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8240" y="30337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18240" y="25988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1"/>
            <a:endCxn id="490" idx="1"/>
          </p:cNvCxnSpPr>
          <p:nvPr/>
        </p:nvCxnSpPr>
        <p:spPr>
          <a:xfrm flipH="1" flipV="1" rot="10800000">
            <a:off x="5717880" y="2674440"/>
            <a:ext cx="2160" cy="215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3" idx="3"/>
            <a:endCxn id="489" idx="1"/>
          </p:cNvCxnSpPr>
          <p:nvPr/>
        </p:nvCxnSpPr>
        <p:spPr>
          <a:xfrm flipV="1">
            <a:off x="4578480" y="2376000"/>
            <a:ext cx="1140480" cy="480240"/>
          </a:xfrm>
          <a:prstGeom prst="bentConnector3">
            <a:avLst>
              <a:gd name="adj1" fmla="val 615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83" idx="2"/>
            <a:endCxn id="491" idx="1"/>
          </p:cNvCxnSpPr>
          <p:nvPr/>
        </p:nvCxnSpPr>
        <p:spPr>
          <a:xfrm flipH="1" flipV="1" rot="5400000">
            <a:off x="4894200" y="2336400"/>
            <a:ext cx="51480" cy="1597680"/>
          </a:xfrm>
          <a:prstGeom prst="bentConnector4">
            <a:avLst>
              <a:gd name="adj1" fmla="val -140140"/>
              <a:gd name="adj2" fmla="val 643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75" idx="3"/>
            <a:endCxn id="447" idx="1"/>
          </p:cNvCxnSpPr>
          <p:nvPr/>
        </p:nvCxnSpPr>
        <p:spPr>
          <a:xfrm>
            <a:off x="4578480" y="686880"/>
            <a:ext cx="1141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89" idx="3"/>
            <a:endCxn id="442" idx="1"/>
          </p:cNvCxnSpPr>
          <p:nvPr/>
        </p:nvCxnSpPr>
        <p:spPr>
          <a:xfrm>
            <a:off x="7470360" y="237600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45" idx="3"/>
            <a:endCxn id="440" idx="1"/>
          </p:cNvCxnSpPr>
          <p:nvPr/>
        </p:nvCxnSpPr>
        <p:spPr>
          <a:xfrm>
            <a:off x="7469280" y="347004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64" idx="3"/>
            <a:endCxn id="438" idx="1"/>
          </p:cNvCxnSpPr>
          <p:nvPr/>
        </p:nvCxnSpPr>
        <p:spPr>
          <a:xfrm flipV="1">
            <a:off x="7454880" y="5823720"/>
            <a:ext cx="3168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65" idx="3"/>
            <a:endCxn id="444" idx="1"/>
          </p:cNvCxnSpPr>
          <p:nvPr/>
        </p:nvCxnSpPr>
        <p:spPr>
          <a:xfrm>
            <a:off x="7454880" y="608472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25" idx="3"/>
            <a:endCxn id="427" idx="1"/>
          </p:cNvCxnSpPr>
          <p:nvPr/>
        </p:nvCxnSpPr>
        <p:spPr>
          <a:xfrm flipV="1">
            <a:off x="990720" y="685080"/>
            <a:ext cx="135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427" idx="3"/>
            <a:endCxn id="474" idx="1"/>
          </p:cNvCxnSpPr>
          <p:nvPr/>
        </p:nvCxnSpPr>
        <p:spPr>
          <a:xfrm>
            <a:off x="2141280" y="685440"/>
            <a:ext cx="34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474" idx="3"/>
            <a:endCxn id="475" idx="1"/>
          </p:cNvCxnSpPr>
          <p:nvPr/>
        </p:nvCxnSpPr>
        <p:spPr>
          <a:xfrm>
            <a:off x="3403440" y="685800"/>
            <a:ext cx="261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475" idx="2"/>
            <a:endCxn id="480" idx="0"/>
          </p:cNvCxnSpPr>
          <p:nvPr/>
        </p:nvCxnSpPr>
        <p:spPr>
          <a:xfrm>
            <a:off x="4121280" y="991800"/>
            <a:ext cx="216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80" idx="2"/>
            <a:endCxn id="449" idx="0"/>
          </p:cNvCxnSpPr>
          <p:nvPr/>
        </p:nvCxnSpPr>
        <p:spPr>
          <a:xfrm>
            <a:off x="4122360" y="174312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49" idx="2"/>
            <a:endCxn id="483" idx="0"/>
          </p:cNvCxnSpPr>
          <p:nvPr/>
        </p:nvCxnSpPr>
        <p:spPr>
          <a:xfrm flipH="1">
            <a:off x="4120920" y="2416320"/>
            <a:ext cx="2160" cy="13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491" idx="1"/>
            <a:endCxn id="490" idx="1"/>
          </p:cNvCxnSpPr>
          <p:nvPr/>
        </p:nvCxnSpPr>
        <p:spPr>
          <a:xfrm flipH="1" rot="10800000">
            <a:off x="5717880" y="2888640"/>
            <a:ext cx="216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430" idx="3"/>
            <a:endCxn id="431" idx="1"/>
          </p:cNvCxnSpPr>
          <p:nvPr/>
        </p:nvCxnSpPr>
        <p:spPr>
          <a:xfrm>
            <a:off x="2090880" y="4134960"/>
            <a:ext cx="14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431" idx="3"/>
            <a:endCxn id="436" idx="1"/>
          </p:cNvCxnSpPr>
          <p:nvPr/>
        </p:nvCxnSpPr>
        <p:spPr>
          <a:xfrm>
            <a:off x="3147840" y="4134960"/>
            <a:ext cx="170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43" idx="0"/>
          </p:cNvCxnSpPr>
          <p:nvPr/>
        </p:nvCxnSpPr>
        <p:spPr>
          <a:xfrm flipV="1">
            <a:off x="1080720" y="68544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441" idx="0"/>
            <a:endCxn id="428" idx="2"/>
          </p:cNvCxnSpPr>
          <p:nvPr/>
        </p:nvCxnSpPr>
        <p:spPr>
          <a:xfrm flipV="1">
            <a:off x="2309400" y="685440"/>
            <a:ext cx="1080" cy="64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7751880" y="515880"/>
            <a:ext cx="1162080" cy="970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problem is fou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 in the PCB, do n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mpt to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&amp; send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your distribu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PI for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186372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3052800"/>
            <a:ext cx="914400" cy="6793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C voltages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asured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pect to EP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red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16" idx="3"/>
            <a:endCxn id="51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24360" y="52531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lay R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9680" y="61815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70960" y="354024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22920" y="3219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9680" y="5533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2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29400" y="58183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9680" y="6450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21480" y="4260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22920" y="27748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photo-triac I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2920" y="29973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21480" y="44845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92240" y="5199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on co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relay RL1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35480" y="6094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95560" y="5418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23" idx="1"/>
            <a:endCxn id="528" idx="1"/>
          </p:cNvCxnSpPr>
          <p:nvPr/>
        </p:nvCxnSpPr>
        <p:spPr>
          <a:xfrm flipH="1" flipV="1" rot="10800000">
            <a:off x="5718600" y="6279120"/>
            <a:ext cx="2520" cy="268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2"/>
            <a:endCxn id="523" idx="1"/>
          </p:cNvCxnSpPr>
          <p:nvPr/>
        </p:nvCxnSpPr>
        <p:spPr>
          <a:xfrm flipH="1" rot="16200000">
            <a:off x="3551040" y="4112280"/>
            <a:ext cx="216720" cy="412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7770960" y="5826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75640" y="554184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22" idx="1"/>
            <a:endCxn id="527" idx="1"/>
          </p:cNvCxnSpPr>
          <p:nvPr/>
        </p:nvCxnSpPr>
        <p:spPr>
          <a:xfrm flipH="1" flipV="1" rot="10800000">
            <a:off x="5724000" y="5351040"/>
            <a:ext cx="5760" cy="565920"/>
          </a:xfrm>
          <a:prstGeom prst="bentConnector3">
            <a:avLst>
              <a:gd name="adj1" fmla="val -48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3" idx="3"/>
            <a:endCxn id="526" idx="1"/>
          </p:cNvCxnSpPr>
          <p:nvPr/>
        </p:nvCxnSpPr>
        <p:spPr>
          <a:xfrm>
            <a:off x="2108160" y="5632200"/>
            <a:ext cx="3612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26" idx="3"/>
            <a:endCxn id="539" idx="1"/>
          </p:cNvCxnSpPr>
          <p:nvPr/>
        </p:nvCxnSpPr>
        <p:spPr>
          <a:xfrm>
            <a:off x="7472520" y="5632200"/>
            <a:ext cx="303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27" idx="3"/>
            <a:endCxn id="538" idx="1"/>
          </p:cNvCxnSpPr>
          <p:nvPr/>
        </p:nvCxnSpPr>
        <p:spPr>
          <a:xfrm>
            <a:off x="7481520" y="5916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2490840" y="16668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work du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9560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72240" y="1251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58880" y="308448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betw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3 &amp;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1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02120" y="3949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62200" y="3303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"/>
          <p:cNvCxnSpPr>
            <a:stCxn id="529" idx="1"/>
            <a:endCxn id="532" idx="1"/>
          </p:cNvCxnSpPr>
          <p:nvPr/>
        </p:nvCxnSpPr>
        <p:spPr>
          <a:xfrm flipH="1" flipV="1" rot="10800000">
            <a:off x="5721120" y="4336560"/>
            <a:ext cx="2160" cy="224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7" idx="2"/>
            <a:endCxn id="529" idx="1"/>
          </p:cNvCxnSpPr>
          <p:nvPr/>
        </p:nvCxnSpPr>
        <p:spPr>
          <a:xfrm flipH="1" rot="16200000">
            <a:off x="4199760" y="2815920"/>
            <a:ext cx="388080" cy="2655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5722920" y="38862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34416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22920" y="36640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73840" y="39546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4" idx="3"/>
            <a:endCxn id="524" idx="1"/>
          </p:cNvCxnSpPr>
          <p:nvPr/>
        </p:nvCxnSpPr>
        <p:spPr>
          <a:xfrm flipV="1">
            <a:off x="7475040" y="3692160"/>
            <a:ext cx="29628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5" idx="1"/>
          </p:cNvCxnSpPr>
          <p:nvPr/>
        </p:nvCxnSpPr>
        <p:spPr>
          <a:xfrm>
            <a:off x="7475040" y="3962160"/>
            <a:ext cx="299160" cy="8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30" idx="1"/>
            <a:endCxn id="531" idx="1"/>
          </p:cNvCxnSpPr>
          <p:nvPr/>
        </p:nvCxnSpPr>
        <p:spPr>
          <a:xfrm flipH="1" flipV="1" rot="10800000">
            <a:off x="5722560" y="28501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9" name=""/>
          <p:cNvCxnSpPr>
            <a:stCxn id="531" idx="1"/>
            <a:endCxn id="525" idx="1"/>
          </p:cNvCxnSpPr>
          <p:nvPr/>
        </p:nvCxnSpPr>
        <p:spPr>
          <a:xfrm flipH="1" flipV="1" rot="10800000">
            <a:off x="5722560" y="307296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0" name=""/>
          <p:cNvCxnSpPr>
            <a:stCxn id="525" idx="1"/>
            <a:endCxn id="553" idx="1"/>
          </p:cNvCxnSpPr>
          <p:nvPr/>
        </p:nvCxnSpPr>
        <p:spPr>
          <a:xfrm flipH="1" flipV="1" rot="10800000">
            <a:off x="5722560" y="32947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3" idx="1"/>
            <a:endCxn id="554" idx="1"/>
          </p:cNvCxnSpPr>
          <p:nvPr/>
        </p:nvCxnSpPr>
        <p:spPr>
          <a:xfrm flipH="1" flipV="1" rot="10800000">
            <a:off x="5722560" y="351684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4" idx="1"/>
            <a:endCxn id="552" idx="1"/>
          </p:cNvCxnSpPr>
          <p:nvPr/>
        </p:nvCxnSpPr>
        <p:spPr>
          <a:xfrm flipH="1" flipV="1" rot="10800000">
            <a:off x="5722560" y="373968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47" idx="3"/>
            <a:endCxn id="553" idx="1"/>
          </p:cNvCxnSpPr>
          <p:nvPr/>
        </p:nvCxnSpPr>
        <p:spPr>
          <a:xfrm>
            <a:off x="3575160" y="3517560"/>
            <a:ext cx="2148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>
            <a:off x="41990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422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0236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44" idx="2"/>
            <a:endCxn id="547" idx="0"/>
          </p:cNvCxnSpPr>
          <p:nvPr/>
        </p:nvCxnSpPr>
        <p:spPr>
          <a:xfrm rot="5400000">
            <a:off x="2128320" y="2143080"/>
            <a:ext cx="18802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17" idx="2"/>
            <a:endCxn id="533" idx="0"/>
          </p:cNvCxnSpPr>
          <p:nvPr/>
        </p:nvCxnSpPr>
        <p:spPr>
          <a:xfrm flipV="1" rot="10800000">
            <a:off x="1599480" y="1117080"/>
            <a:ext cx="1080" cy="4082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 rot="16200000">
            <a:off x="7889040" y="303480"/>
            <a:ext cx="522360" cy="76860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x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64" idx="3"/>
            <a:endCxn id="569" idx="0"/>
          </p:cNvCxnSpPr>
          <p:nvPr/>
        </p:nvCxnSpPr>
        <p:spPr>
          <a:xfrm>
            <a:off x="5214960" y="685440"/>
            <a:ext cx="25516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5705640" y="150336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10320" y="1784520"/>
            <a:ext cx="175248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 is block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disconn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21480" y="2166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72400" y="217476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71" idx="1"/>
            <a:endCxn id="573" idx="1"/>
          </p:cNvCxnSpPr>
          <p:nvPr/>
        </p:nvCxnSpPr>
        <p:spPr>
          <a:xfrm flipH="1" flipV="1" rot="10800000">
            <a:off x="5705280" y="1601280"/>
            <a:ext cx="16560" cy="664560"/>
          </a:xfrm>
          <a:prstGeom prst="bentConnector3">
            <a:avLst>
              <a:gd name="adj1" fmla="val -14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3" idx="3"/>
            <a:endCxn id="574" idx="1"/>
          </p:cNvCxnSpPr>
          <p:nvPr/>
        </p:nvCxnSpPr>
        <p:spPr>
          <a:xfrm>
            <a:off x="7473600" y="226512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7759800" y="13939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59800" y="176364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r or conn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>
            <a:stCxn id="571" idx="3"/>
            <a:endCxn id="577" idx="1"/>
          </p:cNvCxnSpPr>
          <p:nvPr/>
        </p:nvCxnSpPr>
        <p:spPr>
          <a:xfrm flipV="1">
            <a:off x="7458120" y="1545840"/>
            <a:ext cx="30240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0" name=""/>
          <p:cNvCxnSpPr>
            <a:stCxn id="572" idx="3"/>
            <a:endCxn id="578" idx="1"/>
          </p:cNvCxnSpPr>
          <p:nvPr/>
        </p:nvCxnSpPr>
        <p:spPr>
          <a:xfrm flipV="1">
            <a:off x="7462440" y="1915920"/>
            <a:ext cx="297720" cy="1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" name=""/>
          <p:cNvCxnSpPr>
            <a:stCxn id="564" idx="2"/>
            <a:endCxn id="572" idx="1"/>
          </p:cNvCxnSpPr>
          <p:nvPr/>
        </p:nvCxnSpPr>
        <p:spPr>
          <a:xfrm flipH="1" rot="16200000">
            <a:off x="4802400" y="1020240"/>
            <a:ext cx="810360" cy="100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44" idx="3"/>
            <a:endCxn id="564" idx="1"/>
          </p:cNvCxnSpPr>
          <p:nvPr/>
        </p:nvCxnSpPr>
        <p:spPr>
          <a:xfrm>
            <a:off x="3648240" y="685440"/>
            <a:ext cx="55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44" idx="1"/>
            <a:endCxn id="517" idx="3"/>
          </p:cNvCxnSpPr>
          <p:nvPr/>
        </p:nvCxnSpPr>
        <p:spPr>
          <a:xfrm flipH="1">
            <a:off x="2107440" y="685440"/>
            <a:ext cx="383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17" idx="1"/>
            <a:endCxn id="51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427680" y="300240"/>
            <a:ext cx="522360" cy="76824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494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work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26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382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49440" y="3048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VDC acro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ode 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92680" y="3913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3267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00600" y="55753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00600" y="58514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00600" y="6129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6, Q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00600" y="5875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fuel suppl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85000" y="522360"/>
            <a:ext cx="1143000" cy="326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el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00600" y="27957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zener diode ZD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00600" y="22096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 - R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0600" y="2502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4 - 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00600" y="30877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3 - D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00600" y="33814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gger diode 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00600" y="36752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hyristor Q2, Q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00600" y="4464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bridge D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00600" y="4741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00600" y="5019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00600" y="52974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0" idx="1"/>
            <a:endCxn id="601" idx="1"/>
          </p:cNvCxnSpPr>
          <p:nvPr/>
        </p:nvCxnSpPr>
        <p:spPr>
          <a:xfrm flipH="1" flipV="1" rot="10800000">
            <a:off x="5699520" y="230724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0" name=""/>
          <p:cNvCxnSpPr>
            <a:stCxn id="601" idx="1"/>
            <a:endCxn id="599" idx="1"/>
          </p:cNvCxnSpPr>
          <p:nvPr/>
        </p:nvCxnSpPr>
        <p:spPr>
          <a:xfrm flipH="1" flipV="1" rot="10800000">
            <a:off x="5699520" y="2599920"/>
            <a:ext cx="2520" cy="294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1" name=""/>
          <p:cNvCxnSpPr>
            <a:stCxn id="599" idx="1"/>
            <a:endCxn id="602" idx="1"/>
          </p:cNvCxnSpPr>
          <p:nvPr/>
        </p:nvCxnSpPr>
        <p:spPr>
          <a:xfrm flipH="1" flipV="1" rot="10800000">
            <a:off x="5699520" y="289296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602" idx="1"/>
            <a:endCxn id="604" idx="1"/>
          </p:cNvCxnSpPr>
          <p:nvPr/>
        </p:nvCxnSpPr>
        <p:spPr>
          <a:xfrm flipH="1" flipV="1" rot="10800000">
            <a:off x="5699520" y="3185640"/>
            <a:ext cx="2520" cy="588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3" name=""/>
          <p:cNvCxnSpPr>
            <a:stCxn id="591" idx="3"/>
            <a:endCxn id="603" idx="1"/>
          </p:cNvCxnSpPr>
          <p:nvPr/>
        </p:nvCxnSpPr>
        <p:spPr>
          <a:xfrm flipV="1">
            <a:off x="2565000" y="3479040"/>
            <a:ext cx="3135960" cy="2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4" name=""/>
          <p:cNvCxnSpPr>
            <a:stCxn id="605" idx="1"/>
            <a:endCxn id="606" idx="1"/>
          </p:cNvCxnSpPr>
          <p:nvPr/>
        </p:nvCxnSpPr>
        <p:spPr>
          <a:xfrm flipH="1" flipV="1" rot="10800000">
            <a:off x="5699520" y="45615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5" name=""/>
          <p:cNvCxnSpPr>
            <a:stCxn id="606" idx="1"/>
            <a:endCxn id="607" idx="1"/>
          </p:cNvCxnSpPr>
          <p:nvPr/>
        </p:nvCxnSpPr>
        <p:spPr>
          <a:xfrm flipH="1" flipV="1" rot="10800000">
            <a:off x="5699520" y="48402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607" idx="1"/>
            <a:endCxn id="608" idx="1"/>
          </p:cNvCxnSpPr>
          <p:nvPr/>
        </p:nvCxnSpPr>
        <p:spPr>
          <a:xfrm flipH="1" flipV="1" rot="10800000">
            <a:off x="5699520" y="511812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608" idx="1"/>
            <a:endCxn id="594" idx="1"/>
          </p:cNvCxnSpPr>
          <p:nvPr/>
        </p:nvCxnSpPr>
        <p:spPr>
          <a:xfrm flipH="1" flipV="1" rot="10800000">
            <a:off x="5699520" y="53949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594" idx="1"/>
            <a:endCxn id="595" idx="1"/>
          </p:cNvCxnSpPr>
          <p:nvPr/>
        </p:nvCxnSpPr>
        <p:spPr>
          <a:xfrm flipH="1" flipV="1" rot="10800000">
            <a:off x="5699520" y="5673240"/>
            <a:ext cx="2520" cy="277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595" idx="1"/>
            <a:endCxn id="596" idx="1"/>
          </p:cNvCxnSpPr>
          <p:nvPr/>
        </p:nvCxnSpPr>
        <p:spPr>
          <a:xfrm flipH="1" flipV="1" rot="10800000">
            <a:off x="5699520" y="59490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591" idx="2"/>
            <a:endCxn id="607" idx="1"/>
          </p:cNvCxnSpPr>
          <p:nvPr/>
        </p:nvCxnSpPr>
        <p:spPr>
          <a:xfrm flipH="1" rot="16200000">
            <a:off x="3276360" y="2693520"/>
            <a:ext cx="1205640" cy="364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587" idx="2"/>
            <a:endCxn id="588" idx="1"/>
          </p:cNvCxnSpPr>
          <p:nvPr/>
        </p:nvCxnSpPr>
        <p:spPr>
          <a:xfrm>
            <a:off x="1072800" y="685440"/>
            <a:ext cx="47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588" idx="3"/>
            <a:endCxn id="597" idx="1"/>
          </p:cNvCxnSpPr>
          <p:nvPr/>
        </p:nvCxnSpPr>
        <p:spPr>
          <a:xfrm>
            <a:off x="2565000" y="685440"/>
            <a:ext cx="31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597" idx="3"/>
            <a:endCxn id="598" idx="1"/>
          </p:cNvCxnSpPr>
          <p:nvPr/>
        </p:nvCxnSpPr>
        <p:spPr>
          <a:xfrm>
            <a:off x="7453080" y="685440"/>
            <a:ext cx="332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588" idx="2"/>
            <a:endCxn id="591" idx="0"/>
          </p:cNvCxnSpPr>
          <p:nvPr/>
        </p:nvCxnSpPr>
        <p:spPr>
          <a:xfrm>
            <a:off x="2057040" y="1117080"/>
            <a:ext cx="1080" cy="193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7:19:06Z</dcterms:created>
  <dc:creator>KPC</dc:creator>
  <dc:description/>
  <dc:language>en-US</dc:language>
  <cp:lastModifiedBy>KPC</cp:lastModifiedBy>
  <dcterms:modified xsi:type="dcterms:W3CDTF">2009-02-08T18:09:56Z</dcterms:modified>
  <cp:revision>245</cp:revision>
  <dc:subject>from Service Manual for 21, 22, 40, 41, 422, 441 </dc:subject>
  <dc:title>Monitor Heater Troubleshooting Flowcharts</dc:title>
</cp:coreProperties>
</file>