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522E-290E-40BB-A516-A0B30B79C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E5B9-6CCE-4CDA-88D2-339502888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5350-35AD-4037-913C-66DF11CC4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65DA-835E-4BBA-B879-5711206FB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D71A-7EFD-4561-8EBC-46D661877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0F20-DB2F-4C9D-95DF-C6D930DE4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E974-9AAF-4850-B6B7-21CB75579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7C5F-7C6A-4635-A4B6-4A50DA0AE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F0AA-63DE-45F3-B162-8184E1D18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2673-8903-48FB-9B31-9A7C6312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0B97-ADE5-4F79-8C32-C3F5AC0E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D26F-993C-4B5F-81CB-F18508A9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27F59-3DC1-41C7-A62D-1E3ADA759E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0676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676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13:26:36Z</dcterms:created>
  <dc:creator>KPC</dc:creator>
  <dc:description/>
  <dc:language>en-US</dc:language>
  <cp:lastModifiedBy>KPC</cp:lastModifiedBy>
  <dcterms:modified xsi:type="dcterms:W3CDTF">2009-02-18T13:33:07Z</dcterms:modified>
  <cp:revision>1</cp:revision>
  <dc:subject/>
  <dc:title>PowerPoint Presentation</dc:title>
</cp:coreProperties>
</file>